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A5F-402E-4D3B-BC72-2AE006FD533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8EE-E63C-40A7-8477-DD757E01897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76D-C869-4851-A0F4-59FAB4FDD69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73E-9407-4320-95D7-932E2A4E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A16-17FA-4B65-8032-62E66F7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390-C522-4122-9379-99295622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7CF-99FF-44C1-92B0-1432F841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816-1C1B-434E-82B1-29392E3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89-A7AB-48B5-B4EC-A065A32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69F-BBB2-4B35-8AED-5FC9F8DD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4B2-EFB7-40F1-9F08-33EA001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C30-A781-4521-B90E-FD32BD8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C3E-EE86-4A9F-9E74-B25EDCA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EE0-C66F-474C-8FC2-3BBC386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83B-A2BE-4DF4-A658-BC349CD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229-8A2A-4796-97EA-CD30E9B3D9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PH02763J"/>
          <p:cNvPicPr/>
          <p:nvPr/>
        </p:nvPicPr>
        <p:blipFill>
          <a:blip r:embed="rId1"/>
          <a:stretch/>
        </p:blipFill>
        <p:spPr>
          <a:xfrm>
            <a:off x="324000" y="115920"/>
            <a:ext cx="2592360" cy="200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H02803J"/>
          <p:cNvPicPr/>
          <p:nvPr/>
        </p:nvPicPr>
        <p:blipFill>
          <a:blip r:embed="rId2"/>
          <a:srcRect l="8183" t="12037" r="15568" b="10423"/>
          <a:stretch/>
        </p:blipFill>
        <p:spPr>
          <a:xfrm>
            <a:off x="3419640" y="69840"/>
            <a:ext cx="2606400" cy="20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30479"/>
          <p:cNvPicPr/>
          <p:nvPr/>
        </p:nvPicPr>
        <p:blipFill>
          <a:blip r:embed="rId3"/>
          <a:srcRect l="0" t="8677" r="0" b="6366"/>
          <a:stretch/>
        </p:blipFill>
        <p:spPr>
          <a:xfrm>
            <a:off x="6480000" y="69840"/>
            <a:ext cx="2413080" cy="20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NG-plums-3_sql[1]"/>
          <p:cNvPicPr/>
          <p:nvPr/>
        </p:nvPicPr>
        <p:blipFill>
          <a:blip r:embed="rId4"/>
          <a:srcRect l="0" t="1798" r="0" b="13514"/>
          <a:stretch/>
        </p:blipFill>
        <p:spPr>
          <a:xfrm>
            <a:off x="6480000" y="4657680"/>
            <a:ext cx="2432160" cy="20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pears[1]"/>
          <p:cNvPicPr/>
          <p:nvPr/>
        </p:nvPicPr>
        <p:blipFill>
          <a:blip r:embed="rId5"/>
          <a:srcRect l="1483" t="1759" r="2573" b="2894"/>
          <a:stretch/>
        </p:blipFill>
        <p:spPr>
          <a:xfrm>
            <a:off x="3394080" y="4684680"/>
            <a:ext cx="2735280" cy="173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oranges[1]"/>
          <p:cNvPicPr/>
          <p:nvPr/>
        </p:nvPicPr>
        <p:blipFill>
          <a:blip r:embed="rId6"/>
          <a:srcRect l="0" t="0" r="0" b="5709"/>
          <a:stretch/>
        </p:blipFill>
        <p:spPr>
          <a:xfrm>
            <a:off x="484200" y="4684680"/>
            <a:ext cx="2395440" cy="220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79280" y="211284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pl</a:t>
            </a:r>
            <a:r>
              <a:rPr b="1" lang="en-GB" sz="4400" spc="-1" strike="noStrike" u="sng">
                <a:solidFill>
                  <a:srgbClr val="00ccff"/>
                </a:solidFill>
                <a:uFillTx/>
                <a:latin typeface="Comic Sans MS"/>
              </a:rPr>
              <a:t>á</a:t>
            </a: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t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201840" y="211284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man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n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154560" y="2112840"/>
            <a:ext cx="29530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fres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8108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naran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20364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per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15636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ci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rue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08000" y="2128680"/>
            <a:ext cx="29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ud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í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01840" y="2128680"/>
            <a:ext cx="29527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 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ana</a:t>
            </a:r>
            <a:r>
              <a:rPr b="1" lang="en-GB" sz="4400" spc="-1" strike="noStrike" u="sng">
                <a:solidFill>
                  <a:srgbClr val="ff6dff"/>
                </a:solidFill>
                <a:uFillTx/>
                <a:latin typeface="Comic Sans MS"/>
              </a:rPr>
              <a:t>h</a:t>
            </a: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or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654960" y="2128680"/>
            <a:ext cx="253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tom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18108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el</a:t>
            </a:r>
            <a:br>
              <a:rPr sz="4400"/>
            </a:b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be</a:t>
            </a:r>
            <a:r>
              <a:rPr b="1" lang="en-GB" sz="4400" spc="-1" strike="noStrike" u="sng">
                <a:solidFill>
                  <a:srgbClr val="00ccff"/>
                </a:solidFill>
                <a:uFillTx/>
                <a:latin typeface="Comic Sans MS"/>
              </a:rPr>
              <a:t>rr</a:t>
            </a: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320364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ff"/>
                </a:solidFill>
                <a:latin typeface="Comic Sans MS"/>
              </a:rPr>
              <a:t>los pepi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6156360" y="3429000"/>
            <a:ext cx="29527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as</a:t>
            </a:r>
            <a:br>
              <a:rPr sz="4400"/>
            </a:br>
            <a:r>
              <a:rPr b="0" lang="en-GB" sz="4400" spc="-1" strike="noStrike">
                <a:solidFill>
                  <a:srgbClr val="ff6dff"/>
                </a:solidFill>
                <a:latin typeface="Comic Sans MS"/>
              </a:rPr>
              <a:t>lechug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3" descr="PH03396I"/>
          <p:cNvPicPr/>
          <p:nvPr/>
        </p:nvPicPr>
        <p:blipFill>
          <a:blip r:embed="rId1"/>
          <a:srcRect l="12500" t="9940" r="14311" b="0"/>
          <a:stretch/>
        </p:blipFill>
        <p:spPr>
          <a:xfrm>
            <a:off x="6804000" y="44280"/>
            <a:ext cx="2232000" cy="18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G%20-%20Green%20Beans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108000" y="4428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5"/>
          <p:cNvGrpSpPr/>
          <p:nvPr/>
        </p:nvGrpSpPr>
        <p:grpSpPr>
          <a:xfrm>
            <a:off x="6383160" y="4653000"/>
            <a:ext cx="2665440" cy="2195640"/>
            <a:chOff x="6383160" y="4653000"/>
            <a:chExt cx="2665440" cy="2195640"/>
          </a:xfrm>
        </p:grpSpPr>
        <p:pic>
          <p:nvPicPr>
            <p:cNvPr id="71" name="Picture 6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3"/>
            <a:stretch/>
          </p:blipFill>
          <p:spPr>
            <a:xfrm>
              <a:off x="7032600" y="573408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4"/>
            <a:stretch/>
          </p:blipFill>
          <p:spPr>
            <a:xfrm>
              <a:off x="6383160" y="465300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5"/>
            <a:stretch/>
          </p:blipFill>
          <p:spPr>
            <a:xfrm>
              <a:off x="7680240" y="465300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9" descr="cucumber[1]"/>
          <p:cNvPicPr/>
          <p:nvPr/>
        </p:nvPicPr>
        <p:blipFill>
          <a:blip r:embed="rId6"/>
          <a:stretch/>
        </p:blipFill>
        <p:spPr>
          <a:xfrm>
            <a:off x="3708360" y="46371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mustard-cress-lrg[1]"/>
          <p:cNvPicPr/>
          <p:nvPr/>
        </p:nvPicPr>
        <p:blipFill>
          <a:blip r:embed="rId7"/>
          <a:stretch/>
        </p:blipFill>
        <p:spPr>
          <a:xfrm>
            <a:off x="257040" y="467028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PH02772J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3382920" y="44280"/>
            <a:ext cx="30258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6-03T06:56:41Z</dcterms:modified>
  <cp:revision>190</cp:revision>
  <dc:subject/>
  <dc:title>TITLE</dc:title>
</cp:coreProperties>
</file>