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3FE6-A723-4E70-8264-4D648A7A47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A2A6-C32F-4124-9392-F3BB383E1F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D3DF-1CC0-4751-89A4-78772B8FEC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5663-6635-459F-BC9C-643845CF47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BEA-A4AC-4A8C-9495-7E2FFFAE85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4A54-F294-4053-B511-372ED6B283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222B-158E-491B-853C-4DD187AD54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7CF0-6F03-4F2D-996F-58B90D86A7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F32-2C44-465E-B2A9-6F88200D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A36-C1ED-4951-A4E3-EAC88DC5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CAD-61A0-4D26-A274-E9E59703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CF8-2BE4-4DD1-921F-2206E2DD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DCEA-3467-47BE-9EF1-91575C19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A4C8-8CAD-4C25-9176-A2D79DF8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AF30-0C67-4ADD-ACC3-6AEFF3CB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B66E-EEFA-4C13-9128-B621940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BEB0-8EBF-4FCB-A867-500AB3C5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9173-1E7D-4139-ACB4-BBC8F92F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AEE1-3BBC-4B6C-BB2F-E452923F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559-DB91-408B-A3B4-6D232AF5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FB1E-93E0-4D70-9402-65FBAE4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095C-AEEB-4F21-98F4-3DA9A34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744A-D652-444A-B7AB-7847041E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DDC9-C0D4-43BC-9211-D2DC92AB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D07C-A182-48A0-8684-F06A5992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BB25-63A9-427C-BE05-E90AF890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5156D-92F0-4403-9F36-B100AC00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4D61-B567-4A23-8C84-B688550A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D98D-C41C-4517-B4C9-3DB21193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0E01-922D-42C0-8BFE-57E953C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E68-36E5-47DB-9674-B840EDA9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471A-4FB3-4D29-9CDC-5CED96E1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9205-EE82-4421-94C4-3AF0F508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0069-C71A-45CB-B4F2-0CF6277C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64BF-CCE6-485A-A1FA-65ACE27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4504-670C-48D1-848A-1BD68A50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550B-83DB-4FA6-8115-97A332C7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E2BB-D7E5-4ED9-8D9F-657401F9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03F-2493-4874-B71E-07637608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0C6-E267-47B4-AC60-7873869E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53B-7D89-42E2-B16E-8A69EABE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AAA-8798-4026-BF03-3444C102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341-C4A2-4B53-A1C2-CCEB63D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065-1659-4DE4-B4EB-3A94791A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FA92-6F40-4338-A2F5-8C6A0266EF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392D-2B19-4364-B5DC-AEB457125D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D663-2D9D-4312-9F58-41796D1B30D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13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9.jpeg"/><Relationship Id="rId6" Type="http://schemas.openxmlformats.org/officeDocument/2006/relationships/image" Target="../media/image17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4" descr="biblioteca"/>
          <p:cNvPicPr/>
          <p:nvPr/>
        </p:nvPicPr>
        <p:blipFill>
          <a:blip r:embed="rId1"/>
          <a:stretch/>
        </p:blipFill>
        <p:spPr>
          <a:xfrm>
            <a:off x="328680" y="673200"/>
            <a:ext cx="2298600" cy="17287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3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4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35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6" name="Picture 8" descr="río"/>
          <p:cNvPicPr/>
          <p:nvPr/>
        </p:nvPicPr>
        <p:blipFill>
          <a:blip r:embed="rId5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37" name="Picture 9" descr="plaza"/>
          <p:cNvPicPr/>
          <p:nvPr/>
        </p:nvPicPr>
        <p:blipFill>
          <a:blip r:embed="rId6"/>
          <a:stretch/>
        </p:blipFill>
        <p:spPr>
          <a:xfrm>
            <a:off x="1979640" y="4437000"/>
            <a:ext cx="273672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38" name="Text Box 10"/>
          <p:cNvSpPr/>
          <p:nvPr/>
        </p:nvSpPr>
        <p:spPr>
          <a:xfrm>
            <a:off x="4716360" y="8208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bibliotec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9" name="Group 2"/>
          <p:cNvGrpSpPr/>
          <p:nvPr/>
        </p:nvGrpSpPr>
        <p:grpSpPr>
          <a:xfrm>
            <a:off x="3011400" y="552600"/>
            <a:ext cx="1241640" cy="2012760"/>
            <a:chOff x="3011400" y="552600"/>
            <a:chExt cx="1241640" cy="2012760"/>
          </a:xfrm>
        </p:grpSpPr>
        <p:sp>
          <p:nvSpPr>
            <p:cNvPr id="140" name="Rectangle 1"/>
            <p:cNvSpPr/>
            <p:nvPr/>
          </p:nvSpPr>
          <p:spPr>
            <a:xfrm>
              <a:off x="3011400" y="552600"/>
              <a:ext cx="1198440" cy="2012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1" name="Group 10" descr=""/>
            <p:cNvPicPr/>
            <p:nvPr/>
          </p:nvPicPr>
          <p:blipFill>
            <a:blip r:embed="rId7"/>
            <a:stretch/>
          </p:blipFill>
          <p:spPr>
            <a:xfrm>
              <a:off x="3011400" y="670680"/>
              <a:ext cx="1241640" cy="188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ight Arrow 14"/>
          <p:cNvSpPr/>
          <p:nvPr/>
        </p:nvSpPr>
        <p:spPr>
          <a:xfrm rot="7762200">
            <a:off x="3429720" y="383760"/>
            <a:ext cx="590760" cy="3366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4" descr="biblioteca"/>
          <p:cNvPicPr/>
          <p:nvPr/>
        </p:nvPicPr>
        <p:blipFill>
          <a:blip r:embed="rId1"/>
          <a:stretch/>
        </p:blipFill>
        <p:spPr>
          <a:xfrm>
            <a:off x="227160" y="476280"/>
            <a:ext cx="2395440" cy="18003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6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7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8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9" name="Picture 8" descr="río"/>
          <p:cNvPicPr/>
          <p:nvPr/>
        </p:nvPicPr>
        <p:blipFill>
          <a:blip r:embed="rId5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0" name="Picture 9" descr="plaza"/>
          <p:cNvPicPr/>
          <p:nvPr/>
        </p:nvPicPr>
        <p:blipFill>
          <a:blip r:embed="rId6"/>
          <a:stretch/>
        </p:blipFill>
        <p:spPr>
          <a:xfrm>
            <a:off x="1979640" y="4437000"/>
            <a:ext cx="273672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Text Box 10"/>
          <p:cNvSpPr/>
          <p:nvPr/>
        </p:nvSpPr>
        <p:spPr>
          <a:xfrm>
            <a:off x="478800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biblioteca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3011400" y="552600"/>
            <a:ext cx="1241640" cy="2012760"/>
            <a:chOff x="3011400" y="552600"/>
            <a:chExt cx="1241640" cy="2012760"/>
          </a:xfrm>
        </p:grpSpPr>
        <p:sp>
          <p:nvSpPr>
            <p:cNvPr id="153" name="Rectangle 11"/>
            <p:cNvSpPr/>
            <p:nvPr/>
          </p:nvSpPr>
          <p:spPr>
            <a:xfrm>
              <a:off x="3011400" y="552600"/>
              <a:ext cx="1198440" cy="2012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4" name="Group 12" descr=""/>
            <p:cNvPicPr/>
            <p:nvPr/>
          </p:nvPicPr>
          <p:blipFill>
            <a:blip r:embed="rId7"/>
            <a:stretch/>
          </p:blipFill>
          <p:spPr>
            <a:xfrm>
              <a:off x="3011400" y="670680"/>
              <a:ext cx="1241640" cy="188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Right Arrow 16"/>
          <p:cNvSpPr/>
          <p:nvPr/>
        </p:nvSpPr>
        <p:spPr>
          <a:xfrm rot="7762200">
            <a:off x="4006080" y="719640"/>
            <a:ext cx="590400" cy="33480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biblioteca"/>
          <p:cNvPicPr/>
          <p:nvPr/>
        </p:nvPicPr>
        <p:blipFill>
          <a:blip r:embed="rId1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9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0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1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2" name="Picture 8" descr="río"/>
          <p:cNvPicPr/>
          <p:nvPr/>
        </p:nvPicPr>
        <p:blipFill>
          <a:blip r:embed="rId5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3" name="Picture 9" descr="plaza"/>
          <p:cNvPicPr/>
          <p:nvPr/>
        </p:nvPicPr>
        <p:blipFill>
          <a:blip r:embed="rId6"/>
          <a:stretch/>
        </p:blipFill>
        <p:spPr>
          <a:xfrm>
            <a:off x="324000" y="333360"/>
            <a:ext cx="2585880" cy="194328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64" name="Text Box 10"/>
          <p:cNvSpPr/>
          <p:nvPr/>
        </p:nvSpPr>
        <p:spPr>
          <a:xfrm>
            <a:off x="496728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plaz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3279600" y="333360"/>
            <a:ext cx="1241640" cy="2013120"/>
            <a:chOff x="3279600" y="333360"/>
            <a:chExt cx="1241640" cy="2013120"/>
          </a:xfrm>
        </p:grpSpPr>
        <p:sp>
          <p:nvSpPr>
            <p:cNvPr id="166" name="Rectangle 11"/>
            <p:cNvSpPr/>
            <p:nvPr/>
          </p:nvSpPr>
          <p:spPr>
            <a:xfrm>
              <a:off x="3279600" y="333360"/>
              <a:ext cx="1198440" cy="20131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7" name="Group 12" descr=""/>
            <p:cNvPicPr/>
            <p:nvPr/>
          </p:nvPicPr>
          <p:blipFill>
            <a:blip r:embed="rId7"/>
            <a:stretch/>
          </p:blipFill>
          <p:spPr>
            <a:xfrm>
              <a:off x="3279600" y="451080"/>
              <a:ext cx="1241640" cy="188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ight Arrow 16"/>
          <p:cNvSpPr/>
          <p:nvPr/>
        </p:nvSpPr>
        <p:spPr>
          <a:xfrm rot="7762200">
            <a:off x="3699720" y="165600"/>
            <a:ext cx="590400" cy="33480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biblioteca"/>
          <p:cNvPicPr/>
          <p:nvPr/>
        </p:nvPicPr>
        <p:blipFill>
          <a:blip r:embed="rId1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2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3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74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5" name="Picture 8" descr="río"/>
          <p:cNvPicPr/>
          <p:nvPr/>
        </p:nvPicPr>
        <p:blipFill>
          <a:blip r:embed="rId5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76" name="Picture 9" descr="plaza"/>
          <p:cNvPicPr/>
          <p:nvPr/>
        </p:nvPicPr>
        <p:blipFill>
          <a:blip r:embed="rId6"/>
          <a:stretch/>
        </p:blipFill>
        <p:spPr>
          <a:xfrm>
            <a:off x="392040" y="333360"/>
            <a:ext cx="2586240" cy="194328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77" name="Text Box 10"/>
          <p:cNvSpPr/>
          <p:nvPr/>
        </p:nvSpPr>
        <p:spPr>
          <a:xfrm>
            <a:off x="579600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plaza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632040" y="333360"/>
            <a:ext cx="1241640" cy="2011320"/>
            <a:chOff x="3632040" y="333360"/>
            <a:chExt cx="1241640" cy="2011320"/>
          </a:xfrm>
        </p:grpSpPr>
        <p:sp>
          <p:nvSpPr>
            <p:cNvPr id="179" name="Rectangle 11"/>
            <p:cNvSpPr/>
            <p:nvPr/>
          </p:nvSpPr>
          <p:spPr>
            <a:xfrm>
              <a:off x="3632040" y="333360"/>
              <a:ext cx="1197720" cy="20113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0" name="Group 12" descr=""/>
            <p:cNvPicPr/>
            <p:nvPr/>
          </p:nvPicPr>
          <p:blipFill>
            <a:blip r:embed="rId7"/>
            <a:stretch/>
          </p:blipFill>
          <p:spPr>
            <a:xfrm>
              <a:off x="3632760" y="451080"/>
              <a:ext cx="1240920" cy="18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ight Arrow 16"/>
          <p:cNvSpPr/>
          <p:nvPr/>
        </p:nvSpPr>
        <p:spPr>
          <a:xfrm rot="7762200">
            <a:off x="4575960" y="500040"/>
            <a:ext cx="592200" cy="3351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4" descr="biblioteca"/>
          <p:cNvPicPr/>
          <p:nvPr/>
        </p:nvPicPr>
        <p:blipFill>
          <a:blip r:embed="rId1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5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6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7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8" name="Picture 8" descr="río"/>
          <p:cNvPicPr/>
          <p:nvPr/>
        </p:nvPicPr>
        <p:blipFill>
          <a:blip r:embed="rId5"/>
          <a:stretch/>
        </p:blipFill>
        <p:spPr>
          <a:xfrm>
            <a:off x="284040" y="549360"/>
            <a:ext cx="2527560" cy="13669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9" name="Picture 9" descr="plaza"/>
          <p:cNvPicPr/>
          <p:nvPr/>
        </p:nvPicPr>
        <p:blipFill>
          <a:blip r:embed="rId6"/>
          <a:stretch/>
        </p:blipFill>
        <p:spPr>
          <a:xfrm>
            <a:off x="1547640" y="4365720"/>
            <a:ext cx="2378160" cy="178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90" name="Text Box 10"/>
          <p:cNvSpPr/>
          <p:nvPr/>
        </p:nvSpPr>
        <p:spPr>
          <a:xfrm>
            <a:off x="496728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río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10"/>
          <p:cNvGrpSpPr/>
          <p:nvPr/>
        </p:nvGrpSpPr>
        <p:grpSpPr>
          <a:xfrm>
            <a:off x="3305160" y="447840"/>
            <a:ext cx="1241280" cy="2012760"/>
            <a:chOff x="3305160" y="447840"/>
            <a:chExt cx="1241280" cy="2012760"/>
          </a:xfrm>
        </p:grpSpPr>
        <p:sp>
          <p:nvSpPr>
            <p:cNvPr id="192" name="Rectangle 11"/>
            <p:cNvSpPr/>
            <p:nvPr/>
          </p:nvSpPr>
          <p:spPr>
            <a:xfrm>
              <a:off x="3306240" y="447840"/>
              <a:ext cx="1192680" cy="2012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3" name="Group 12" descr=""/>
            <p:cNvPicPr/>
            <p:nvPr/>
          </p:nvPicPr>
          <p:blipFill>
            <a:blip r:embed="rId7"/>
            <a:stretch/>
          </p:blipFill>
          <p:spPr>
            <a:xfrm>
              <a:off x="3305160" y="567000"/>
              <a:ext cx="1241280" cy="187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Right Arrow 16"/>
          <p:cNvSpPr/>
          <p:nvPr/>
        </p:nvSpPr>
        <p:spPr>
          <a:xfrm rot="7762200">
            <a:off x="3696120" y="167400"/>
            <a:ext cx="590760" cy="33480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biblioteca"/>
          <p:cNvPicPr/>
          <p:nvPr/>
        </p:nvPicPr>
        <p:blipFill>
          <a:blip r:embed="rId1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98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99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200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201" name="Picture 8" descr="río"/>
          <p:cNvPicPr/>
          <p:nvPr/>
        </p:nvPicPr>
        <p:blipFill>
          <a:blip r:embed="rId5"/>
          <a:stretch/>
        </p:blipFill>
        <p:spPr>
          <a:xfrm>
            <a:off x="344520" y="554040"/>
            <a:ext cx="2392200" cy="12952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202" name="Picture 9" descr="plaza"/>
          <p:cNvPicPr/>
          <p:nvPr/>
        </p:nvPicPr>
        <p:blipFill>
          <a:blip r:embed="rId6"/>
          <a:stretch/>
        </p:blipFill>
        <p:spPr>
          <a:xfrm>
            <a:off x="1547640" y="4365720"/>
            <a:ext cx="2378160" cy="178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203" name="Text Box 10"/>
          <p:cNvSpPr/>
          <p:nvPr/>
        </p:nvSpPr>
        <p:spPr>
          <a:xfrm>
            <a:off x="4572000" y="692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río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Group 10"/>
          <p:cNvGrpSpPr/>
          <p:nvPr/>
        </p:nvGrpSpPr>
        <p:grpSpPr>
          <a:xfrm>
            <a:off x="3011400" y="328680"/>
            <a:ext cx="1241640" cy="2012760"/>
            <a:chOff x="3011400" y="328680"/>
            <a:chExt cx="1241640" cy="2012760"/>
          </a:xfrm>
        </p:grpSpPr>
        <p:sp>
          <p:nvSpPr>
            <p:cNvPr id="205" name="Rectangle 11"/>
            <p:cNvSpPr/>
            <p:nvPr/>
          </p:nvSpPr>
          <p:spPr>
            <a:xfrm>
              <a:off x="3011400" y="328680"/>
              <a:ext cx="1198440" cy="2012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6" name="Group 12" descr=""/>
            <p:cNvPicPr/>
            <p:nvPr/>
          </p:nvPicPr>
          <p:blipFill>
            <a:blip r:embed="rId7"/>
            <a:stretch/>
          </p:blipFill>
          <p:spPr>
            <a:xfrm>
              <a:off x="3011400" y="451080"/>
              <a:ext cx="1241640" cy="187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ight Arrow 16"/>
          <p:cNvSpPr/>
          <p:nvPr/>
        </p:nvSpPr>
        <p:spPr>
          <a:xfrm rot="7762200">
            <a:off x="3959640" y="469080"/>
            <a:ext cx="590760" cy="33480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179280" y="787320"/>
            <a:ext cx="8713800" cy="54565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un río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un correos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un colegio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omic Sans MS"/>
              </a:rPr>
              <a:t>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una plaza</a:t>
            </a: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omic Sans MS"/>
              </a:rPr>
              <a:t>pequeño / pequeña</a:t>
            </a:r>
            <a:br>
              <a:rPr sz="4400"/>
            </a:b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una iglesia</a:t>
            </a:r>
            <a:br>
              <a:rPr sz="4400"/>
            </a:b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una bibliote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43:49Z</dcterms:modified>
  <cp:revision>252</cp:revision>
  <dc:subject/>
  <dc:title>TITLE</dc:title>
</cp:coreProperties>
</file>