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7927D-ED6C-4B1C-8381-B3AF14061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0D6E5-A945-4DA2-AE6A-9C9E81469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033E2-FC8B-48FD-BBC3-72FCA1AACC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69106-A931-4B84-B9D9-6054B00F1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DCE40-6EF1-4536-A792-12C23E56D7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23DCC-C0B6-4EBC-AD75-11BF9A340D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9FD5C-F81D-44DA-B68B-14BDA9AC9C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EA7BC-65B4-42D2-B06E-60F6CF34F6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B7267-1D66-460F-9896-230C34FF76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A9178-DC63-4124-B604-EC688DC0D5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AB522-4BC8-4022-87A9-B1D188B819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25F27-27A2-4150-B025-232F4BF40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C78A9-8771-43FC-BAB7-AB5C4D23F6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B31CA-8F9F-4FEA-AE3B-C18DCAFAC4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B83A0-5D76-49FC-A230-4158AF80DC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A02D9-BACA-44BC-BA91-53A2D4B0C4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39341-E6DB-4FA8-B78B-60450E4805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33788-0FB4-4E76-8C65-A1FE2A0C2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7023B-9580-4B0D-B83A-07CE52D12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7EA9-2A19-47D1-B64B-18F7AB0C4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C6723-F063-488B-A2EE-C68CC704F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02232-823A-4780-BCFF-701EEAD69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D16A-5A3E-4107-93C8-7AF51D75F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B33ED-1E17-4335-A396-442059D0E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89CB-2A60-4AA8-86CD-91B0430C2EC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6FE5-615B-4223-9A79-1535E777091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¡ hola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78800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classpoplogo-01-02.png"/>
          <p:cNvPicPr/>
          <p:nvPr/>
        </p:nvPicPr>
        <p:blipFill>
          <a:blip r:embed="rId6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1619280" y="328464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odby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1619280" y="515952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od mo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14"/>
          <p:cNvSpPr/>
          <p:nvPr/>
        </p:nvSpPr>
        <p:spPr>
          <a:xfrm>
            <a:off x="6012000" y="320688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y name 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6012000" y="504180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adió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78800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" descr="classpoplogo-01-02.png"/>
          <p:cNvPicPr/>
          <p:nvPr/>
        </p:nvPicPr>
        <p:blipFill>
          <a:blip r:embed="rId6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619280" y="328464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odby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1619280" y="515952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od mo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6012000" y="320688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y name 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6012000" y="504180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me llam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78800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" descr="classpoplogo-01-02.png"/>
          <p:cNvPicPr/>
          <p:nvPr/>
        </p:nvPicPr>
        <p:blipFill>
          <a:blip r:embed="rId5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1619280" y="328464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odby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1619280" y="515952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od mo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Box 14"/>
          <p:cNvSpPr/>
          <p:nvPr/>
        </p:nvSpPr>
        <p:spPr>
          <a:xfrm>
            <a:off x="6012000" y="320688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y name 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Box 15"/>
          <p:cNvSpPr/>
          <p:nvPr/>
        </p:nvSpPr>
        <p:spPr>
          <a:xfrm>
            <a:off x="6012000" y="504180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buenos dí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78800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" descr="classpoplogo-01-02.png"/>
          <p:cNvPicPr/>
          <p:nvPr/>
        </p:nvPicPr>
        <p:blipFill>
          <a:blip r:embed="rId5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1619280" y="328464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odby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1619280" y="515952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od mo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6012000" y="320688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y name 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Box 15"/>
          <p:cNvSpPr/>
          <p:nvPr/>
        </p:nvSpPr>
        <p:spPr>
          <a:xfrm>
            <a:off x="6012000" y="504180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5-11-01T19:34:52Z</dcterms:modified>
  <cp:revision>75</cp:revision>
  <dc:subject/>
  <dc:title>TITLE</dc:title>
</cp:coreProperties>
</file>