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5A3D-83E5-47A5-AFCD-9B302E36F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758D-D87C-4CA3-AC3F-C94729F3D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28C1-F371-4C16-B43D-61E4A24B0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B492-6073-41D3-A29E-D2380E07C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F5E9-04FD-4E05-8114-1A53BDF634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F290-1247-4C27-BD57-978C308086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44B1-ECDC-4CD4-9E7A-6DB1835BC4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6785-DD6D-498D-8AD3-A9C671DB37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DB9D-0546-45AD-B8EA-0C055B7CE9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265A-268C-4ACE-A9B7-6D5D89299A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9CB5-081C-40D6-AE4E-B223CA4121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34E1-6663-40BB-972F-91C163F4B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482C-BEDC-4DE9-929A-CBC48BEF12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AC4B-EECD-4B7E-914B-8B25F3FE32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F419-1984-460C-AC71-D9BD34D433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F79B-C72B-476F-8EFD-DA625E2129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5ABF-399D-4240-B96B-E0F6D131DD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B2A3-EDAD-4A46-BA30-049B9F562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2A4B-DEA5-4A2A-B2A2-6CFFFF4C1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AEBF-CE92-4A6D-96A6-ACBF186A4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28F7-7243-407E-9231-0ECE48EB4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5369-5ACE-492E-B441-BBB4EACFE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5D02-C276-4848-BCCD-CADA4A600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0BEC-691C-4634-B314-AF7E19D0F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37E9-F120-4534-9A0A-FBC6086BF11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676C-71FE-4695-A8A6-53C29C5DBCA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¡ ho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by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1619280" y="515952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 mo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y name 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adió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classpoplogo-01-02.png"/>
          <p:cNvPicPr/>
          <p:nvPr/>
        </p:nvPicPr>
        <p:blipFill>
          <a:blip r:embed="rId6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by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1619280" y="515952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 mo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y name 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me lla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by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619280" y="515952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 mo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y name 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buenos dí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by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1619280" y="515952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od mo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6012000" y="3206880"/>
            <a:ext cx="29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y name 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11-01T19:34:52Z</dcterms:modified>
  <cp:revision>75</cp:revision>
  <dc:subject/>
  <dc:title>TITLE</dc:title>
</cp:coreProperties>
</file>