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FFB4-FEE7-4510-A9D6-111FED6639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AA2E-D9DA-4C97-A48C-CCE790B3278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1B1-B619-405A-B8C8-7597811B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207-8076-4BDE-B4EE-B7A632A1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C99-60BE-4F40-87FA-ADFC8DF5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F63-1880-4E5C-9718-9C63C1B4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0D8-5B61-4FBD-AF55-03CE43D1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2CC-EB82-4926-93A2-4DB2CFFE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A85-2053-4FDE-A5FE-BF4FB411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9F8-C07A-4BFA-BF1E-1CC889AC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BB6-2369-408B-80FF-AF6B92A4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E9B-1713-4B98-A57F-98F2627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584-F2FB-490F-AECA-16D90BB2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40F-F4B0-471F-8301-C9AA234E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5C9D-C5B8-457C-8313-34DDE21C85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80880"/>
            <a:ext cx="9144000" cy="549612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rcRect l="0" t="0" r="0" b="9838"/>
          <a:stretch/>
        </p:blipFill>
        <p:spPr>
          <a:xfrm>
            <a:off x="0" y="380880"/>
            <a:ext cx="914400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01:33Z</dcterms:modified>
  <cp:revision>132</cp:revision>
  <dc:subject/>
  <dc:title>TITLE</dc:title>
</cp:coreProperties>
</file>