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277F-7003-4335-8C1F-8E7CC495CF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E78C-3FFA-4A1D-ACF0-568094242B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DAF-703A-4D17-B684-63899287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12E-B411-4842-A849-7FDB1BF8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5DC-4842-4027-81D3-796626C3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C6B-B28D-42F5-8284-091C5DBF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C62-51F4-4364-A9DB-323ACEA9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E13-D04C-4A39-9BC4-BD4F96B7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475-78DD-4ECD-BBB0-58C40219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CBE-855B-4F3A-BF6D-333A1FC9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95A-4247-4655-BE5E-107831C2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BC6-D807-49C7-B3EC-1E37088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877-7840-4411-87D6-90ADA3B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731-E5ED-444F-86D4-0022CA26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3307-82DE-4241-AB11-3A7DA11155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80880"/>
            <a:ext cx="9144000" cy="54961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0" r="0" b="9838"/>
          <a:stretch/>
        </p:blipFill>
        <p:spPr>
          <a:xfrm>
            <a:off x="0" y="380880"/>
            <a:ext cx="914400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1:33Z</dcterms:modified>
  <cp:revision>132</cp:revision>
  <dc:subject/>
  <dc:title>TITLE</dc:title>
</cp:coreProperties>
</file>