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F96-3B87-4094-894A-19C4C9B29A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068-6776-4CA4-BEBF-F0260483E3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4CC-18B8-45F5-8E3D-A810AF21DE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40BA-6905-477D-AAD0-72E2C372B7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6E20-CC0C-4054-9D9A-E446C84AE75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B1C-119D-4BBD-862F-03F908ED5F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0E54-DBB1-4F7E-BAF6-2A522233F0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66E-FD6F-45F7-A394-EA4B939BC6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5B4C-B6CB-4149-BD68-91EFF296334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602C-7F1C-491A-9B0E-6902AE084F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1731-D9CA-410E-968A-316921E35E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C235-F8D0-4378-B859-5DFF7197D9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193-D621-46B3-B60D-A01B782B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7F3-EED2-4E12-8FE8-F9C834EC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F61-60F3-4980-857F-6C43D068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F68-E6E7-47DF-A664-20FE51FD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C60-7F19-4E8E-8B38-64E42FC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22F-FA19-4674-B4C6-332F1BB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2DF-9962-4DF0-9852-AE7649B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00F-9F23-4FEA-A05A-3D3EBC5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EFA-535D-458D-BA53-C5DFDAE2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F46-BD6F-4623-8E32-960E260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3D4-9FF3-457B-8D21-CB2CA79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08E-FB9D-4F7B-9845-AE5AF5E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A654-4886-414C-A69E-3230839E91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9640" y="2019240"/>
            <a:ext cx="8174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I can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describe someone’s hair and eyes in Spanish using colours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Use </a:t>
            </a:r>
            <a:r>
              <a:rPr b="0" i="1" lang="en-GB" sz="5000" spc="-1" strike="noStrike">
                <a:solidFill>
                  <a:srgbClr val="fffffa"/>
                </a:solidFill>
                <a:latin typeface="Comic Sans MS"/>
              </a:rPr>
              <a:t>tengo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 and </a:t>
            </a:r>
            <a:r>
              <a:rPr b="0" i="1" lang="en-GB" sz="5000" spc="-1" strike="noStrike">
                <a:solidFill>
                  <a:srgbClr val="fffffa"/>
                </a:solidFill>
                <a:latin typeface="Comic Sans MS"/>
              </a:rPr>
              <a:t>tiene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79640" y="909720"/>
            <a:ext cx="2722320" cy="316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904000" y="1644480"/>
            <a:ext cx="2555640" cy="2073600"/>
          </a:xfrm>
          <a:prstGeom prst="rect">
            <a:avLst/>
          </a:prstGeom>
          <a:ln w="0">
            <a:noFill/>
          </a:ln>
        </p:spPr>
      </p:pic>
      <p:sp>
        <p:nvSpPr>
          <p:cNvPr id="101" name="Oval 1"/>
          <p:cNvSpPr/>
          <p:nvPr/>
        </p:nvSpPr>
        <p:spPr>
          <a:xfrm>
            <a:off x="431640" y="465444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1295280" y="5662440"/>
            <a:ext cx="1225800" cy="115128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2736720" y="544680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3745080" y="4371840"/>
            <a:ext cx="122364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616720" y="4371840"/>
            <a:ext cx="1008000" cy="100188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6769080" y="542124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667640" y="4227480"/>
            <a:ext cx="1008000" cy="10033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572000" y="441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79280" y="115920"/>
            <a:ext cx="36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 y tú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42920" y="620640"/>
            <a:ext cx="272268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867280" y="1355760"/>
            <a:ext cx="2556000" cy="2073240"/>
          </a:xfrm>
          <a:prstGeom prst="rect">
            <a:avLst/>
          </a:prstGeom>
          <a:ln w="0">
            <a:noFill/>
          </a:ln>
        </p:spPr>
      </p:pic>
      <p:sp>
        <p:nvSpPr>
          <p:cNvPr id="53" name="Oval 1"/>
          <p:cNvSpPr/>
          <p:nvPr/>
        </p:nvSpPr>
        <p:spPr>
          <a:xfrm>
            <a:off x="395280" y="436572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258920" y="5373720"/>
            <a:ext cx="1225440" cy="115092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2700360" y="515772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708360" y="4083120"/>
            <a:ext cx="122400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580000" y="408312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732720" y="513252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7631280" y="3938760"/>
            <a:ext cx="1008000" cy="100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66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3211560" y="1341360"/>
            <a:ext cx="2720880" cy="3167280"/>
          </a:xfrm>
          <a:prstGeom prst="rect">
            <a:avLst/>
          </a:prstGeom>
          <a:ln w="0">
            <a:noFill/>
          </a:ln>
        </p:spPr>
      </p:pic>
      <p:sp>
        <p:nvSpPr>
          <p:cNvPr id="74" name="Oval 8"/>
          <p:cNvSpPr/>
          <p:nvPr/>
        </p:nvSpPr>
        <p:spPr>
          <a:xfrm>
            <a:off x="3959280" y="4941720"/>
            <a:ext cx="1225440" cy="115128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Vecor-hair-tutorial16[1]"/>
          <p:cNvPicPr/>
          <p:nvPr/>
        </p:nvPicPr>
        <p:blipFill>
          <a:blip r:embed="rId1"/>
          <a:srcRect l="6185" t="0" r="7916" b="0"/>
          <a:stretch/>
        </p:blipFill>
        <p:spPr>
          <a:xfrm>
            <a:off x="1042920" y="620640"/>
            <a:ext cx="2722680" cy="316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ye-sticker[1]"/>
          <p:cNvPicPr/>
          <p:nvPr/>
        </p:nvPicPr>
        <p:blipFill>
          <a:blip r:embed="rId2"/>
          <a:srcRect l="8731" t="11172" r="11150" b="23819"/>
          <a:stretch/>
        </p:blipFill>
        <p:spPr>
          <a:xfrm>
            <a:off x="5867280" y="1355760"/>
            <a:ext cx="2556000" cy="2073240"/>
          </a:xfrm>
          <a:prstGeom prst="rect">
            <a:avLst/>
          </a:prstGeom>
          <a:ln w="0">
            <a:noFill/>
          </a:ln>
        </p:spPr>
      </p:pic>
      <p:sp>
        <p:nvSpPr>
          <p:cNvPr id="79" name="Oval 1"/>
          <p:cNvSpPr/>
          <p:nvPr/>
        </p:nvSpPr>
        <p:spPr>
          <a:xfrm>
            <a:off x="395280" y="4365720"/>
            <a:ext cx="1224000" cy="1150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8"/>
          <p:cNvSpPr/>
          <p:nvPr/>
        </p:nvSpPr>
        <p:spPr>
          <a:xfrm>
            <a:off x="1258920" y="5373720"/>
            <a:ext cx="1225440" cy="1150920"/>
          </a:xfrm>
          <a:prstGeom prst="ellipse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9"/>
          <p:cNvSpPr/>
          <p:nvPr/>
        </p:nvSpPr>
        <p:spPr>
          <a:xfrm>
            <a:off x="2700360" y="5157720"/>
            <a:ext cx="1224000" cy="1150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708360" y="4083120"/>
            <a:ext cx="122400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580000" y="408312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732720" y="5132520"/>
            <a:ext cx="1008000" cy="1003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7631280" y="3938760"/>
            <a:ext cx="1008000" cy="100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eye-sticker[1]"/>
          <p:cNvPicPr/>
          <p:nvPr/>
        </p:nvPicPr>
        <p:blipFill>
          <a:blip r:embed="rId1"/>
          <a:srcRect l="8731" t="11172" r="11150" b="23819"/>
          <a:stretch/>
        </p:blipFill>
        <p:spPr>
          <a:xfrm>
            <a:off x="3311640" y="1773360"/>
            <a:ext cx="2555640" cy="2073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078440" y="4341960"/>
            <a:ext cx="1008000" cy="10015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84360" y="404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5:59:40Z</dcterms:modified>
  <cp:revision>129</cp:revision>
  <dc:subject/>
  <dc:title>TITLE</dc:title>
</cp:coreProperties>
</file>