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7A5-6466-47A6-84D9-4BDDE4F4B0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668A-A7AA-477A-827A-21AA0B9494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A6E-5F37-4DFE-B739-3082C6091E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4DE-5190-4460-BDF0-1AC8E67403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895-DC9E-4C85-89AE-244FEBE1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0E7-858A-474C-947E-10641AFC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AC4-B69E-4363-9EF8-8D49D589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A3C-6E69-48EC-B887-5A44FAE3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CA1A-F9A7-4245-8716-050755C1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ADE1-BA6D-42A9-8559-AC7534AF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9D10-FFD3-4F1D-AA79-FB8A86DE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9A62-0AE1-40FD-98FD-0280AAC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4387-DB47-4271-948F-BD9AD8D7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206-810A-4640-AB79-544BAFBB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AFA1-3799-4578-A879-D627A35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170-F8C2-4F08-84B2-83C21B8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24BE-B4C5-407E-A82F-D6EF491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2CD7-3015-4999-A6DE-10B81B5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4EA2-AB00-46A2-A917-282A775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CD4F-76A7-4ED2-948A-1EEFDEFC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0F9F-EAD7-4D9F-8077-3B13F711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7C95-662C-42E7-8E66-D1B6825C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579B-2D4A-4425-AACA-1F0DC4F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CC9E-80A8-40CA-B663-897BD62B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A60C-F494-4E75-B3C9-F2229ADB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B863-87B8-4A3B-8257-C4EFFE3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8FC-93ED-4838-BE34-5ED2287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AF00-2684-493A-B9FB-B8EB023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1404-073A-46EC-9268-0EA8A18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F4EB-7822-4511-8263-F080D9F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F528-385B-4CB5-B333-7801BF4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2CEE-2D67-462D-A91F-D286FC7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ADD5-AA42-4898-9A68-9131C6D2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A74D-B167-4005-AAB8-BE25CBF6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4BA-0543-410F-B397-B0DB3CF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5B8-B872-4A55-9F07-84F8A0B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606-9DC2-4553-A59A-4A377F0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0A1-8A36-43FB-8F71-D92DD75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A58-6591-459C-A91D-D2FFE17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807-6026-43A8-BB3D-A98B6B1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D98-52CC-4EF7-8860-FBEBDEEAC3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1C28-65ED-4FD8-93F5-F5B1D5F217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58F1-5F42-4F6A-8590-B0B7839185F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403280" y="2060640"/>
            <a:ext cx="7416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I can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write an Easter poem in Spanish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70436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14:30Z</dcterms:modified>
  <cp:revision>268</cp:revision>
  <dc:subject/>
  <dc:title>TITLE</dc:title>
</cp:coreProperties>
</file>