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045-05A5-4F8D-A8C9-48E134D582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FB0A-B7D4-453D-8BF6-2BF2C2BC1D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FC3B-A905-4AD3-A317-0232D59787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0ED8-B323-44CD-8422-9FB33DEB0D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F42-70F0-4B74-ACCE-6D0A48C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B99-12B3-4F86-8324-2793EF96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FD2-DD6B-4769-9745-7DE2958E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CAF-5124-4FEB-9680-7A83DEB2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4FFD-3274-476D-B57A-AF6AD71B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649-23C2-4E43-AA39-0370DD39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8FA-9D2A-4329-98B6-F42B282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63CB-CD56-4F5D-BC22-342289C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4B43-60A8-4653-B81E-A4A9BE82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9EB-D53C-4362-8E60-781E3053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7EA-7AE2-4D1F-8167-D2A6723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54F-5CAA-4CD1-913B-30D0766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93A0-7D5A-460F-A36A-4EE0872F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6E0A-C176-4233-9024-65800522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98BB-1519-4E45-B2F6-64AB593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4D9-7A3C-4377-ADA7-29982623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C919-9543-4D92-AF60-3A2120D2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00A8-19F3-4C58-9456-A23FD7A0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13D9-C0A5-4DF9-BD47-033D2C6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E023-AF06-440F-878B-A767D19B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DEAA-5E7D-499B-9D77-608CE515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2A11-DF8F-4F9B-A5F4-21B7D02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8C4-6B2E-4761-95D8-AFBD548D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800E-799E-4834-96BC-605F5A12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B97B-4762-4DFE-9B26-CD1A93A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3C3C-980D-4A36-8377-AF55633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426A-4D8B-4980-A111-4B37DEA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7AAB-EBF9-41A8-A232-6A47A6CE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965A-3BDF-4F2E-BAAD-211EAD32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8D5D-BA05-4370-8982-C2EFC334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57F-EDF7-4767-9983-982084EF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E56-DCB8-4AE9-A92C-C7680B42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E29-2C44-4726-9997-2FC9710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865-D66D-451A-86C5-0D07E767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B89-2DA2-42AA-9D1B-06E409E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7CD-343D-4467-8813-E53C3C40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FC39-D91B-414B-9E63-5D85557F6F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4A53-19BA-4661-B14C-9518B92001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554-877A-4FEE-B3E2-AF4FC9E4338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403280" y="2060640"/>
            <a:ext cx="7416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I can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write an Easter poem in Spanish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70436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4:30Z</dcterms:modified>
  <cp:revision>268</cp:revision>
  <dc:subject/>
  <dc:title>TITLE</dc:title>
</cp:coreProperties>
</file>