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8DA7-7945-491C-A30E-213BD930A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F818-6243-49C2-9ED8-1C3945D97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9065-3E5C-4567-AD09-161036821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734A-34B6-4272-BA4C-80905EE28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110B-AA29-4B27-8C89-72FF581EA1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CD4F-746F-48F9-AD27-A7B02C58FD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4C97-DFBF-44AE-B28E-77202A3E70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2A5A-F2DC-4844-B83B-A016F016BF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BAAD-4F92-4BAD-8F03-0A53D3DBF6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F28A-91EF-4E76-A604-4BB8D5CA5B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EA5E-ECCE-44D6-AE14-99B0E6B655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C6E5-C35D-455E-9027-9C84E7326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0E62-00A1-4E7A-A38D-1D2D8F1FE7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4633-D1A4-43A4-9524-DAD88902A5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D0AB-BE8A-4E94-A492-53FAC1AB09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159A-ED42-40AD-A68C-87DA5C8170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7FCD-BF01-4B31-A664-C1E9A7456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3CD1-A60A-4FB0-9EB0-1DCC1DBF8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ADC7-4FD9-4879-A076-77BE9EC71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E630-7935-41A0-AA8D-72EE196C7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42EA-9E0D-4DBC-99F0-AE63C5FAD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E543-1629-44BF-9A15-0063229B5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22D0-372C-4476-BC27-7B64C0408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942D-796A-46AF-96AE-7D7330E9E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230-531B-484C-923D-82D72B839E4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0E09-F5F4-4AE5-852C-98A3BACC13A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619280" y="515952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6012000" y="320688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95280" y="12492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+ más     - menos    x p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35:46Z</dcterms:modified>
  <cp:revision>75</cp:revision>
  <dc:subject/>
  <dc:title>TITLE</dc:title>
</cp:coreProperties>
</file>