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6BDB-EF15-46F8-A38C-B846272AC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9FE7-C10C-4DE0-ABD2-86B83B4A1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D082-369B-4201-992F-03AF98512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5108-196D-4C19-AFA3-7EB20C72F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B654-5D96-4ADE-99AF-76E3873CD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FFD9-F99A-470C-A6C4-FD426ACA5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5465-10B9-4793-A0E3-6028426B53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71B3-01BD-418D-9F7C-D50C421F58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467E-F52B-4262-86C6-AC6604630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EECC-6669-423C-A48B-0F80BFF0C8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1987-0E51-457B-899A-1CB116E8B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5A81-2D85-4F35-B0F3-050048F43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57FA-4892-4A13-AE57-54C1FEF058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CFFF-E5A7-4EB4-93B5-62856B6A5C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1B77-D285-4902-9EE6-985CC37A48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415B-3887-4E06-A8CF-4EC1F2EEDE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73B5-E6DF-4F88-A4DE-D05DB5FF5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484D-5E4F-4CFD-B9FB-55D63FC20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E6F4-C894-4D0B-823F-EC2B8BEEC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2866-1FF4-4E68-BB61-D83886F11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0892-334E-4010-9458-A7C1C1340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E791-FE9C-43D5-84DE-82F8D5373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66AC-82BD-4436-956B-C5D9551FE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8B81-98A5-4813-A8F8-53357DC62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E8E7-4877-4210-A2E7-46218599E9F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92B-3006-421F-AA7F-2428B2C676C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6000" y="169920"/>
            <a:ext cx="792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Gill Sans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78800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95280" y="4546440"/>
            <a:ext cx="1224000" cy="18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788000" y="2674800"/>
            <a:ext cx="1224000" cy="183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lasspoplogo-01-02.png"/>
          <p:cNvPicPr/>
          <p:nvPr/>
        </p:nvPicPr>
        <p:blipFill>
          <a:blip r:embed="rId5"/>
          <a:stretch/>
        </p:blipFill>
        <p:spPr>
          <a:xfrm>
            <a:off x="8386920" y="169920"/>
            <a:ext cx="72360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619280" y="328464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619280" y="515952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012000" y="320688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6012000" y="5041800"/>
            <a:ext cx="29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95280" y="12492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+ más     - menos    x p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11-01T19:35:46Z</dcterms:modified>
  <cp:revision>75</cp:revision>
  <dc:subject/>
  <dc:title>TITLE</dc:title>
</cp:coreProperties>
</file>