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EB5A-BB5E-4AD3-8BF3-A2C612B252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A3F6-92D1-4816-9568-565543CBFC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C1C5-AD24-4D07-A69A-6F092AC200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F3F6-64F2-4C94-8E88-2B1A9047E2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FF8E-4A12-40DA-B054-4C70B69FD1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C47-337B-4C56-9D7F-F531465726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B476-3AA8-4FEC-9A06-04CF6C39C7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0930-7C7B-4F8A-BC00-9E6F4B7D64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7267-E8D3-4B75-9646-A31541A338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C194-8850-488F-806C-983220F106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B21C-3E79-4BAF-9422-6FAA632C80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34ED-CCF8-4C0C-BB65-44BC2B64D1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91E-6A85-482A-A6AC-24A4742C4B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84E0-5F35-4348-B7C3-A2FF0A049C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9461-27D4-4942-879A-A91CAADDF6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E3A6-4351-4F0C-94AE-3AE3967FEA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D7BE-0DCA-4CA2-A396-C0FB2B3369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DA2B-03C1-4B6F-B2C5-29F99A451F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77AF-26AD-4F3A-9E7B-FB5A420994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4C67-88C0-454E-8575-79EF953B3B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9F9C-397D-4562-9832-D63D7A8CFD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99DD-C956-44EE-936D-63E7CE21AE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0579-A023-4440-81A6-5E69CAD4DF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A0B-77CC-40BB-B724-7136740341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F021-146F-4FC5-B80F-C8E3ED1C1B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93E8-A3F5-4590-B4A5-0F7962A742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7B81-7CC7-46DA-BCEC-AF55B07DF7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DE47-24F0-499F-BAD8-DF3CE21643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068-19E0-4D50-A23B-BD7AF609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AC6-A506-4818-8BB0-EC7621CB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E08-0D4A-410F-8B88-B467F7B5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0B2-C707-4404-8AF4-8694AD1B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59D-B736-4121-8774-71737A7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60D-2868-424D-A4F9-8DA1A4A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EA0-3A1A-4547-B239-0C8F6AD7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CF7-5517-49DE-BEF8-61C9BC25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036-00F1-466F-8816-B4B26A37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D9E-EB29-48B1-90FD-A00D5A0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A14-CECC-43BA-A832-96EB2C79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C6A-CD88-4F02-B425-BBE0BB6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C775-FD62-41CC-82A7-939DC03C80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908000" y="765000"/>
            <a:ext cx="511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63"/>
                </a:solidFill>
                <a:latin typeface="Comic Sans MS"/>
              </a:rPr>
              <a:t>100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763640" y="3500280"/>
            <a:ext cx="565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63"/>
                </a:solidFill>
                <a:latin typeface="Comic Sans MS"/>
              </a:rPr>
              <a:t>PUNTO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125360" y="1557360"/>
            <a:ext cx="30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 estu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1393920" y="382284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a go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395280" y="6099120"/>
            <a:ext cx="38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 sacapun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4624560" y="1557360"/>
            <a:ext cx="334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 bolígraf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62456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 lápi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4624560" y="6099120"/>
            <a:ext cx="32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na reg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452600" y="92160"/>
            <a:ext cx="2259000" cy="146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680000" y="355680"/>
            <a:ext cx="3236760" cy="102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1536840" y="2558880"/>
            <a:ext cx="2090520" cy="124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5122800" y="2478240"/>
            <a:ext cx="2244960" cy="141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5"/>
          <a:stretch/>
        </p:blipFill>
        <p:spPr>
          <a:xfrm>
            <a:off x="1830240" y="470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6"/>
          <a:stretch/>
        </p:blipFill>
        <p:spPr>
          <a:xfrm>
            <a:off x="4680000" y="4870440"/>
            <a:ext cx="29782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ction Button: Return 2">
            <a:hlinkClick r:id="rId1" action="ppaction://hlinksldjump"/>
          </p:cNvPr>
          <p:cNvSpPr/>
          <p:nvPr/>
        </p:nvSpPr>
        <p:spPr>
          <a:xfrm>
            <a:off x="8244000" y="6093000"/>
            <a:ext cx="720720" cy="64908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83" h="21600">
                <a:moveTo>
                  <a:pt x="0" y="0"/>
                </a:moveTo>
                <a:lnTo>
                  <a:pt x="23983" y="0"/>
                </a:lnTo>
                <a:lnTo>
                  <a:pt x="23983" y="21600"/>
                </a:lnTo>
                <a:lnTo>
                  <a:pt x="0" y="21600"/>
                </a:lnTo>
                <a:close/>
              </a:path>
              <a:path fill="lightenLess" w="23983" h="21600">
                <a:moveTo>
                  <a:pt x="0" y="0"/>
                </a:moveTo>
                <a:lnTo>
                  <a:pt x="23983" y="0"/>
                </a:lnTo>
                <a:lnTo>
                  <a:pt x="22583" y="1400"/>
                </a:lnTo>
                <a:lnTo>
                  <a:pt x="1400" y="1400"/>
                </a:lnTo>
                <a:close/>
              </a:path>
              <a:path fill="darken" w="23983" h="21600">
                <a:moveTo>
                  <a:pt x="23983" y="0"/>
                </a:moveTo>
                <a:lnTo>
                  <a:pt x="23983" y="21600"/>
                </a:lnTo>
                <a:lnTo>
                  <a:pt x="22583" y="20200"/>
                </a:lnTo>
                <a:lnTo>
                  <a:pt x="22583" y="1400"/>
                </a:lnTo>
                <a:close/>
              </a:path>
              <a:path fill="darkenLess" w="23983" h="21600">
                <a:moveTo>
                  <a:pt x="2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3" y="20200"/>
                </a:lnTo>
                <a:close/>
              </a:path>
              <a:path fill="lighten" w="2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3" h="21600">
                <a:moveTo>
                  <a:pt x="4985" y="7493"/>
                </a:moveTo>
                <a:lnTo>
                  <a:pt x="8492" y="7493"/>
                </a:lnTo>
                <a:lnTo>
                  <a:pt x="8492" y="12828"/>
                </a:lnTo>
                <a:cubicBezTo>
                  <a:pt x="8492" y="13751"/>
                  <a:pt x="9293" y="14482"/>
                  <a:pt x="10329" y="14482"/>
                </a:cubicBezTo>
                <a:lnTo>
                  <a:pt x="11991" y="14482"/>
                </a:lnTo>
                <a:cubicBezTo>
                  <a:pt x="13027" y="14482"/>
                  <a:pt x="13828" y="13751"/>
                  <a:pt x="13828" y="12828"/>
                </a:cubicBezTo>
                <a:lnTo>
                  <a:pt x="13828" y="7493"/>
                </a:lnTo>
                <a:lnTo>
                  <a:pt x="11991" y="7493"/>
                </a:lnTo>
                <a:lnTo>
                  <a:pt x="15499" y="3985"/>
                </a:lnTo>
                <a:lnTo>
                  <a:pt x="19172" y="7493"/>
                </a:lnTo>
                <a:lnTo>
                  <a:pt x="17335" y="7493"/>
                </a:lnTo>
                <a:lnTo>
                  <a:pt x="17335" y="12828"/>
                </a:lnTo>
                <a:cubicBezTo>
                  <a:pt x="17335" y="15596"/>
                  <a:pt x="14759" y="18155"/>
                  <a:pt x="11991" y="18155"/>
                </a:cubicBezTo>
                <a:lnTo>
                  <a:pt x="10329" y="18155"/>
                </a:lnTo>
                <a:cubicBezTo>
                  <a:pt x="7561" y="18155"/>
                  <a:pt x="4985" y="15596"/>
                  <a:pt x="4985" y="12828"/>
                </a:cubicBez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2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"/>
          <p:cNvPicPr/>
          <p:nvPr/>
        </p:nvPicPr>
        <p:blipFill>
          <a:blip r:embed="rId3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"/>
          <p:cNvPicPr/>
          <p:nvPr/>
        </p:nvPicPr>
        <p:blipFill>
          <a:blip r:embed="rId4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"/>
          <p:cNvPicPr/>
          <p:nvPr/>
        </p:nvPicPr>
        <p:blipFill>
          <a:blip r:embed="rId5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"/>
          <p:cNvPicPr/>
          <p:nvPr/>
        </p:nvPicPr>
        <p:blipFill>
          <a:blip r:embed="rId6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"/>
          <p:cNvPicPr/>
          <p:nvPr/>
        </p:nvPicPr>
        <p:blipFill>
          <a:blip r:embed="rId7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55640" y="2154240"/>
            <a:ext cx="81374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d9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Students can work in groups or as a whole cl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he aim of the game is to score 100 points or mo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Groups take it in turns to say one of the stationery word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eacher reveals the next slide showing the stationery word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he group scores the number of points shown next to the item of stationery they have chos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If you get to slide 26 and nobody has reached 100 points, click on the return button. This will take you back to slide 3 and you can run through the slides ag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o make things more interesting you could give each team a wild card which will allow then to double their points on the next turn (see next slid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40" y="0"/>
          <a:ext cx="914256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6320"/>
                <a:gridCol w="3048120"/>
              </a:tblGrid>
              <a:tr h="342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42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</a:tbl>
          </a:graphicData>
        </a:graphic>
      </p:graphicFrame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584360" cy="1096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87280" y="1557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1584000" cy="1096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3311640" y="155736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6815160" y="189000"/>
            <a:ext cx="1582560" cy="1096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"/>
          <p:cNvSpPr/>
          <p:nvPr/>
        </p:nvSpPr>
        <p:spPr>
          <a:xfrm>
            <a:off x="6346800" y="155736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755640" y="3586320"/>
            <a:ext cx="1584360" cy="1096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0"/>
          <p:cNvSpPr/>
          <p:nvPr/>
        </p:nvSpPr>
        <p:spPr>
          <a:xfrm>
            <a:off x="287280" y="495468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11" descr=""/>
          <p:cNvPicPr/>
          <p:nvPr/>
        </p:nvPicPr>
        <p:blipFill>
          <a:blip r:embed="rId5"/>
          <a:stretch/>
        </p:blipFill>
        <p:spPr>
          <a:xfrm>
            <a:off x="3780000" y="3586320"/>
            <a:ext cx="1584000" cy="10969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2"/>
          <p:cNvSpPr/>
          <p:nvPr/>
        </p:nvSpPr>
        <p:spPr>
          <a:xfrm>
            <a:off x="3311640" y="495468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13" descr=""/>
          <p:cNvPicPr/>
          <p:nvPr/>
        </p:nvPicPr>
        <p:blipFill>
          <a:blip r:embed="rId6"/>
          <a:stretch/>
        </p:blipFill>
        <p:spPr>
          <a:xfrm>
            <a:off x="6815160" y="3586320"/>
            <a:ext cx="1582560" cy="10969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6346800" y="49546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4" descr=""/>
          <p:cNvPicPr/>
          <p:nvPr/>
        </p:nvPicPr>
        <p:blipFill>
          <a:blip r:embed="rId1"/>
          <a:stretch/>
        </p:blipFill>
        <p:spPr>
          <a:xfrm>
            <a:off x="2336760" y="552600"/>
            <a:ext cx="1724040" cy="111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2"/>
          <a:stretch/>
        </p:blipFill>
        <p:spPr>
          <a:xfrm>
            <a:off x="4419720" y="846000"/>
            <a:ext cx="2489040" cy="789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3"/>
          <a:stretch/>
        </p:blipFill>
        <p:spPr>
          <a:xfrm>
            <a:off x="2340000" y="2833560"/>
            <a:ext cx="1722240" cy="102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4"/>
          <a:stretch/>
        </p:blipFill>
        <p:spPr>
          <a:xfrm>
            <a:off x="4892760" y="2765520"/>
            <a:ext cx="2016000" cy="126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"/>
          <p:cNvPicPr/>
          <p:nvPr/>
        </p:nvPicPr>
        <p:blipFill>
          <a:blip r:embed="rId5"/>
          <a:stretch/>
        </p:blipFill>
        <p:spPr>
          <a:xfrm>
            <a:off x="2384280" y="4970520"/>
            <a:ext cx="14875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"/>
          <p:cNvPicPr/>
          <p:nvPr/>
        </p:nvPicPr>
        <p:blipFill>
          <a:blip r:embed="rId6"/>
          <a:stretch/>
        </p:blipFill>
        <p:spPr>
          <a:xfrm>
            <a:off x="4398840" y="5270400"/>
            <a:ext cx="2497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8-08T16:14:30Z</dcterms:modified>
  <cp:revision>126</cp:revision>
  <dc:subject/>
  <dc:title>TITLE</dc:title>
</cp:coreProperties>
</file>