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221-0AA7-4BBF-97CF-1D6CF441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9A7-8776-4EF0-909D-6FEAD0D6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85B-72CD-4075-A341-1D5D6A07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E11-3AEE-445A-A6B7-8C39188B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AC2B1-CDF2-456C-BB5D-473AE948D5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910F7-0FBD-40F5-A90C-F106AB8F14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868D1-4378-4651-BED6-871952B2CD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C3F2A-9C82-446B-A2D7-2E2153DCA8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919BB-1B5F-4802-AAFF-35D901D9EE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B75B8-DDC2-497F-82CA-BE587D9B33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7C0F5-29BB-475C-8120-508ED2A9FA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9AA-F012-4828-99BE-B4FCC3F9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51E30-0B94-4772-9FCE-06B497C8FF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32EC4-2A03-4DDB-9288-12F189D8EB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5910E-6B46-4292-BFD0-5E35FEBBB9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3E90C-F11F-42B7-8047-4950631E4F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D5587-923C-4C21-A458-8B201A309C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93D09F-DD15-4128-ABBB-E94B37A1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B87E3E-78B2-4D8D-89F3-3D5E2B22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CDA87-FAA2-45DD-AACA-3FF60B98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1D04B-A8D6-4E9F-95C9-0F7198E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63A24-3BD2-44E6-8B1D-21738B2B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960-8144-45AC-825F-AF091D63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FBF93-514F-46F0-9E21-D7BC5587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B6350-AC22-4886-AEB9-5681276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65B62D-7CED-4D27-81B0-0A6833E6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0AB60-A4C6-4695-A530-8C68A306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1B79F-BD2C-4507-B762-CD2532E9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92502-B37C-44CE-9458-5044A646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00E2F8-A9EC-4FF3-AE6F-82526374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FE4DC-9BEE-4940-9DFB-D95C4D3BEF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8F1C2-5B15-4E98-B534-0E0B1A2AB4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92F43-0214-41D2-BE6D-F2E288BA9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C8F-C882-457A-A763-769B9FBC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AEAE8-2396-4360-805C-DC63780918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95665-7AF7-48A3-9598-6CA373A5FB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5115E-CAB5-451A-85E1-CB22F61303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323C7-2615-48DD-ABB2-E2A1783E85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58651-ED18-49BD-AD06-DB128EB007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E4039-9277-4EA5-87D1-4BC33E505A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10CCE-AFDD-4930-BCE7-4FE39A0B4F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ED7BE-798C-414A-BDB9-B6780ECE95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A01AD-58BD-4D9D-853D-E81E05E30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A71-9A75-448E-B5AA-836B739C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303-C7F0-46A7-8499-4CF95250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176-CC99-4D0C-922C-631E04F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7F3-1F31-4FD6-B664-CDD991FC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B0F-545F-4AC7-93B5-9047D440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BBD2-9C5D-4BD3-B029-7945523122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7798-1A82-4247-BC73-C9D7FF3B2BD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33B4-27B7-4AB6-BEB2-A4426B1C60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4C54-FC15-4083-B233-B99DF8BBEC2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1619280" y="328464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rre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1619280" y="515952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plaz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bibliote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rí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22" descr="plaza"/>
          <p:cNvPicPr/>
          <p:nvPr/>
        </p:nvPicPr>
        <p:blipFill>
          <a:blip r:embed="rId7"/>
          <a:stretch/>
        </p:blipFill>
        <p:spPr>
          <a:xfrm>
            <a:off x="2843280" y="392040"/>
            <a:ext cx="3024000" cy="2273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rí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igles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6012000" y="320688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leg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6012000" y="504180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bibliote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Picture 18" descr="colegio"/>
          <p:cNvPicPr/>
          <p:nvPr/>
        </p:nvPicPr>
        <p:blipFill>
          <a:blip r:embed="rId7"/>
          <a:stretch/>
        </p:blipFill>
        <p:spPr>
          <a:xfrm>
            <a:off x="2735280" y="171360"/>
            <a:ext cx="3421080" cy="2610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leg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1619280" y="515952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rí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igles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6012000" y="504180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rre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2" name="Picture 21" descr="río"/>
          <p:cNvPicPr/>
          <p:nvPr/>
        </p:nvPicPr>
        <p:blipFill>
          <a:blip r:embed="rId7"/>
          <a:stretch/>
        </p:blipFill>
        <p:spPr>
          <a:xfrm>
            <a:off x="2444760" y="318960"/>
            <a:ext cx="4327560" cy="23432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1619280" y="328464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bibliote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1619280" y="515952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plaz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igles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leg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17" descr="biblioteca"/>
          <p:cNvPicPr/>
          <p:nvPr/>
        </p:nvPicPr>
        <p:blipFill>
          <a:blip r:embed="rId7"/>
          <a:stretch/>
        </p:blipFill>
        <p:spPr>
          <a:xfrm>
            <a:off x="2600280" y="173160"/>
            <a:ext cx="3384720" cy="2546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1619280" y="328464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bibliote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1619280" y="515952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leg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rre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6012000" y="504180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igles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4" name="Picture 19" descr="correos"/>
          <p:cNvPicPr/>
          <p:nvPr/>
        </p:nvPicPr>
        <p:blipFill>
          <a:blip r:embed="rId6"/>
          <a:stretch/>
        </p:blipFill>
        <p:spPr>
          <a:xfrm>
            <a:off x="3057480" y="217440"/>
            <a:ext cx="2336760" cy="24382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leg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igles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Box 14"/>
          <p:cNvSpPr/>
          <p:nvPr/>
        </p:nvSpPr>
        <p:spPr>
          <a:xfrm>
            <a:off x="6012000" y="320688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plaz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rí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5" name="Picture 20" descr="iglesia"/>
          <p:cNvPicPr/>
          <p:nvPr/>
        </p:nvPicPr>
        <p:blipFill>
          <a:blip r:embed="rId6"/>
          <a:stretch/>
        </p:blipFill>
        <p:spPr>
          <a:xfrm>
            <a:off x="3635280" y="328680"/>
            <a:ext cx="1447920" cy="2301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42:51Z</dcterms:modified>
  <cp:revision>252</cp:revision>
  <dc:subject/>
  <dc:title>TITLE</dc:title>
</cp:coreProperties>
</file>