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FBA-787B-48CB-841A-48B2AE0F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797-9041-49E5-A2F0-3D94FE13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999-372D-4400-A762-E2181B2C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4AA-F6CA-418F-B843-30B6FE31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5E387-51CE-4DD6-9807-F963FC2A65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5F082-5505-485E-A177-8A49F37AC1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EE2CE-67E4-4158-9892-ADC5FBE2D1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9D2D0-23C5-4E32-B1F0-AAC3536191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CE460-C296-449A-8108-32BC70585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15CE-E6C5-4025-AF7F-B8DC9AAEA9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BDF5A-6A24-4DDC-9923-EDFCDE06D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CF4-DB60-4B2A-B58F-71E6ED0D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F2BA7-9B98-430E-9528-F07187F631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572B3-5C8A-4EE9-8853-0C6B7D7444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44B2E-17BF-4920-A90F-33D463F87A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251E-EF13-458E-897D-7A394AB0F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C5BAF-663A-4B41-96C8-527FAEC4EF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4C19DA-C473-4F6F-9CCB-5A5CE58B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7BE6C-4B1B-463F-86A3-606F78D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31FDA-3C26-4E6E-85A7-3AA5436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AE326-5A68-4BB2-9018-FD83E476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3A185-49F9-4841-B440-F4A3777E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C64-B223-4A7A-A4B4-99F6988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6E19F-9D83-4077-A15C-1F23FCC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9B4F1-6F87-432C-B549-CC51653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11A29-CF13-4EA3-998A-24921F4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5295F-7E4F-4D37-9B1C-5612336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547C2-1538-4DCC-9BEB-C3F3C9BA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0805B-369D-4009-A3C0-68B56E54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1D101-9898-4220-A9CB-9FB4C027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B31BE-D0B2-4811-AA65-2C6DC422CC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D5B79-5388-48FD-84A4-3C5486AA0C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E5683-D8A4-4045-806B-076CA7876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8D0-2D57-42C0-B145-4B91AEFE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FF6B7-343C-420C-835B-E562992CE3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FF1D5-E8C4-4D1B-AD4F-368AE72BA0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43015-F90F-40D3-AC8E-ED28FA7525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963FF-50EE-4650-A03B-18A5524078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49DF7-A531-4896-815E-765CEA84BF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B6F10-5FA1-48E7-9B83-DAB26E62A9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2A6A4-FE9A-4D93-ACBF-6D898D867E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3B390-CA0A-4686-9663-FC5C5DD971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6E20F-E4C7-455B-8959-EB9F2668C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474-729D-4634-97DF-29C81803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192-51F9-40DC-92B3-6A2054B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903-02E1-48FF-A903-64A4476D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392-6DCA-499F-A5E4-68AC1E41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513-FA38-4905-B199-DB006A7B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140E-F02F-4079-9D9C-03E581F1AF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171D-2DB4-43E5-B513-4DE9072F989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262-642C-4375-8FC6-B79960B4FA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3731-096D-4160-955A-CA01246987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1619280" y="328464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rre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plaz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22" descr="plaza"/>
          <p:cNvPicPr/>
          <p:nvPr/>
        </p:nvPicPr>
        <p:blipFill>
          <a:blip r:embed="rId7"/>
          <a:stretch/>
        </p:blipFill>
        <p:spPr>
          <a:xfrm>
            <a:off x="2843280" y="392040"/>
            <a:ext cx="3024000" cy="2273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6012000" y="320688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6012000" y="504180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18" descr="colegio"/>
          <p:cNvPicPr/>
          <p:nvPr/>
        </p:nvPicPr>
        <p:blipFill>
          <a:blip r:embed="rId7"/>
          <a:stretch/>
        </p:blipFill>
        <p:spPr>
          <a:xfrm>
            <a:off x="2735280" y="171360"/>
            <a:ext cx="3421080" cy="2610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6012000" y="504180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rre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2" name="Picture 21" descr="río"/>
          <p:cNvPicPr/>
          <p:nvPr/>
        </p:nvPicPr>
        <p:blipFill>
          <a:blip r:embed="rId7"/>
          <a:stretch/>
        </p:blipFill>
        <p:spPr>
          <a:xfrm>
            <a:off x="2444760" y="318960"/>
            <a:ext cx="4327560" cy="23432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619280" y="328464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plaz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7" descr="biblioteca"/>
          <p:cNvPicPr/>
          <p:nvPr/>
        </p:nvPicPr>
        <p:blipFill>
          <a:blip r:embed="rId7"/>
          <a:stretch/>
        </p:blipFill>
        <p:spPr>
          <a:xfrm>
            <a:off x="2600280" y="173160"/>
            <a:ext cx="3384720" cy="2546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1619280" y="328464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bibliote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rreo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6012000" y="504180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19" descr="correos"/>
          <p:cNvPicPr/>
          <p:nvPr/>
        </p:nvPicPr>
        <p:blipFill>
          <a:blip r:embed="rId6"/>
          <a:stretch/>
        </p:blipFill>
        <p:spPr>
          <a:xfrm>
            <a:off x="3057480" y="217440"/>
            <a:ext cx="2336760" cy="24382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coleg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igles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6012000" y="320688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plaz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 rí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20" descr="iglesia"/>
          <p:cNvPicPr/>
          <p:nvPr/>
        </p:nvPicPr>
        <p:blipFill>
          <a:blip r:embed="rId6"/>
          <a:stretch/>
        </p:blipFill>
        <p:spPr>
          <a:xfrm>
            <a:off x="3635280" y="328680"/>
            <a:ext cx="1447920" cy="2301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42:51Z</dcterms:modified>
  <cp:revision>252</cp:revision>
  <dc:subject/>
  <dc:title>TITLE</dc:title>
</cp:coreProperties>
</file>