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78F7-70C1-463B-909F-8CF4BB7F71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5309-0BC0-4F6B-8E31-0A03C37DDC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342C-8BC8-48D3-A89D-BFA2199C73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D598-701C-4C02-9806-44DF731ED6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A94D-A648-49B8-A4FD-77504A0EDD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44B-0724-441D-9853-AAA8EAA1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489-756F-4E66-8F90-CDBB6C23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7C6-BAC7-4511-8D17-1FC7D032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D3C-CC9C-4A27-AF53-6EB4FF0C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E89F-0BCB-4B41-B694-F1455DA3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BEA3-7D3D-42C8-B2F3-EA4478F4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97E-9B63-4698-901F-41F0724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310E-1A80-4F36-B563-A0A3BFA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D53E-FD3D-46B2-80EB-1E89EF2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B3C3-9DB9-4C36-8072-905358BF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B11C-62E0-43A1-9AA0-E3D225A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EA0-ED62-44D9-95BF-26C78900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8F28-0891-4C6C-AC96-0CC39CF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62EE-298E-43FF-852C-0CB12B1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3410-B9AE-43F8-BBA8-C387EBCF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AF12-ED3F-4131-B3F8-56CF4FED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479F-6C58-4BC3-AC2B-BD011D41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F16-F401-48AC-8C61-009F4D24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007-D954-4FDD-824E-143CF069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2CC-673D-499A-9159-4CAC6190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5FB-4B39-4520-9075-38D08BF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580-57E3-4EE4-BF77-4B5D58E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8ED-4FA9-45FD-B6DB-E08D0E2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5CD-8A40-4839-8E95-62F42D59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A967-F758-409A-9084-AC4C32D973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4812-55C2-478F-B8ED-1F49FF3AA6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70000" y="189000"/>
            <a:ext cx="1616040" cy="1727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986200" y="45576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einte ovej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ve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08000" y="3386160"/>
            <a:ext cx="2485800" cy="127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270000" y="455760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j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3473280" y="2260440"/>
            <a:ext cx="2013120" cy="2154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20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0000" y="189000"/>
            <a:ext cx="16160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986200" y="45576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ecisiete tej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ve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08000" y="3386160"/>
            <a:ext cx="2485800" cy="127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270000" y="455760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j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17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3"/>
          <a:stretch/>
        </p:blipFill>
        <p:spPr>
          <a:xfrm>
            <a:off x="2771640" y="3025800"/>
            <a:ext cx="2982960" cy="15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916360" y="4508640"/>
            <a:ext cx="51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eintiséis surica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one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54000" y="527220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uric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26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398520" y="90360"/>
            <a:ext cx="1757160" cy="196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2"/>
          <a:stretch/>
        </p:blipFill>
        <p:spPr>
          <a:xfrm>
            <a:off x="812880" y="3402000"/>
            <a:ext cx="1166760" cy="20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"/>
          <p:cNvPicPr/>
          <p:nvPr/>
        </p:nvPicPr>
        <p:blipFill>
          <a:blip r:embed="rId3"/>
          <a:stretch/>
        </p:blipFill>
        <p:spPr>
          <a:xfrm>
            <a:off x="3994200" y="1573200"/>
            <a:ext cx="1757160" cy="307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916360" y="4508640"/>
            <a:ext cx="51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reinta surica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one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54000" y="527220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uric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30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98520" y="90360"/>
            <a:ext cx="1757160" cy="196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812880" y="3402000"/>
            <a:ext cx="1166760" cy="2043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"/>
          <p:cNvPicPr/>
          <p:nvPr/>
        </p:nvPicPr>
        <p:blipFill>
          <a:blip r:embed="rId3"/>
          <a:stretch/>
        </p:blipFill>
        <p:spPr>
          <a:xfrm>
            <a:off x="3994200" y="1573200"/>
            <a:ext cx="1757160" cy="307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19:46:03Z</dcterms:modified>
  <cp:revision>100</cp:revision>
  <dc:subject/>
  <dc:title>TITLE</dc:title>
</cp:coreProperties>
</file>