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5B1-A2AC-4615-9ABA-85EE28B905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558F-A582-4BA5-997B-75740CD4E6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805-2FC5-4A9D-ADEB-31E65E3F24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FBE-5183-4954-B86F-C0F09E8ED1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AB6-24F2-465C-94FA-6420447DBC6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097-6C82-4FBE-B252-824021AA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78A-7D85-4885-8D72-E59C8B6A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2D8-A9AD-4342-9D41-11638997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584-0437-4EEB-81C4-574783E4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38D9-6733-4D3A-AA20-F9B6C39D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78A9-A2CA-4814-AAFC-140C59A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2236-5415-467B-9E68-CE640382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AB4-1449-4DE4-BAA7-7E55656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D67-A50D-4FC2-AE16-BA983CA4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6252-BF78-40F6-97EA-6FD125E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7AAA-99AF-43DE-A554-A28B6E2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80E-E09D-461E-BF90-6EED266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23E-648B-4E2E-A721-79F1A0F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F41-5C17-4AB1-9B34-8C9B871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CCA-4BC7-47BA-8C78-8538E484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6CB6-88DF-43C2-8265-92E9291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A3A-1E4D-4DDE-9685-E85A8C83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F4D-8F67-486D-9B40-F1F265F3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08C-F5FC-41E5-B0A5-DC88D6B9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1CA-C391-469C-BDD3-0EE58D50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F01-72D2-4192-BF42-F4C0D24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265-59AB-4FC7-8748-B8A62E9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DEB-6988-484B-8032-52E7635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FE9-AFA7-4AFF-9C4D-DB40057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EC50-0A83-4E8F-98F7-F4220ACD5D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1EF-A2FE-4BF8-9594-CB2222D7BA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inte 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ve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270000" y="45576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j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3473280" y="2260440"/>
            <a:ext cx="2013120" cy="2154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ecisiete tej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ve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270000" y="45576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j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17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3"/>
          <a:stretch/>
        </p:blipFill>
        <p:spPr>
          <a:xfrm>
            <a:off x="2771640" y="3025800"/>
            <a:ext cx="2982960" cy="15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intiséis surica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n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6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inta surica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one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3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46:03Z</dcterms:modified>
  <cp:revision>100</cp:revision>
  <dc:subject/>
  <dc:title>TITLE</dc:title>
</cp:coreProperties>
</file>