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F96D-B3C9-4BC9-B4FC-49D8BD05D26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53B6-74FF-4E87-A70A-B2C90B61B9D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3CED-1769-42AF-B0D4-317B11003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E8FC-7458-4A2D-8DD4-5C590844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9BBF-B444-4DCD-8D0C-20C5DF1B5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B978-F8FC-4FD7-B9B2-CAF3C6436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A27B-F52C-4E38-B421-0F21ECF9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6807-8071-4933-9C8E-BFC4E0C1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B6AA-2BA9-4EF1-B3AD-93761F47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39E1-3D53-47B4-A78F-13529C00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EF56-DB4C-47DC-BD09-B86C6B2E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C9EA-B33E-4152-9CD5-0A5EBA0E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EBCC-3085-4CCE-B5D0-5D1306F2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C48F-81EF-4639-9AC2-862D1287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620D-A0EC-4E1E-8E04-A83B03B54B1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7920" y="333360"/>
            <a:ext cx="915984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7-06-25T16:00:21Z</dcterms:modified>
  <cp:revision>131</cp:revision>
  <dc:subject/>
  <dc:title>TITLE</dc:title>
</cp:coreProperties>
</file>