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F5A8-FE22-4841-B880-324B094CB58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4EE1-6523-4A76-BE58-E049B3E3CCE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BD66-79A8-4511-BE5F-97DAD2647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01B3-E255-45A2-9D4D-D788076F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3B90-E6D8-4DF7-8963-D962095AE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3DD1-7303-45C4-9275-8594D85BB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B392-8E74-493F-BE99-AEB86840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5197-90A9-45DF-B233-7A542DC3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E5E6-4D93-478B-9FEE-EC564A53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3BCD-4BE1-4A9C-9E51-9CD601C5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8463-F7F1-4F36-B14F-1F44B84F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BDFD-2908-4292-B6BC-E411E297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999C-8D64-4E27-BEBD-5F944138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6599-86B3-4136-B894-C4293647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19D1-4CDB-436E-A1EE-30B36A07DF8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7920" y="333360"/>
            <a:ext cx="915984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7-06-25T16:00:21Z</dcterms:modified>
  <cp:revision>131</cp:revision>
  <dc:subject/>
  <dc:title>TITLE</dc:title>
</cp:coreProperties>
</file>