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2C6A-E926-48EC-8713-C1F5FA45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D177-C92B-48DE-8572-2955B74C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18D-4A7C-43EA-99FB-871C1CB6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40F9-BDDF-4E33-B311-AD742874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8807-A6C6-4255-9921-FE5B88C5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0E74-9008-40BF-96E2-3B00D3C1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38D-0098-48D4-A934-3E9C07D7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696B-C89E-4407-8AE8-B9574698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75F-BC4C-4DBA-8BE1-E482050C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1707-6FBE-40AE-8870-26E40BC0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A88-4C9F-47C5-8E00-66FA9C43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417A-9998-452C-B6CC-0A42CCA1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93B2-8A84-4B3D-A0DE-F68B69A598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00000" y="103320"/>
            <a:ext cx="7344000" cy="65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547640" y="106200"/>
            <a:ext cx="6264360" cy="664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6048360" cy="660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68360" y="428760"/>
            <a:ext cx="814716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971640" y="115920"/>
            <a:ext cx="7200720" cy="65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1187280" y="149400"/>
            <a:ext cx="6769440" cy="65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7417080" cy="64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59770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</cp:lastModifiedBy>
  <dcterms:modified xsi:type="dcterms:W3CDTF">2019-09-09T07:53:48Z</dcterms:modified>
  <cp:revision>24</cp:revision>
  <dc:subject/>
  <dc:title>John</dc:title>
</cp:coreProperties>
</file>