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A35-4444-4595-AAF4-C48D7278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BF4-DE3E-47C3-8969-E50AA896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AF7-A1AF-450C-AB9B-0F75F3F3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BC7-4F6A-4505-AA01-EF20383B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548-B9C5-4326-99F0-D605A2C5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DF3-CBEC-4EFC-8FAD-D8B7B180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A61-6DDE-43A8-8CF9-6949AC9A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2A9-DD98-4C88-8F5B-9CBB59F9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820-4C7A-4FA2-98D1-07973798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48B-8B6B-4DAB-AC36-4CC34D00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451-0716-4B15-ABBC-BAE6A7B9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44B-BB89-42AD-B80D-503B57B7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D296-F107-4F88-8336-20920A37AE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00000" y="103320"/>
            <a:ext cx="7344000" cy="65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547640" y="106200"/>
            <a:ext cx="6264360" cy="664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6048360" cy="660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68360" y="428760"/>
            <a:ext cx="814716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7200720" cy="65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187280" y="149400"/>
            <a:ext cx="6769440" cy="65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7417080" cy="64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5977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</cp:lastModifiedBy>
  <dcterms:modified xsi:type="dcterms:W3CDTF">2019-09-09T07:53:48Z</dcterms:modified>
  <cp:revision>24</cp:revision>
  <dc:subject/>
  <dc:title>John</dc:title>
</cp:coreProperties>
</file>