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8F3C-DDBB-4D17-B5B5-344DC559635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7CFF-42FC-4964-926F-64A88F1D40A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F9CE-36E7-4218-8BA7-814E32B14E4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C955-7B7B-4DAA-A68F-1AB0DE68C0F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3E61-7989-4845-9DB3-CC62E3CB298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0C6E-4A2C-488F-A62F-53E79B4BF60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010E-8406-4EA0-AB2D-ACCE306C890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236E-1A5A-4573-81AB-1275C711E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BAB6-F728-4187-8BE9-12D5DE81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4A12-4702-4632-9A45-42D590024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6263-4323-49F6-B5A6-985557DB2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E1FA-9F6B-4128-89F7-A958D5A9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C581-582C-4A42-9BF6-BC24ADCE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1527-6C95-4836-BE3E-F0A4018A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9C39-BC72-443C-8DF1-5CD5CAC5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D4A9-F7CB-411F-A8D5-CDF226ED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B480-23F7-4E92-B1C3-F1D87125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C375-EEDC-4607-A967-8E754E53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A73F-B2E3-4FC1-970F-537D1367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FDC2-C41C-4C3A-96FB-9A4DECB8830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08000" y="44280"/>
            <a:ext cx="90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a"/>
                </a:solidFill>
                <a:uFillTx/>
                <a:latin typeface="Comic Sans MS"/>
              </a:rPr>
              <a:t>18 de octub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a"/>
                </a:solidFill>
                <a:uFillTx/>
                <a:latin typeface="Comic Sans MS"/>
              </a:rPr>
              <a:t>I can work out descriptions using colou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-36360" y="119700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1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a red ski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a falda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rojo / roja / rojos / roj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-36360" y="234324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2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the grey leot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la malla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gris / gri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-36360" y="3489480"/>
            <a:ext cx="92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3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some black boo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as botas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negro / negra / negros / negr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-4680" y="4635360"/>
            <a:ext cx="91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4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the purple sock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los calcetines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violeta / violet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-4680" y="578016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5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an orange swimsu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 bañador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naranja / naranj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108000" y="44280"/>
            <a:ext cx="90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a"/>
                </a:solidFill>
                <a:uFillTx/>
                <a:latin typeface="Comic Sans MS"/>
              </a:rPr>
              <a:t>18 de octub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a"/>
                </a:solidFill>
                <a:uFillTx/>
                <a:latin typeface="Comic Sans MS"/>
              </a:rPr>
              <a:t>I can work out descriptions using colou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-36360" y="119700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1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a red ski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a falda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rojo / roja / rojos / roj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-36360" y="234324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2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the grey leot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la malla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gris / gri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-36360" y="3489480"/>
            <a:ext cx="92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3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some black boo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as botas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negro / negra / negros / negr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-4680" y="4635360"/>
            <a:ext cx="91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4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the purple sock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los calcetines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violeta / violet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-4680" y="578016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5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an orange swimsu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 bañador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naranja / naranj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Oval 9"/>
          <p:cNvSpPr/>
          <p:nvPr/>
        </p:nvSpPr>
        <p:spPr>
          <a:xfrm>
            <a:off x="3851280" y="1628640"/>
            <a:ext cx="1297080" cy="714600"/>
          </a:xfrm>
          <a:prstGeom prst="ellipse">
            <a:avLst/>
          </a:prstGeom>
          <a:noFill/>
          <a:ln w="57240">
            <a:solidFill>
              <a:srgbClr val="2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108000" y="44280"/>
            <a:ext cx="90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a"/>
                </a:solidFill>
                <a:uFillTx/>
                <a:latin typeface="Comic Sans MS"/>
              </a:rPr>
              <a:t>18 de octub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a"/>
                </a:solidFill>
                <a:uFillTx/>
                <a:latin typeface="Comic Sans MS"/>
              </a:rPr>
              <a:t>I can work out descriptions using colou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-36360" y="119700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1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a red ski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a falda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rojo / roja / rojos / roj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-36360" y="234324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2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the grey leot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la malla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gris / gri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-36360" y="3489480"/>
            <a:ext cx="92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3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some black boo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as botas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negro / negra / negros / negr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-4680" y="4635360"/>
            <a:ext cx="91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4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the purple sock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los calcetines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violeta / violet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-4680" y="578016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5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an orange swimsu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 bañador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naranja / naranj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Oval 9"/>
          <p:cNvSpPr/>
          <p:nvPr/>
        </p:nvSpPr>
        <p:spPr>
          <a:xfrm>
            <a:off x="3851280" y="1628640"/>
            <a:ext cx="1297080" cy="714600"/>
          </a:xfrm>
          <a:prstGeom prst="ellipse">
            <a:avLst/>
          </a:prstGeom>
          <a:noFill/>
          <a:ln w="57240">
            <a:solidFill>
              <a:srgbClr val="2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Oval 10"/>
          <p:cNvSpPr/>
          <p:nvPr/>
        </p:nvSpPr>
        <p:spPr>
          <a:xfrm>
            <a:off x="2268360" y="2825640"/>
            <a:ext cx="1295640" cy="712800"/>
          </a:xfrm>
          <a:prstGeom prst="ellipse">
            <a:avLst/>
          </a:prstGeom>
          <a:noFill/>
          <a:ln w="57240">
            <a:solidFill>
              <a:srgbClr val="2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108000" y="44280"/>
            <a:ext cx="90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a"/>
                </a:solidFill>
                <a:uFillTx/>
                <a:latin typeface="Comic Sans MS"/>
              </a:rPr>
              <a:t>18 de octub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a"/>
                </a:solidFill>
                <a:uFillTx/>
                <a:latin typeface="Comic Sans MS"/>
              </a:rPr>
              <a:t>I can work out descriptions using colou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-36360" y="119700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1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a red ski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a falda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rojo / roja / rojos / roj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-36360" y="234324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2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the grey leot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la malla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gris / gri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-36360" y="3489480"/>
            <a:ext cx="92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3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some black boo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as botas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negro / negra / negros / negr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-4680" y="4635360"/>
            <a:ext cx="91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4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the purple sock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los calcetines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violeta / violet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-4680" y="578016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5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an orange swimsu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 bañador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naranja / naranj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Oval 9"/>
          <p:cNvSpPr/>
          <p:nvPr/>
        </p:nvSpPr>
        <p:spPr>
          <a:xfrm>
            <a:off x="3851280" y="1628640"/>
            <a:ext cx="1297080" cy="714600"/>
          </a:xfrm>
          <a:prstGeom prst="ellipse">
            <a:avLst/>
          </a:prstGeom>
          <a:noFill/>
          <a:ln w="57240">
            <a:solidFill>
              <a:srgbClr val="2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Oval 10"/>
          <p:cNvSpPr/>
          <p:nvPr/>
        </p:nvSpPr>
        <p:spPr>
          <a:xfrm>
            <a:off x="2268360" y="2825640"/>
            <a:ext cx="1295640" cy="712800"/>
          </a:xfrm>
          <a:prstGeom prst="ellipse">
            <a:avLst/>
          </a:prstGeom>
          <a:noFill/>
          <a:ln w="57240">
            <a:solidFill>
              <a:srgbClr val="2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Oval 11"/>
          <p:cNvSpPr/>
          <p:nvPr/>
        </p:nvSpPr>
        <p:spPr>
          <a:xfrm>
            <a:off x="7740720" y="3952800"/>
            <a:ext cx="1511280" cy="714600"/>
          </a:xfrm>
          <a:prstGeom prst="ellipse">
            <a:avLst/>
          </a:prstGeom>
          <a:noFill/>
          <a:ln w="57240">
            <a:solidFill>
              <a:srgbClr val="2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108000" y="44280"/>
            <a:ext cx="90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a"/>
                </a:solidFill>
                <a:uFillTx/>
                <a:latin typeface="Comic Sans MS"/>
              </a:rPr>
              <a:t>18 de octub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a"/>
                </a:solidFill>
                <a:uFillTx/>
                <a:latin typeface="Comic Sans MS"/>
              </a:rPr>
              <a:t>I can work out descriptions using colou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-36360" y="119700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1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a red ski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a falda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rojo / roja / rojos / roj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-36360" y="234324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2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the grey leot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la malla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gris / gri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-36360" y="3489480"/>
            <a:ext cx="92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3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some black boo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as botas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negro / negra / negros / negr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-4680" y="4635360"/>
            <a:ext cx="91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4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the purple sock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los calcetines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violeta / violet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-4680" y="578016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5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an orange swimsu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 bañador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naranja / naranj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Oval 9"/>
          <p:cNvSpPr/>
          <p:nvPr/>
        </p:nvSpPr>
        <p:spPr>
          <a:xfrm>
            <a:off x="3851280" y="1628640"/>
            <a:ext cx="1297080" cy="714600"/>
          </a:xfrm>
          <a:prstGeom prst="ellipse">
            <a:avLst/>
          </a:prstGeom>
          <a:noFill/>
          <a:ln w="57240">
            <a:solidFill>
              <a:srgbClr val="2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2268360" y="2825640"/>
            <a:ext cx="1295640" cy="712800"/>
          </a:xfrm>
          <a:prstGeom prst="ellipse">
            <a:avLst/>
          </a:prstGeom>
          <a:noFill/>
          <a:ln w="57240">
            <a:solidFill>
              <a:srgbClr val="2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Oval 11"/>
          <p:cNvSpPr/>
          <p:nvPr/>
        </p:nvSpPr>
        <p:spPr>
          <a:xfrm>
            <a:off x="7740720" y="3952800"/>
            <a:ext cx="1511280" cy="714600"/>
          </a:xfrm>
          <a:prstGeom prst="ellipse">
            <a:avLst/>
          </a:prstGeom>
          <a:noFill/>
          <a:ln w="57240">
            <a:solidFill>
              <a:srgbClr val="2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Oval 12"/>
          <p:cNvSpPr/>
          <p:nvPr/>
        </p:nvSpPr>
        <p:spPr>
          <a:xfrm>
            <a:off x="5299200" y="5067360"/>
            <a:ext cx="1793880" cy="712800"/>
          </a:xfrm>
          <a:prstGeom prst="ellipse">
            <a:avLst/>
          </a:prstGeom>
          <a:noFill/>
          <a:ln w="57240">
            <a:solidFill>
              <a:srgbClr val="2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108000" y="44280"/>
            <a:ext cx="90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a"/>
                </a:solidFill>
                <a:uFillTx/>
                <a:latin typeface="Comic Sans MS"/>
              </a:rPr>
              <a:t>18 de octub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a"/>
                </a:solidFill>
                <a:uFillTx/>
                <a:latin typeface="Comic Sans MS"/>
              </a:rPr>
              <a:t>I can work out descriptions using colou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-36360" y="119700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1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a red ski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a falda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rojo / roja / rojos / roj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-36360" y="234324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2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the grey leot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la malla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gris / gri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-36360" y="3489480"/>
            <a:ext cx="92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3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some black boo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as botas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negro / negra / negros / negr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-4680" y="4635360"/>
            <a:ext cx="91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4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the purple sock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los calcetines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violeta / violet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-4680" y="578016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5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an orange swimsu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 bañador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naranja / naranj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Oval 9"/>
          <p:cNvSpPr/>
          <p:nvPr/>
        </p:nvSpPr>
        <p:spPr>
          <a:xfrm>
            <a:off x="3851280" y="1628640"/>
            <a:ext cx="1297080" cy="714600"/>
          </a:xfrm>
          <a:prstGeom prst="ellipse">
            <a:avLst/>
          </a:prstGeom>
          <a:noFill/>
          <a:ln w="57240">
            <a:solidFill>
              <a:srgbClr val="2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Oval 10"/>
          <p:cNvSpPr/>
          <p:nvPr/>
        </p:nvSpPr>
        <p:spPr>
          <a:xfrm>
            <a:off x="2268360" y="2825640"/>
            <a:ext cx="1295640" cy="712800"/>
          </a:xfrm>
          <a:prstGeom prst="ellipse">
            <a:avLst/>
          </a:prstGeom>
          <a:noFill/>
          <a:ln w="57240">
            <a:solidFill>
              <a:srgbClr val="2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Oval 11"/>
          <p:cNvSpPr/>
          <p:nvPr/>
        </p:nvSpPr>
        <p:spPr>
          <a:xfrm>
            <a:off x="7740720" y="3952800"/>
            <a:ext cx="1511280" cy="714600"/>
          </a:xfrm>
          <a:prstGeom prst="ellipse">
            <a:avLst/>
          </a:prstGeom>
          <a:noFill/>
          <a:ln w="57240">
            <a:solidFill>
              <a:srgbClr val="2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Oval 12"/>
          <p:cNvSpPr/>
          <p:nvPr/>
        </p:nvSpPr>
        <p:spPr>
          <a:xfrm>
            <a:off x="5299200" y="5067360"/>
            <a:ext cx="1793880" cy="712800"/>
          </a:xfrm>
          <a:prstGeom prst="ellipse">
            <a:avLst/>
          </a:prstGeom>
          <a:noFill/>
          <a:ln w="57240">
            <a:solidFill>
              <a:srgbClr val="2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Oval 13"/>
          <p:cNvSpPr/>
          <p:nvPr/>
        </p:nvSpPr>
        <p:spPr>
          <a:xfrm>
            <a:off x="3059280" y="6203880"/>
            <a:ext cx="1873080" cy="714600"/>
          </a:xfrm>
          <a:prstGeom prst="ellipse">
            <a:avLst/>
          </a:prstGeom>
          <a:noFill/>
          <a:ln w="57240">
            <a:solidFill>
              <a:srgbClr val="2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8-12-07T15:29:32Z</dcterms:modified>
  <cp:revision>154</cp:revision>
  <dc:subject/>
  <dc:title>TITLE</dc:title>
</cp:coreProperties>
</file>