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ADE2-A491-4627-8A26-A8FEFEF8F6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886C-BF0D-4A12-85B2-EE347EA36D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31F9-3416-459F-B69E-7D9FD4FCEC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3FD5-4988-4466-8A79-F4F7CFEF0C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FA6B-3988-4D6E-AB04-BFD24352B7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D0E0-4A04-42C3-8D3B-45426D4B58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8B74-5009-447D-8104-1E11C2B6254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3B1-D6E9-4D13-A998-58B387EE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02D-317B-4143-91A2-0804E5E6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8D0-A64F-49CC-B6C7-D909FA5F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C50-3EF1-4E62-8143-D454AC71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F1B-4AAA-4C20-B409-4FBAD8A9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FCA-64C7-4CB6-8FD7-656075EB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371-B0D0-473B-8FE6-C8FF2B68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A51-BA78-4D71-859F-AD913DF1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25E-E702-4732-8778-A6EF411A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ED9-224A-4FC3-B288-A3216056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FCE-9E1A-4F1D-8C2F-A755E7DE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7A0-9674-474C-A083-B187546F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CA19-CE64-484B-B251-8D338404C2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08000" y="442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18 de octub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-36360" y="1197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 fald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jo / roja / rojos / ro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-36360" y="234324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mall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-36360" y="3489480"/>
            <a:ext cx="92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s bota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egro / negra / negros / neg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-4680" y="463536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purple so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os calcetin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violeta / viol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orange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bañador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aranja / naran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08000" y="442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18 de octub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-36360" y="1197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 fald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jo / roja / rojos / ro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-36360" y="234324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mall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-36360" y="3489480"/>
            <a:ext cx="92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s bota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egro / negra / negros / neg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-4680" y="463536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purple so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os calcetin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violeta / viol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orange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bañador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aranja / naran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9"/>
          <p:cNvSpPr/>
          <p:nvPr/>
        </p:nvSpPr>
        <p:spPr>
          <a:xfrm>
            <a:off x="3851280" y="1628640"/>
            <a:ext cx="12970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08000" y="442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18 de octub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-36360" y="1197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 fald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jo / roja / rojos / ro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-36360" y="234324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mall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-36360" y="3489480"/>
            <a:ext cx="92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s bota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egro / negra / negros / neg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-4680" y="463536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purple so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os calcetin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violeta / viol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orange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bañador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aranja / naran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9"/>
          <p:cNvSpPr/>
          <p:nvPr/>
        </p:nvSpPr>
        <p:spPr>
          <a:xfrm>
            <a:off x="3851280" y="1628640"/>
            <a:ext cx="12970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2268360" y="2825640"/>
            <a:ext cx="1295640" cy="7128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08000" y="442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18 de octub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-36360" y="1197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 fald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jo / roja / rojos / ro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-36360" y="234324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mall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-36360" y="3489480"/>
            <a:ext cx="92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s bota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egro / negra / negros / neg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-4680" y="463536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purple so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os calcetin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violeta / viol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orange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bañador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aranja / naran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Oval 9"/>
          <p:cNvSpPr/>
          <p:nvPr/>
        </p:nvSpPr>
        <p:spPr>
          <a:xfrm>
            <a:off x="3851280" y="1628640"/>
            <a:ext cx="12970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10"/>
          <p:cNvSpPr/>
          <p:nvPr/>
        </p:nvSpPr>
        <p:spPr>
          <a:xfrm>
            <a:off x="2268360" y="2825640"/>
            <a:ext cx="1295640" cy="7128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7740720" y="3952800"/>
            <a:ext cx="15112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108000" y="442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18 de octub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-36360" y="1197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 fald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jo / roja / rojos / ro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-36360" y="234324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mall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-36360" y="3489480"/>
            <a:ext cx="92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s bota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egro / negra / negros / neg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-4680" y="463536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purple so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os calcetin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violeta / viol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orange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bañador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aranja / naran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Oval 9"/>
          <p:cNvSpPr/>
          <p:nvPr/>
        </p:nvSpPr>
        <p:spPr>
          <a:xfrm>
            <a:off x="3851280" y="1628640"/>
            <a:ext cx="12970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268360" y="2825640"/>
            <a:ext cx="1295640" cy="7128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7740720" y="3952800"/>
            <a:ext cx="15112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5299200" y="5067360"/>
            <a:ext cx="1793880" cy="7128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08000" y="442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18 de octub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-36360" y="1197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 fald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jo / roja / rojos / ro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-36360" y="234324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malla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-36360" y="3489480"/>
            <a:ext cx="92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as bota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egro / negra / negros / neg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-4680" y="463536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purple so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os calcetin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violeta / viol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orange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bañador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aranja / naranj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3851280" y="1628640"/>
            <a:ext cx="12970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2268360" y="2825640"/>
            <a:ext cx="1295640" cy="7128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7740720" y="3952800"/>
            <a:ext cx="15112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5299200" y="5067360"/>
            <a:ext cx="1793880" cy="7128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3059280" y="6203880"/>
            <a:ext cx="1873080" cy="714600"/>
          </a:xfrm>
          <a:prstGeom prst="ellipse">
            <a:avLst/>
          </a:prstGeom>
          <a:noFill/>
          <a:ln w="5724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7T15:29:32Z</dcterms:modified>
  <cp:revision>154</cp:revision>
  <dc:subject/>
  <dc:title>TITLE</dc:title>
</cp:coreProperties>
</file>