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8F9-91CC-47E7-8B7B-1556CB85EF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C77-1E5D-4F9C-8ED2-6A4544E754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919-61F7-405F-9FAC-63B283E1F6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4F7F-CF05-44CF-881F-2A9EE0E02A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171-5AC9-4765-8F7D-A2F27C2F50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723B-38F0-4972-8A63-6B4799EE24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12D5-C70B-4149-9CFF-49E9D4C3A0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2497-5736-4B60-B4ED-30E08977F5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E95-6EB4-41FF-9874-17EBEA44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40D-D1F3-4705-B771-F0A3278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B03-4C6B-4B39-A041-454254E0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F69-1292-4B02-AEE3-CC8DEE92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650-AD25-4CAF-ABA3-B736A003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BB0-238E-4A97-930F-FFDC613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BB0-4994-4FC5-ADF0-40B07D04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F8F-EA3F-45A8-A1B6-61DE66B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514-849B-4D87-8E1D-D8AC591D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365-1E25-438E-8D4B-8F677A6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27E-2472-4253-8B9F-57F9DBC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439-E965-46E4-BF54-D9CC6DBA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E8E-6DFC-4D0C-BF3C-DF3CCFECEF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37731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z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286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2"/>
          <a:stretch/>
        </p:blipFill>
        <p:spPr>
          <a:xfrm>
            <a:off x="4500720" y="233280"/>
            <a:ext cx="37731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r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3241800" cy="35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2843280" y="585720"/>
            <a:ext cx="3243240" cy="354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5830920" y="549360"/>
            <a:ext cx="3243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lcet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rr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4992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4941720"/>
            <a:ext cx="19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ua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lcet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4760" y="407880"/>
            <a:ext cx="3981240" cy="357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4641840" y="404640"/>
            <a:ext cx="3979800" cy="35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68360" y="4941720"/>
            <a:ext cx="19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lcetí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r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rcRect l="47180" t="0" r="0" b="0"/>
          <a:stretch/>
        </p:blipFill>
        <p:spPr>
          <a:xfrm>
            <a:off x="2843280" y="189000"/>
            <a:ext cx="2541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32:19Z</dcterms:modified>
  <cp:revision>161</cp:revision>
  <dc:subject/>
  <dc:title>TITLE</dc:title>
</cp:coreProperties>
</file>