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9312-712C-4792-A000-D3B1440B764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D8EF-9336-4547-9DD2-5FD64B047F6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12B1-2FFB-41DA-BA1C-4C6BC98842D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DD77-9D5D-42B5-BFD0-84F8C4D1ADA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1D9A-5D4F-44F9-8265-84721559088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9558-C380-4B24-8189-B60A74AFAAE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19D5-50EA-4882-9E2C-B4AA20B59BA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5083-2289-4CBD-BBDE-0CD88886E0E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FF72-C99F-463F-9CCD-3A139C8F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368E-C3A5-4EA8-BFE6-984CCF6A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9D30-97C8-44AF-8434-857DF85CD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1497-2ED4-4803-AF0D-CCBD08CB0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C409-6315-4314-8C37-7A0D6A15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1336-4038-4BA3-A617-976705CF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22DA-1C94-428C-B20A-A11A7FEF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B8E6-E10A-4BE0-A050-CA9C849A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2DE1-73A5-4443-8AAA-0A8B69AB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ED43-07C6-469B-926F-3CF4CBF9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C743-5452-45B7-A4E6-7E678899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2A6C-5499-41B1-B816-C7F59E69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874A-0A8D-494C-A69D-A68092D869C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3773520" cy="4048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9640" y="4941720"/>
            <a:ext cx="172872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2454120" y="4941720"/>
            <a:ext cx="312588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5761080" y="4941720"/>
            <a:ext cx="277164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611280" y="49417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2484360" y="494172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amise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12"/>
          <p:cNvSpPr/>
          <p:nvPr/>
        </p:nvSpPr>
        <p:spPr>
          <a:xfrm>
            <a:off x="5761080" y="4941720"/>
            <a:ext cx="27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lan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3773520" cy="404820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539640" y="4941720"/>
            <a:ext cx="172872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2454120" y="4941720"/>
            <a:ext cx="312588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5761080" y="4941720"/>
            <a:ext cx="277164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611280" y="49417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2484360" y="494172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amiset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5761080" y="4941720"/>
            <a:ext cx="27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lanc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4500720" y="260280"/>
            <a:ext cx="377316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539640" y="4941720"/>
            <a:ext cx="172872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2454120" y="4941720"/>
            <a:ext cx="312588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5761080" y="4941720"/>
            <a:ext cx="277164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611280" y="49417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Box 11"/>
          <p:cNvSpPr/>
          <p:nvPr/>
        </p:nvSpPr>
        <p:spPr>
          <a:xfrm>
            <a:off x="2484360" y="494172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amiset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Box 12"/>
          <p:cNvSpPr/>
          <p:nvPr/>
        </p:nvSpPr>
        <p:spPr>
          <a:xfrm>
            <a:off x="5761080" y="4941720"/>
            <a:ext cx="27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az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3773520" cy="4286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"/>
          <p:cNvPicPr/>
          <p:nvPr/>
        </p:nvPicPr>
        <p:blipFill>
          <a:blip r:embed="rId2"/>
          <a:stretch/>
        </p:blipFill>
        <p:spPr>
          <a:xfrm>
            <a:off x="4500720" y="233280"/>
            <a:ext cx="377316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539640" y="4941720"/>
            <a:ext cx="172872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2454120" y="4941720"/>
            <a:ext cx="312588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5761080" y="4941720"/>
            <a:ext cx="277164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611280" y="49417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Box 11"/>
          <p:cNvSpPr/>
          <p:nvPr/>
        </p:nvSpPr>
        <p:spPr>
          <a:xfrm>
            <a:off x="2484360" y="494172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amiset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Box 12"/>
          <p:cNvSpPr/>
          <p:nvPr/>
        </p:nvSpPr>
        <p:spPr>
          <a:xfrm>
            <a:off x="5761080" y="4941720"/>
            <a:ext cx="27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ver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3241800" cy="3539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"/>
          <p:cNvPicPr/>
          <p:nvPr/>
        </p:nvPicPr>
        <p:blipFill>
          <a:blip r:embed="rId2"/>
          <a:stretch/>
        </p:blipFill>
        <p:spPr>
          <a:xfrm>
            <a:off x="2843280" y="585720"/>
            <a:ext cx="3243240" cy="3540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"/>
          <p:cNvPicPr/>
          <p:nvPr/>
        </p:nvPicPr>
        <p:blipFill>
          <a:blip r:embed="rId3"/>
          <a:stretch/>
        </p:blipFill>
        <p:spPr>
          <a:xfrm>
            <a:off x="5830920" y="549360"/>
            <a:ext cx="3243240" cy="35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539640" y="4941720"/>
            <a:ext cx="172872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2454120" y="4941720"/>
            <a:ext cx="312588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5761080" y="4941720"/>
            <a:ext cx="277164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611280" y="49417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2484360" y="494172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alcet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Box 12"/>
          <p:cNvSpPr/>
          <p:nvPr/>
        </p:nvSpPr>
        <p:spPr>
          <a:xfrm>
            <a:off x="5761080" y="4941720"/>
            <a:ext cx="27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marro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1763640" y="115920"/>
            <a:ext cx="499284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539640" y="4941720"/>
            <a:ext cx="172872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2454120" y="4941720"/>
            <a:ext cx="312588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5761080" y="4941720"/>
            <a:ext cx="277164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68360" y="4941720"/>
            <a:ext cx="191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uat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2484360" y="494172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alcet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5761080" y="4941720"/>
            <a:ext cx="27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ros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74760" y="407880"/>
            <a:ext cx="3981240" cy="3576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2"/>
          <a:stretch/>
        </p:blipFill>
        <p:spPr>
          <a:xfrm>
            <a:off x="4641840" y="404640"/>
            <a:ext cx="3979800" cy="35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539640" y="4941720"/>
            <a:ext cx="172872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2454120" y="4941720"/>
            <a:ext cx="312588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5761080" y="4941720"/>
            <a:ext cx="277164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468360" y="4941720"/>
            <a:ext cx="191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2484360" y="494172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alcetí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5761080" y="4941720"/>
            <a:ext cx="27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gr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8" name="Picture 1" descr=""/>
          <p:cNvPicPr/>
          <p:nvPr/>
        </p:nvPicPr>
        <p:blipFill>
          <a:blip r:embed="rId1"/>
          <a:srcRect l="47180" t="0" r="0" b="0"/>
          <a:stretch/>
        </p:blipFill>
        <p:spPr>
          <a:xfrm>
            <a:off x="2843280" y="189000"/>
            <a:ext cx="254160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8-12-07T15:32:19Z</dcterms:modified>
  <cp:revision>161</cp:revision>
  <dc:subject/>
  <dc:title>TITLE</dc:title>
</cp:coreProperties>
</file>