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E306-E2C2-4CFF-8746-F36A136F591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44D2-59BB-4B6C-889F-0A1F524977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C2C7-8C2D-42A7-8F0D-162464B12F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054D-A4DC-4C61-BEC1-1D0DB062EB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ED1C-A543-40E0-BFA4-C1E28E5D13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A1E9-3AEF-469C-8895-8F4C06301EA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492D-7DC9-41B2-A4E6-1370F6B234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BC6-3AF1-4525-A165-F2A87F8C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5A3-4EA9-493C-A166-F6458321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9BA-645E-4B54-9270-3EE1BB42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2BE-161A-4273-BCE3-C62718AB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0E33-1508-4CFE-B3A5-88A5BF56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4F5-A602-4DD0-A691-6A80F146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749-C4CA-4C66-95CC-00288374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D681-038C-4984-8092-5F4C34CD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6862-A853-4BBA-9207-620E28B9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135D-2D3A-4E57-9958-4DDBF0B2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99F-89DC-4405-BD3D-E0374806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399-90FF-4AA1-9927-AE1024BE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72A1-F6A5-4F1A-AA52-CA83B4DBBE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250920" y="189000"/>
            <a:ext cx="864216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Description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250920" y="1125360"/>
            <a:ext cx="8893080" cy="68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camiseta ro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os pantalones cortos neg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 bañador amari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s zapatillas de ballet ros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falda viole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971640" y="1052640"/>
            <a:ext cx="7921440" cy="5689440"/>
          </a:xfrm>
          <a:prstGeom prst="rect">
            <a:avLst/>
          </a:prstGeom>
          <a:solidFill>
            <a:srgbClr val="fcfc00"/>
          </a:solidFill>
          <a:ln w="25560">
            <a:solidFill>
              <a:srgbClr val="f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50920" y="189000"/>
            <a:ext cx="864216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Description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250920" y="1125360"/>
            <a:ext cx="8893080" cy="68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camiseta ro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os pantalones cortos neg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 bañador amari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s zapatillas de ballet ros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falda viole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971640" y="2203560"/>
            <a:ext cx="7921440" cy="5689440"/>
          </a:xfrm>
          <a:prstGeom prst="rect">
            <a:avLst/>
          </a:prstGeom>
          <a:solidFill>
            <a:srgbClr val="fcfc00"/>
          </a:solidFill>
          <a:ln w="25560">
            <a:solidFill>
              <a:srgbClr val="f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50920" y="189000"/>
            <a:ext cx="864216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Description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250920" y="1125360"/>
            <a:ext cx="8893080" cy="68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camiseta ro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os pantalones cortos neg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 bañador amari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s zapatillas de ballet ros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falda viole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971640" y="3284640"/>
            <a:ext cx="7921440" cy="5689440"/>
          </a:xfrm>
          <a:prstGeom prst="rect">
            <a:avLst/>
          </a:prstGeom>
          <a:solidFill>
            <a:srgbClr val="fcfc00"/>
          </a:solidFill>
          <a:ln w="25560">
            <a:solidFill>
              <a:srgbClr val="f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50920" y="189000"/>
            <a:ext cx="864216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Description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250920" y="1125360"/>
            <a:ext cx="8893080" cy="68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camiseta ro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os pantalones cortos neg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 bañador amari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s zapatillas de ballet ros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falda viole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971640" y="4219560"/>
            <a:ext cx="7921440" cy="5689440"/>
          </a:xfrm>
          <a:prstGeom prst="rect">
            <a:avLst/>
          </a:prstGeom>
          <a:solidFill>
            <a:srgbClr val="fcfc00"/>
          </a:solidFill>
          <a:ln w="25560">
            <a:solidFill>
              <a:srgbClr val="f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250920" y="189000"/>
            <a:ext cx="864216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Description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250920" y="1125360"/>
            <a:ext cx="8893080" cy="68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camiseta ro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os pantalones cortos neg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 bañador amari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s zapatillas de ballet ros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falda viole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971640" y="5156280"/>
            <a:ext cx="7921440" cy="5689440"/>
          </a:xfrm>
          <a:prstGeom prst="rect">
            <a:avLst/>
          </a:prstGeom>
          <a:solidFill>
            <a:srgbClr val="fcfc00"/>
          </a:solidFill>
          <a:ln w="25560">
            <a:solidFill>
              <a:srgbClr val="f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250920" y="189000"/>
            <a:ext cx="864216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Description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50920" y="1125360"/>
            <a:ext cx="8893080" cy="68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camiseta ro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os pantalones cortos neg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 bañador amari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s zapatillas de ballet ros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falda viole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971640" y="6164280"/>
            <a:ext cx="7921440" cy="5689440"/>
          </a:xfrm>
          <a:prstGeom prst="rect">
            <a:avLst/>
          </a:prstGeom>
          <a:solidFill>
            <a:srgbClr val="fcfc00"/>
          </a:solidFill>
          <a:ln w="25560">
            <a:solidFill>
              <a:srgbClr val="f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8-12-07T15:33:58Z</dcterms:modified>
  <cp:revision>162</cp:revision>
  <dc:subject/>
  <dc:title>TITLE</dc:title>
</cp:coreProperties>
</file>