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4504-1804-4DD1-A6F5-BE139589B6E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0DDF-1232-4CF9-A002-EB562C23436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3E60-0528-4DA6-A1A5-1DD52B63FD9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37DE-FCAE-4674-9DA2-3348F6C23C3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69FF-6C77-4EBF-8C60-CF255C93D92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7C38-3B47-46C5-A689-7700A3A9CEF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A57C-B2C9-4418-A45E-A8D7ED4A30F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31C9-47DC-4B26-99F2-86CA2179A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B4C8-B0BE-4BE1-81B9-C8D1FC50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82E9-1383-4346-B3E2-E9B8BEA3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7B59-778F-43FF-A7D6-0F74D11D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9DCE-BA4B-44BC-A2EE-2D4F1A3D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637B-80E8-4A79-BE34-282DC713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29F4-22E0-48B2-AF0D-F6F76E31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400D-8721-40C6-AE13-271082CE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9BD9-CE9E-49E8-8992-C3DA21BB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F061-4004-4DE0-83F6-E35CDC50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9B62-2F76-4174-8D02-9ACAE891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26F7-9D60-459C-BE09-16B10EE5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AC7B-9C31-4FB6-84EF-A15BCD032A4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250920" y="189000"/>
            <a:ext cx="864216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cret Descriptions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250920" y="1125360"/>
            <a:ext cx="8893080" cy="68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 camiseta roj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os pantalones cortos negr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 bañador amarill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s zapatillas de ballet ros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 falda viole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971640" y="1052640"/>
            <a:ext cx="7921440" cy="5689440"/>
          </a:xfrm>
          <a:prstGeom prst="rect">
            <a:avLst/>
          </a:prstGeom>
          <a:solidFill>
            <a:srgbClr val="fcfc00"/>
          </a:solidFill>
          <a:ln w="25560">
            <a:solidFill>
              <a:srgbClr val="fcf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250920" y="189000"/>
            <a:ext cx="864216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cret Descriptions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250920" y="1125360"/>
            <a:ext cx="8893080" cy="68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 camiseta roj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os pantalones cortos negr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 bañador amarill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s zapatillas de ballet ros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 falda viole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971640" y="2203560"/>
            <a:ext cx="7921440" cy="5689440"/>
          </a:xfrm>
          <a:prstGeom prst="rect">
            <a:avLst/>
          </a:prstGeom>
          <a:solidFill>
            <a:srgbClr val="fcfc00"/>
          </a:solidFill>
          <a:ln w="25560">
            <a:solidFill>
              <a:srgbClr val="fcf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250920" y="189000"/>
            <a:ext cx="864216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cret Descriptions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250920" y="1125360"/>
            <a:ext cx="8893080" cy="68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 camiseta roj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os pantalones cortos negr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 bañador amarill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s zapatillas de ballet ros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 falda viole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971640" y="3284640"/>
            <a:ext cx="7921440" cy="5689440"/>
          </a:xfrm>
          <a:prstGeom prst="rect">
            <a:avLst/>
          </a:prstGeom>
          <a:solidFill>
            <a:srgbClr val="fcfc00"/>
          </a:solidFill>
          <a:ln w="25560">
            <a:solidFill>
              <a:srgbClr val="fcf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50920" y="189000"/>
            <a:ext cx="864216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cret Descriptions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250920" y="1125360"/>
            <a:ext cx="8893080" cy="68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 camiseta roj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os pantalones cortos negr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 bañador amarill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s zapatillas de ballet ros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 falda viole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971640" y="4219560"/>
            <a:ext cx="7921440" cy="5689440"/>
          </a:xfrm>
          <a:prstGeom prst="rect">
            <a:avLst/>
          </a:prstGeom>
          <a:solidFill>
            <a:srgbClr val="fcfc00"/>
          </a:solidFill>
          <a:ln w="25560">
            <a:solidFill>
              <a:srgbClr val="fcf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250920" y="189000"/>
            <a:ext cx="864216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cret Descriptions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250920" y="1125360"/>
            <a:ext cx="8893080" cy="68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 camiseta roj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os pantalones cortos negr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 bañador amarill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s zapatillas de ballet ros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 falda viole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971640" y="5156280"/>
            <a:ext cx="7921440" cy="5689440"/>
          </a:xfrm>
          <a:prstGeom prst="rect">
            <a:avLst/>
          </a:prstGeom>
          <a:solidFill>
            <a:srgbClr val="fcfc00"/>
          </a:solidFill>
          <a:ln w="25560">
            <a:solidFill>
              <a:srgbClr val="fcf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250920" y="189000"/>
            <a:ext cx="864216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cret Descriptions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250920" y="1125360"/>
            <a:ext cx="8893080" cy="68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 camiseta roj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os pantalones cortos negr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 bañador amarill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s zapatillas de ballet ros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 falda viole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971640" y="6164280"/>
            <a:ext cx="7921440" cy="5689440"/>
          </a:xfrm>
          <a:prstGeom prst="rect">
            <a:avLst/>
          </a:prstGeom>
          <a:solidFill>
            <a:srgbClr val="fcfc00"/>
          </a:solidFill>
          <a:ln w="25560">
            <a:solidFill>
              <a:srgbClr val="fcf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8-12-07T15:33:58Z</dcterms:modified>
  <cp:revision>162</cp:revision>
  <dc:subject/>
  <dc:title>TITLE</dc:title>
</cp:coreProperties>
</file>