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F3EC-BAE9-4287-9A6C-30FE7F32F93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2FED-5714-4377-B8BB-3AD1544ABAF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D789-3A8A-4C7A-BADA-CCF7D54B2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69C8-8D10-48BE-84B3-FDEDB0AD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DB3F-9BDB-44A4-A565-81B2218F4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9149-DDD5-4F8E-8E52-0C4A94553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564D-4A50-4876-A6EA-49E63B47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E1A3-10A8-40FC-95FC-96728C78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7547-658A-4164-B845-6F5036E2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9E82-00E8-4086-8220-810FD891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BF48-E0BA-4BC3-B80F-152F1D35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DF02-AD6B-4CF4-A3B6-D89C7B01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2F62-61FC-40F5-BE11-4B21740A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D7CF-C852-4EEB-8895-A498E5FE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4041-47C5-4732-9CC4-183B20B9D68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3778200" y="146160"/>
            <a:ext cx="1494000" cy="180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4572000" y="3514680"/>
            <a:ext cx="2498760" cy="3154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7815240" y="115920"/>
            <a:ext cx="1025640" cy="2538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4"/>
          <a:stretch/>
        </p:blipFill>
        <p:spPr>
          <a:xfrm>
            <a:off x="6627960" y="3429000"/>
            <a:ext cx="2374920" cy="895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5"/>
          <a:stretch/>
        </p:blipFill>
        <p:spPr>
          <a:xfrm>
            <a:off x="85680" y="4130640"/>
            <a:ext cx="2254320" cy="2538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6"/>
          <a:stretch/>
        </p:blipFill>
        <p:spPr>
          <a:xfrm>
            <a:off x="252360" y="1197000"/>
            <a:ext cx="2551320" cy="1727280"/>
          </a:xfrm>
          <a:prstGeom prst="rect">
            <a:avLst/>
          </a:prstGeom>
          <a:ln w="0">
            <a:noFill/>
          </a:ln>
        </p:spPr>
      </p:pic>
      <p:sp>
        <p:nvSpPr>
          <p:cNvPr id="55" name="Rounded Rectangular Callout 8"/>
          <p:cNvSpPr/>
          <p:nvPr/>
        </p:nvSpPr>
        <p:spPr>
          <a:xfrm>
            <a:off x="1528920" y="260280"/>
            <a:ext cx="2249280" cy="1440000"/>
          </a:xfrm>
          <a:prstGeom prst="wedgeRoundRectCallout">
            <a:avLst>
              <a:gd name="adj1" fmla="val -63726"/>
              <a:gd name="adj2" fmla="val 36342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Juego al tenis de mesa.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Rounded Rectangular Callout 12"/>
          <p:cNvSpPr/>
          <p:nvPr/>
        </p:nvSpPr>
        <p:spPr>
          <a:xfrm>
            <a:off x="4427640" y="1700280"/>
            <a:ext cx="2592360" cy="1152360"/>
          </a:xfrm>
          <a:prstGeom prst="wedgeRoundRectCallout">
            <a:avLst>
              <a:gd name="adj1" fmla="val -36393"/>
              <a:gd name="adj2" fmla="val -66388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Juego al baloncesto.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Rounded Rectangular Callout 13"/>
          <p:cNvSpPr/>
          <p:nvPr/>
        </p:nvSpPr>
        <p:spPr>
          <a:xfrm>
            <a:off x="5724360" y="115920"/>
            <a:ext cx="1922760" cy="1225440"/>
          </a:xfrm>
          <a:prstGeom prst="wedgeRoundRectCallout">
            <a:avLst>
              <a:gd name="adj1" fmla="val 60009"/>
              <a:gd name="adj2" fmla="val 12800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Juego al tenis.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Rounded Rectangular Callout 14"/>
          <p:cNvSpPr/>
          <p:nvPr/>
        </p:nvSpPr>
        <p:spPr>
          <a:xfrm>
            <a:off x="2178000" y="3357720"/>
            <a:ext cx="2538360" cy="1150920"/>
          </a:xfrm>
          <a:prstGeom prst="wedgeRoundRectCallout">
            <a:avLst>
              <a:gd name="adj1" fmla="val -57657"/>
              <a:gd name="adj2" fmla="val 36342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Practico el atletismo.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Rounded Rectangular Callout 15"/>
          <p:cNvSpPr/>
          <p:nvPr/>
        </p:nvSpPr>
        <p:spPr>
          <a:xfrm>
            <a:off x="2155680" y="5400720"/>
            <a:ext cx="2538720" cy="1150920"/>
          </a:xfrm>
          <a:prstGeom prst="wedgeRoundRectCallout">
            <a:avLst>
              <a:gd name="adj1" fmla="val 63375"/>
              <a:gd name="adj2" fmla="val -43023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Practico la gimnasia.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Rounded Rectangular Callout 16"/>
          <p:cNvSpPr/>
          <p:nvPr/>
        </p:nvSpPr>
        <p:spPr>
          <a:xfrm>
            <a:off x="6627960" y="4824360"/>
            <a:ext cx="2455560" cy="1152720"/>
          </a:xfrm>
          <a:prstGeom prst="wedgeRoundRectCallout">
            <a:avLst>
              <a:gd name="adj1" fmla="val 7513"/>
              <a:gd name="adj2" fmla="val -82259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Practico la natación.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9-01-14T09:54:14Z</dcterms:modified>
  <cp:revision>165</cp:revision>
  <dc:subject/>
  <dc:title>TITLE</dc:title>
</cp:coreProperties>
</file>