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950C-AF05-457C-BED1-697B6C524B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3459-E94E-46D8-8224-6695AA29C3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BA4-4F58-42F3-91AD-F4AF0D86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B9B-CB7D-43DE-BCD8-C5C5E32B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6CB-A2EC-4881-966A-8CC58B4F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2D5-7231-4852-B2C3-D10D7A96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DDA-F7B4-4757-879B-870E4B3E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3F5C-1120-44F0-8546-9EC29E31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4E0-926A-4AF3-ACF3-65519A6D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6F22-2900-4E3C-8A66-49A214B7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22BF-86EA-4B5E-B82F-7E0075FA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BA6-5EA6-4E5C-B2E3-903D4AF7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3890-4BEB-4DB3-9162-0A392FAE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925-4AFC-4839-841A-C2061920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DA16-1172-4895-A620-4685BF62CA2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778200" y="146160"/>
            <a:ext cx="1494000" cy="180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572000" y="3514680"/>
            <a:ext cx="2498760" cy="315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7815240" y="115920"/>
            <a:ext cx="1025640" cy="253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6627960" y="3429000"/>
            <a:ext cx="2374920" cy="89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5"/>
          <a:stretch/>
        </p:blipFill>
        <p:spPr>
          <a:xfrm>
            <a:off x="85680" y="4130640"/>
            <a:ext cx="2254320" cy="253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6"/>
          <a:stretch/>
        </p:blipFill>
        <p:spPr>
          <a:xfrm>
            <a:off x="252360" y="1197000"/>
            <a:ext cx="2551320" cy="172728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ular Callout 8"/>
          <p:cNvSpPr/>
          <p:nvPr/>
        </p:nvSpPr>
        <p:spPr>
          <a:xfrm>
            <a:off x="1528920" y="260280"/>
            <a:ext cx="2249280" cy="1440000"/>
          </a:xfrm>
          <a:prstGeom prst="wedgeRoundRectCallout">
            <a:avLst>
              <a:gd name="adj1" fmla="val -63726"/>
              <a:gd name="adj2" fmla="val 36342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Juego al tenis de mesa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ounded Rectangular Callout 12"/>
          <p:cNvSpPr/>
          <p:nvPr/>
        </p:nvSpPr>
        <p:spPr>
          <a:xfrm>
            <a:off x="4427640" y="1700280"/>
            <a:ext cx="2592360" cy="1152360"/>
          </a:xfrm>
          <a:prstGeom prst="wedgeRoundRectCallout">
            <a:avLst>
              <a:gd name="adj1" fmla="val -36393"/>
              <a:gd name="adj2" fmla="val -6638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Juego al baloncesto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ounded Rectangular Callout 13"/>
          <p:cNvSpPr/>
          <p:nvPr/>
        </p:nvSpPr>
        <p:spPr>
          <a:xfrm>
            <a:off x="5724360" y="115920"/>
            <a:ext cx="1922760" cy="1225440"/>
          </a:xfrm>
          <a:prstGeom prst="wedgeRoundRectCallout">
            <a:avLst>
              <a:gd name="adj1" fmla="val 60009"/>
              <a:gd name="adj2" fmla="val 12800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Juego al tenis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ounded Rectangular Callout 14"/>
          <p:cNvSpPr/>
          <p:nvPr/>
        </p:nvSpPr>
        <p:spPr>
          <a:xfrm>
            <a:off x="2178000" y="3357720"/>
            <a:ext cx="2538360" cy="1150920"/>
          </a:xfrm>
          <a:prstGeom prst="wedgeRoundRectCallout">
            <a:avLst>
              <a:gd name="adj1" fmla="val -57657"/>
              <a:gd name="adj2" fmla="val 36342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Practico el atletismo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ounded Rectangular Callout 15"/>
          <p:cNvSpPr/>
          <p:nvPr/>
        </p:nvSpPr>
        <p:spPr>
          <a:xfrm>
            <a:off x="2155680" y="5400720"/>
            <a:ext cx="2538720" cy="1150920"/>
          </a:xfrm>
          <a:prstGeom prst="wedgeRoundRectCallout">
            <a:avLst>
              <a:gd name="adj1" fmla="val 63375"/>
              <a:gd name="adj2" fmla="val -43023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Practico la gimnasia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ounded Rectangular Callout 16"/>
          <p:cNvSpPr/>
          <p:nvPr/>
        </p:nvSpPr>
        <p:spPr>
          <a:xfrm>
            <a:off x="6627960" y="4824360"/>
            <a:ext cx="2455560" cy="1152720"/>
          </a:xfrm>
          <a:prstGeom prst="wedgeRoundRectCallout">
            <a:avLst>
              <a:gd name="adj1" fmla="val 7513"/>
              <a:gd name="adj2" fmla="val -82259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Practico la natación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9-01-14T09:54:14Z</dcterms:modified>
  <cp:revision>165</cp:revision>
  <dc:subject/>
  <dc:title>TITLE</dc:title>
</cp:coreProperties>
</file>