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AAB0E-E032-4717-B050-33050C397C7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FCECB-D2C4-4CFF-9ECE-01C9AD54CBE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DD75-E10C-4E3F-9F16-32FEC4445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CC3E-AD4A-401E-A190-54678E073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54FF-4A11-4A38-B7FB-0E9A0335A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6924-F509-48BE-8529-EB2980164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816A4-A062-4399-A95D-BE71114DD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EB0BC-1C71-47D1-BC39-0DEFAE2FA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1621E-FADD-4CAA-B7FC-8AD4E6FD3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ACCB3-5681-410B-BC62-17A20E993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E8521-1109-4739-9932-FD2C5F758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799B1-CF41-44C6-835D-3B97524CD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BD338-E45A-4D3D-AF37-C7B058DDF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5208-BCF2-4FE7-8853-312108EA4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336ED-6D72-4D10-8199-5CF083D41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B7E5A-5249-4083-9E5A-A92D93137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03777-DA51-41C4-8552-DCC7F11E3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593E0-EEB2-494A-A6F2-9B5E1FA43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A0F3E-A7A7-4329-B5B3-DFA87B9DA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7D81-4F7C-4E3B-8E4E-C44E76368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ED7D-09AA-4C35-8CDB-2CB671AB6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A677-5D23-456B-A7A0-3696A0D22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2FBC-880A-4EDF-8F18-08A2F5B48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5FE4-137D-4722-88C7-8B97E10A0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D35E-53F2-47F4-961F-FC4AEFA69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6919-EACB-4435-B729-1B5E5CAA8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695C8-0E47-46A1-9040-46707F354F5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FDE15-0B83-45B5-A68A-5B465114FD8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a"/>
          </a:solidFill>
          <a:ln w="9360">
            <a:solidFill>
              <a:srgbClr val="ff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70c0"/>
                </a:solidFill>
                <a:latin typeface="Comic Sans MS"/>
              </a:rPr>
              <a:t>masculine</a:t>
            </a:r>
            <a:r>
              <a:rPr b="0" lang="en-GB" sz="4400" spc="-1" strike="noStrike">
                <a:solidFill>
                  <a:srgbClr val="ffffd9"/>
                </a:solidFill>
                <a:latin typeface="Comic Sans MS"/>
              </a:rPr>
              <a:t> </a:t>
            </a:r>
            <a:r>
              <a:rPr b="0" lang="en-GB" sz="4400" spc="-1" strike="noStrike">
                <a:solidFill>
                  <a:srgbClr val="00b050"/>
                </a:solidFill>
                <a:latin typeface="Comic Sans MS"/>
              </a:rPr>
              <a:t>or</a:t>
            </a:r>
            <a:r>
              <a:rPr b="0" lang="en-GB" sz="4400" spc="-1" strike="noStrike">
                <a:solidFill>
                  <a:srgbClr val="ffffd9"/>
                </a:solidFill>
                <a:latin typeface="Comic Sans MS"/>
              </a:rPr>
              <a:t> </a:t>
            </a:r>
            <a:r>
              <a:rPr b="1" lang="en-GB" sz="4400" spc="-1" strike="noStrike">
                <a:solidFill>
                  <a:srgbClr val="ff0066"/>
                </a:solidFill>
                <a:latin typeface="Comic Sans MS"/>
              </a:rPr>
              <a:t>feminine</a:t>
            </a:r>
            <a:r>
              <a:rPr b="0" lang="en-GB" sz="4400" spc="-1" strike="noStrike">
                <a:solidFill>
                  <a:srgbClr val="00b050"/>
                </a:solidFill>
                <a:latin typeface="Comic Sans MS"/>
              </a:rPr>
              <a:t> 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TextBox 1"/>
          <p:cNvSpPr/>
          <p:nvPr/>
        </p:nvSpPr>
        <p:spPr>
          <a:xfrm>
            <a:off x="1839960" y="892080"/>
            <a:ext cx="245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una cruz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TextBox 13"/>
          <p:cNvSpPr/>
          <p:nvPr/>
        </p:nvSpPr>
        <p:spPr>
          <a:xfrm>
            <a:off x="1793880" y="1952640"/>
            <a:ext cx="2800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una abej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TextBox 14"/>
          <p:cNvSpPr/>
          <p:nvPr/>
        </p:nvSpPr>
        <p:spPr>
          <a:xfrm>
            <a:off x="1785960" y="3052800"/>
            <a:ext cx="276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un escudo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TextBox 15"/>
          <p:cNvSpPr/>
          <p:nvPr/>
        </p:nvSpPr>
        <p:spPr>
          <a:xfrm>
            <a:off x="1521000" y="4408560"/>
            <a:ext cx="3568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una maripos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TextBox 16"/>
          <p:cNvSpPr/>
          <p:nvPr/>
        </p:nvSpPr>
        <p:spPr>
          <a:xfrm>
            <a:off x="1285920" y="5738760"/>
            <a:ext cx="403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un saltamonte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TextBox 17"/>
          <p:cNvSpPr/>
          <p:nvPr/>
        </p:nvSpPr>
        <p:spPr>
          <a:xfrm>
            <a:off x="6156360" y="905040"/>
            <a:ext cx="2828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un corazó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TextBox 18"/>
          <p:cNvSpPr/>
          <p:nvPr/>
        </p:nvSpPr>
        <p:spPr>
          <a:xfrm>
            <a:off x="5580000" y="2352600"/>
            <a:ext cx="37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una zanahori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TextBox 19"/>
          <p:cNvSpPr/>
          <p:nvPr/>
        </p:nvSpPr>
        <p:spPr>
          <a:xfrm>
            <a:off x="6362640" y="3760920"/>
            <a:ext cx="2673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un pez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TextBox 20"/>
          <p:cNvSpPr/>
          <p:nvPr/>
        </p:nvSpPr>
        <p:spPr>
          <a:xfrm>
            <a:off x="5969160" y="4935600"/>
            <a:ext cx="303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una estrell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Oval 10"/>
          <p:cNvSpPr/>
          <p:nvPr/>
        </p:nvSpPr>
        <p:spPr>
          <a:xfrm>
            <a:off x="1749600" y="822240"/>
            <a:ext cx="2635200" cy="912960"/>
          </a:xfrm>
          <a:prstGeom prst="ellipse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Oval 10"/>
          <p:cNvSpPr/>
          <p:nvPr/>
        </p:nvSpPr>
        <p:spPr>
          <a:xfrm>
            <a:off x="1646280" y="1852560"/>
            <a:ext cx="2781360" cy="912960"/>
          </a:xfrm>
          <a:prstGeom prst="ellipse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Oval 10"/>
          <p:cNvSpPr/>
          <p:nvPr/>
        </p:nvSpPr>
        <p:spPr>
          <a:xfrm>
            <a:off x="1739880" y="2954160"/>
            <a:ext cx="2482920" cy="912960"/>
          </a:xfrm>
          <a:prstGeom prst="ellipse">
            <a:avLst/>
          </a:prstGeom>
          <a:noFill/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Oval 10"/>
          <p:cNvSpPr/>
          <p:nvPr/>
        </p:nvSpPr>
        <p:spPr>
          <a:xfrm>
            <a:off x="1454040" y="4148280"/>
            <a:ext cx="3387960" cy="1081080"/>
          </a:xfrm>
          <a:prstGeom prst="ellipse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Oval 10"/>
          <p:cNvSpPr/>
          <p:nvPr/>
        </p:nvSpPr>
        <p:spPr>
          <a:xfrm>
            <a:off x="1332000" y="5445000"/>
            <a:ext cx="3719520" cy="1341720"/>
          </a:xfrm>
          <a:prstGeom prst="ellipse">
            <a:avLst/>
          </a:prstGeom>
          <a:noFill/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Oval 10"/>
          <p:cNvSpPr/>
          <p:nvPr/>
        </p:nvSpPr>
        <p:spPr>
          <a:xfrm>
            <a:off x="6156360" y="860400"/>
            <a:ext cx="2879640" cy="914400"/>
          </a:xfrm>
          <a:prstGeom prst="ellipse">
            <a:avLst/>
          </a:prstGeom>
          <a:noFill/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Oval 10"/>
          <p:cNvSpPr/>
          <p:nvPr/>
        </p:nvSpPr>
        <p:spPr>
          <a:xfrm>
            <a:off x="5511960" y="2301840"/>
            <a:ext cx="3632040" cy="912960"/>
          </a:xfrm>
          <a:prstGeom prst="ellipse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Oval 10"/>
          <p:cNvSpPr/>
          <p:nvPr/>
        </p:nvSpPr>
        <p:spPr>
          <a:xfrm>
            <a:off x="6240600" y="3681360"/>
            <a:ext cx="2003400" cy="912960"/>
          </a:xfrm>
          <a:prstGeom prst="ellipse">
            <a:avLst/>
          </a:prstGeom>
          <a:noFill/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Oval 10"/>
          <p:cNvSpPr/>
          <p:nvPr/>
        </p:nvSpPr>
        <p:spPr>
          <a:xfrm>
            <a:off x="5969160" y="4842000"/>
            <a:ext cx="3033720" cy="912600"/>
          </a:xfrm>
          <a:prstGeom prst="ellipse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Oval 10"/>
          <p:cNvSpPr/>
          <p:nvPr/>
        </p:nvSpPr>
        <p:spPr>
          <a:xfrm>
            <a:off x="6202440" y="5924520"/>
            <a:ext cx="2833560" cy="912960"/>
          </a:xfrm>
          <a:prstGeom prst="ellipse">
            <a:avLst/>
          </a:prstGeom>
          <a:noFill/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TextBox 20"/>
          <p:cNvSpPr/>
          <p:nvPr/>
        </p:nvSpPr>
        <p:spPr>
          <a:xfrm>
            <a:off x="6375240" y="5985000"/>
            <a:ext cx="2660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un círculo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Cross 31"/>
          <p:cNvSpPr/>
          <p:nvPr/>
        </p:nvSpPr>
        <p:spPr>
          <a:xfrm>
            <a:off x="501480" y="719280"/>
            <a:ext cx="1011240" cy="1015920"/>
          </a:xfrm>
          <a:prstGeom prst="plus">
            <a:avLst>
              <a:gd name="adj" fmla="val 34440"/>
            </a:avLst>
          </a:prstGeom>
          <a:solidFill>
            <a:srgbClr val="ffc000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2" name="Picture 3" descr=""/>
          <p:cNvPicPr/>
          <p:nvPr/>
        </p:nvPicPr>
        <p:blipFill>
          <a:blip r:embed="rId1"/>
          <a:stretch/>
        </p:blipFill>
        <p:spPr>
          <a:xfrm>
            <a:off x="530280" y="1735200"/>
            <a:ext cx="938160" cy="1009440"/>
          </a:xfrm>
          <a:prstGeom prst="rect">
            <a:avLst/>
          </a:prstGeom>
          <a:ln w="0">
            <a:noFill/>
          </a:ln>
        </p:spPr>
      </p:pic>
      <p:sp>
        <p:nvSpPr>
          <p:cNvPr id="113" name="Flowchart: Delay 33"/>
          <p:cNvSpPr/>
          <p:nvPr/>
        </p:nvSpPr>
        <p:spPr>
          <a:xfrm rot="5400000">
            <a:off x="603720" y="2993040"/>
            <a:ext cx="900360" cy="822240"/>
          </a:xfrm>
          <a:prstGeom prst="flowChartDelay">
            <a:avLst/>
          </a:prstGeom>
          <a:solidFill>
            <a:srgbClr val="ffcccc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4" name="Picture 5" descr=""/>
          <p:cNvPicPr/>
          <p:nvPr/>
        </p:nvPicPr>
        <p:blipFill>
          <a:blip r:embed="rId2"/>
          <a:stretch/>
        </p:blipFill>
        <p:spPr>
          <a:xfrm>
            <a:off x="-142920" y="4000680"/>
            <a:ext cx="1789200" cy="1341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"/>
          <p:cNvPicPr/>
          <p:nvPr/>
        </p:nvPicPr>
        <p:blipFill>
          <a:blip r:embed="rId3"/>
          <a:stretch/>
        </p:blipFill>
        <p:spPr>
          <a:xfrm>
            <a:off x="-73080" y="5405400"/>
            <a:ext cx="1443240" cy="1082880"/>
          </a:xfrm>
          <a:prstGeom prst="rect">
            <a:avLst/>
          </a:prstGeom>
          <a:ln w="0">
            <a:noFill/>
          </a:ln>
        </p:spPr>
      </p:pic>
      <p:sp>
        <p:nvSpPr>
          <p:cNvPr id="116" name="Heart 36"/>
          <p:cNvSpPr/>
          <p:nvPr/>
        </p:nvSpPr>
        <p:spPr>
          <a:xfrm>
            <a:off x="5346720" y="954000"/>
            <a:ext cx="720720" cy="722520"/>
          </a:xfrm>
          <a:custGeom>
            <a:avLst/>
            <a:gdLst/>
            <a:ahLst/>
            <a:rect l="l" t="t" r="r" b="b"/>
            <a:pathLst>
              <a:path w="720725" h="722312">
                <a:moveTo>
                  <a:pt x="360363" y="180578"/>
                </a:moveTo>
                <a:cubicBezTo>
                  <a:pt x="510514" y="-240771"/>
                  <a:pt x="1096103" y="180578"/>
                  <a:pt x="360363" y="722312"/>
                </a:cubicBezTo>
                <a:cubicBezTo>
                  <a:pt x="-375378" y="180578"/>
                  <a:pt x="210211" y="-240771"/>
                  <a:pt x="360363" y="180578"/>
                </a:cubicBezTo>
                <a:close/>
              </a:path>
            </a:pathLst>
          </a:custGeom>
          <a:solidFill>
            <a:srgbClr val="ff0000"/>
          </a:solidFill>
          <a:ln w="25560">
            <a:solidFill>
              <a:srgbClr val="bcbcb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7" name="Picture 9" descr=""/>
          <p:cNvPicPr/>
          <p:nvPr/>
        </p:nvPicPr>
        <p:blipFill>
          <a:blip r:embed="rId4"/>
          <a:stretch/>
        </p:blipFill>
        <p:spPr>
          <a:xfrm>
            <a:off x="4572000" y="2011320"/>
            <a:ext cx="1187280" cy="10796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0" descr=""/>
          <p:cNvPicPr/>
          <p:nvPr/>
        </p:nvPicPr>
        <p:blipFill>
          <a:blip r:embed="rId5"/>
          <a:stretch/>
        </p:blipFill>
        <p:spPr>
          <a:xfrm>
            <a:off x="4494240" y="3637080"/>
            <a:ext cx="1660320" cy="996840"/>
          </a:xfrm>
          <a:prstGeom prst="rect">
            <a:avLst/>
          </a:prstGeom>
          <a:ln w="0">
            <a:noFill/>
          </a:ln>
        </p:spPr>
      </p:pic>
      <p:sp>
        <p:nvSpPr>
          <p:cNvPr id="119" name="5-Point Star 39"/>
          <p:cNvSpPr/>
          <p:nvPr/>
        </p:nvSpPr>
        <p:spPr>
          <a:xfrm>
            <a:off x="4842000" y="4599000"/>
            <a:ext cx="1127160" cy="1049400"/>
          </a:xfrm>
          <a:custGeom>
            <a:avLst/>
            <a:gdLst/>
            <a:ahLst/>
            <a:rect l="l" t="t" r="r" b="b"/>
            <a:pathLst>
              <a:path w="1127125" h="1049337">
                <a:moveTo>
                  <a:pt x="1" y="400810"/>
                </a:moveTo>
                <a:lnTo>
                  <a:pt x="430526" y="400813"/>
                </a:lnTo>
                <a:lnTo>
                  <a:pt x="563563" y="0"/>
                </a:lnTo>
                <a:lnTo>
                  <a:pt x="696599" y="400813"/>
                </a:lnTo>
                <a:lnTo>
                  <a:pt x="1127124" y="400810"/>
                </a:lnTo>
                <a:lnTo>
                  <a:pt x="778820" y="648523"/>
                </a:lnTo>
                <a:lnTo>
                  <a:pt x="911863" y="1049334"/>
                </a:lnTo>
                <a:lnTo>
                  <a:pt x="563563" y="801617"/>
                </a:lnTo>
                <a:lnTo>
                  <a:pt x="215262" y="1049334"/>
                </a:lnTo>
                <a:lnTo>
                  <a:pt x="348305" y="648523"/>
                </a:lnTo>
                <a:lnTo>
                  <a:pt x="1" y="40081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bcbcb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Oval 40"/>
          <p:cNvSpPr/>
          <p:nvPr/>
        </p:nvSpPr>
        <p:spPr>
          <a:xfrm>
            <a:off x="5137200" y="5946840"/>
            <a:ext cx="749160" cy="7459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 Seccombe</cp:lastModifiedBy>
  <dcterms:modified xsi:type="dcterms:W3CDTF">2018-12-07T15:25:08Z</dcterms:modified>
  <cp:revision>153</cp:revision>
  <dc:subject/>
  <dc:title>TITLE</dc:title>
</cp:coreProperties>
</file>