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DE5E-B523-428C-95CC-E1669CCDD53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1015-CCD4-4BF2-B1BE-0FA34280B4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87D-6FA1-4782-A945-E8D610D1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685-0592-4017-B555-3BF5EDBD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CFE-F8FB-4278-A30C-A9C408F3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AE9-4704-41AA-9EE3-336C9689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CFE9-87F3-4549-96A9-C203274D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8959-886E-448D-B5CF-82A23CEF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CDB2-57FB-45D8-9CA9-A633B3FC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0925-8F1C-405A-907D-E7E34F73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F7DF-9230-493D-8CCF-2C111394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CD32-B3A0-4477-A36A-791DC197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BB1A-2C88-495E-9585-4159D3C6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79A-2495-400C-9D73-0BF3CD2F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43EB-5C75-4C52-AC64-9B6D8844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2B7D-B53D-483C-AB08-7378C6C5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8FB8-10E6-4722-A7E9-68E6FD72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0513-AC67-4753-8167-CEDC268D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9971-551E-454E-A5F4-7F45BF1C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B48-34AC-4622-8D97-775C9DDB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A3A-0A94-4C02-BD03-806D114E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E12-D7BE-4EFD-A222-7969C9FC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710-CCA6-4B7C-BD9C-82F7BF18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04DD-19C2-4B55-B060-3BB01379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635-799D-44E1-8FA9-807E253C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B14-97CC-4107-97A1-4C2A936F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5DC8-CFB5-48DF-B58F-9EDDF22B62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8279-61EC-4C3E-BBCA-1A66B93B1C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omic Sans MS"/>
              </a:rPr>
              <a:t>masculine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or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f0066"/>
                </a:solidFill>
                <a:latin typeface="Comic Sans MS"/>
              </a:rPr>
              <a:t>feminine</a:t>
            </a: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1839960" y="89208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cruz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1793880" y="1952640"/>
            <a:ext cx="28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abej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785960" y="3052800"/>
            <a:ext cx="27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escud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1521000" y="4408560"/>
            <a:ext cx="35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maripo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1285920" y="5738760"/>
            <a:ext cx="40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saltamont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6156360" y="905040"/>
            <a:ext cx="282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corazó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5580000" y="2352600"/>
            <a:ext cx="37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zanahor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6362640" y="3760920"/>
            <a:ext cx="26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pez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20"/>
          <p:cNvSpPr/>
          <p:nvPr/>
        </p:nvSpPr>
        <p:spPr>
          <a:xfrm>
            <a:off x="5969160" y="4935600"/>
            <a:ext cx="30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estrel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1749600" y="822240"/>
            <a:ext cx="2635200" cy="9129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1646280" y="1852560"/>
            <a:ext cx="2781360" cy="9129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1739880" y="2954160"/>
            <a:ext cx="2482920" cy="91296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1454040" y="4148280"/>
            <a:ext cx="3387960" cy="10810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1332000" y="5445000"/>
            <a:ext cx="3719520" cy="134172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6156360" y="860400"/>
            <a:ext cx="2879640" cy="91440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5511960" y="2301840"/>
            <a:ext cx="3632040" cy="9129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6240600" y="3681360"/>
            <a:ext cx="2003400" cy="91296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5969160" y="4842000"/>
            <a:ext cx="3033720" cy="9126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Oval 10"/>
          <p:cNvSpPr/>
          <p:nvPr/>
        </p:nvSpPr>
        <p:spPr>
          <a:xfrm>
            <a:off x="6202440" y="5924520"/>
            <a:ext cx="2833560" cy="91296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6375240" y="5985000"/>
            <a:ext cx="26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círcu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Cross 31"/>
          <p:cNvSpPr/>
          <p:nvPr/>
        </p:nvSpPr>
        <p:spPr>
          <a:xfrm>
            <a:off x="501480" y="719280"/>
            <a:ext cx="1011240" cy="1015920"/>
          </a:xfrm>
          <a:prstGeom prst="plus">
            <a:avLst>
              <a:gd name="adj" fmla="val 34440"/>
            </a:avLst>
          </a:prstGeom>
          <a:solidFill>
            <a:srgbClr val="ffc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530280" y="173520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113" name="Flowchart: Delay 33"/>
          <p:cNvSpPr/>
          <p:nvPr/>
        </p:nvSpPr>
        <p:spPr>
          <a:xfrm rot="5400000">
            <a:off x="603720" y="2993040"/>
            <a:ext cx="900360" cy="822240"/>
          </a:xfrm>
          <a:prstGeom prst="flowChartDelay">
            <a:avLst/>
          </a:prstGeom>
          <a:solidFill>
            <a:srgbClr val="ffcccc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-142920" y="4000680"/>
            <a:ext cx="1789200" cy="1341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-73080" y="5405400"/>
            <a:ext cx="1443240" cy="1082880"/>
          </a:xfrm>
          <a:prstGeom prst="rect">
            <a:avLst/>
          </a:prstGeom>
          <a:ln w="0">
            <a:noFill/>
          </a:ln>
        </p:spPr>
      </p:pic>
      <p:sp>
        <p:nvSpPr>
          <p:cNvPr id="116" name="Heart 36"/>
          <p:cNvSpPr/>
          <p:nvPr/>
        </p:nvSpPr>
        <p:spPr>
          <a:xfrm>
            <a:off x="5346720" y="954000"/>
            <a:ext cx="720720" cy="722520"/>
          </a:xfrm>
          <a:custGeom>
            <a:avLst/>
            <a:gdLst/>
            <a:ahLst/>
            <a:rect l="l" t="t" r="r" b="b"/>
            <a:pathLst>
              <a:path w="720725" h="722312">
                <a:moveTo>
                  <a:pt x="360363" y="180578"/>
                </a:moveTo>
                <a:cubicBezTo>
                  <a:pt x="510514" y="-240771"/>
                  <a:pt x="1096103" y="180578"/>
                  <a:pt x="360363" y="722312"/>
                </a:cubicBezTo>
                <a:cubicBezTo>
                  <a:pt x="-375378" y="180578"/>
                  <a:pt x="210211" y="-240771"/>
                  <a:pt x="360363" y="180578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cbc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4"/>
          <a:stretch/>
        </p:blipFill>
        <p:spPr>
          <a:xfrm>
            <a:off x="4572000" y="2011320"/>
            <a:ext cx="118728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5"/>
          <a:stretch/>
        </p:blipFill>
        <p:spPr>
          <a:xfrm>
            <a:off x="4494240" y="3637080"/>
            <a:ext cx="1660320" cy="996840"/>
          </a:xfrm>
          <a:prstGeom prst="rect">
            <a:avLst/>
          </a:prstGeom>
          <a:ln w="0">
            <a:noFill/>
          </a:ln>
        </p:spPr>
      </p:pic>
      <p:sp>
        <p:nvSpPr>
          <p:cNvPr id="119" name="5-Point Star 39"/>
          <p:cNvSpPr/>
          <p:nvPr/>
        </p:nvSpPr>
        <p:spPr>
          <a:xfrm>
            <a:off x="4842000" y="4599000"/>
            <a:ext cx="1127160" cy="1049400"/>
          </a:xfrm>
          <a:custGeom>
            <a:avLst/>
            <a:gdLst/>
            <a:ahLst/>
            <a:rect l="l" t="t" r="r" b="b"/>
            <a:pathLst>
              <a:path w="1127125" h="1049337">
                <a:moveTo>
                  <a:pt x="1" y="400810"/>
                </a:moveTo>
                <a:lnTo>
                  <a:pt x="430526" y="400813"/>
                </a:lnTo>
                <a:lnTo>
                  <a:pt x="563563" y="0"/>
                </a:lnTo>
                <a:lnTo>
                  <a:pt x="696599" y="400813"/>
                </a:lnTo>
                <a:lnTo>
                  <a:pt x="1127124" y="400810"/>
                </a:lnTo>
                <a:lnTo>
                  <a:pt x="778820" y="648523"/>
                </a:lnTo>
                <a:lnTo>
                  <a:pt x="911863" y="1049334"/>
                </a:lnTo>
                <a:lnTo>
                  <a:pt x="563563" y="801617"/>
                </a:lnTo>
                <a:lnTo>
                  <a:pt x="215262" y="1049334"/>
                </a:lnTo>
                <a:lnTo>
                  <a:pt x="348305" y="648523"/>
                </a:lnTo>
                <a:lnTo>
                  <a:pt x="1" y="40081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cbc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5137200" y="5946840"/>
            <a:ext cx="749160" cy="745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7T15:25:08Z</dcterms:modified>
  <cp:revision>153</cp:revision>
  <dc:subject/>
  <dc:title>TITLE</dc:title>
</cp:coreProperties>
</file>