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8441-02D1-4219-8DCF-1CEAB53724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3DF3-28B2-49A9-B3B5-9442C2C2AE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E33B-9A13-4CCB-AB76-6C37D0402E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9D2-DDFD-455F-A377-30271554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C9C-62B5-4482-AB24-05EC1E1B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6B1-27EF-4C22-886A-04F0DF4D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FC1-69A5-45B3-9E9C-DDB7B755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743-FE05-4716-BE74-18100286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00F-2813-4B63-889B-276230D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81B-1E05-416C-A5E8-86A1508A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177-C39B-44C1-AF92-CEC2253D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B47-8065-40AA-BEEC-4236D0EA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60F-E391-4D3A-B250-9BF3EC2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644-59EA-49A3-B87C-54AAE7F3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578-CF8A-480E-8D7C-4A27FFC4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FB4B-A44D-4CAC-BDCC-2179D65058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24000" y="152280"/>
            <a:ext cx="5400360" cy="647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084720" y="3419640"/>
            <a:ext cx="2664000" cy="3178080"/>
          </a:xfrm>
          <a:prstGeom prst="rect">
            <a:avLst/>
          </a:prstGeom>
          <a:ln w="0">
            <a:noFill/>
          </a:ln>
        </p:spPr>
      </p:pic>
      <p:sp>
        <p:nvSpPr>
          <p:cNvPr id="51" name="16-Point Star 3"/>
          <p:cNvSpPr/>
          <p:nvPr/>
        </p:nvSpPr>
        <p:spPr>
          <a:xfrm>
            <a:off x="5832360" y="225360"/>
            <a:ext cx="3132360" cy="2987640"/>
          </a:xfrm>
          <a:custGeom>
            <a:avLst/>
            <a:gdLst>
              <a:gd name="textAreaLeft" fmla="*/ 714960 w 3132360"/>
              <a:gd name="textAreaRight" fmla="*/ 2417400 w 3132360"/>
              <a:gd name="textAreaTop" fmla="*/ 681840 h 2987640"/>
              <a:gd name="textAreaBottom" fmla="*/ 2305800 h 29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3"/>
          </a:solidFill>
          <a:ln w="2556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st common verb in Span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3:59Z</dcterms:modified>
  <cp:revision>123</cp:revision>
  <dc:subject/>
  <dc:title>TITLE</dc:title>
</cp:coreProperties>
</file>