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416C8-3F53-42D8-950B-43358ABE23A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BC312-7645-4736-BE36-073D19AB4E2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4346F-755E-45D3-A94B-A815B63BD2F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2792-4CA1-4421-9EC6-8F03EA904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F08A-0A24-48D0-8437-6DBF8A82E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CB5C-C2D8-4EFD-A983-B9340BD5C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95FB-717D-43DD-A3DC-F403AC847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094F-7386-4E25-896F-3856669FF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E81E-B8F6-4BC7-A5BE-07D03C9F5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643D-07FC-4411-9E04-4847CF17A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A15D-E6AB-4CE8-80F1-62F7211E1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DCE7-AFF5-4295-B8D4-572B11E33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9F01-6652-41D3-810D-92871682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1189-3CFE-412A-B05A-CBC3947FE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20F0-95BD-4A86-AFE1-7BF6DD23E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26E22-0038-4840-9B04-2B09C204031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324000" y="152280"/>
            <a:ext cx="5400360" cy="6473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6084720" y="3419640"/>
            <a:ext cx="2664000" cy="3178080"/>
          </a:xfrm>
          <a:prstGeom prst="rect">
            <a:avLst/>
          </a:prstGeom>
          <a:ln w="0">
            <a:noFill/>
          </a:ln>
        </p:spPr>
      </p:pic>
      <p:sp>
        <p:nvSpPr>
          <p:cNvPr id="51" name="16-Point Star 3"/>
          <p:cNvSpPr/>
          <p:nvPr/>
        </p:nvSpPr>
        <p:spPr>
          <a:xfrm>
            <a:off x="5832360" y="225360"/>
            <a:ext cx="3132360" cy="2987640"/>
          </a:xfrm>
          <a:custGeom>
            <a:avLst/>
            <a:gdLst>
              <a:gd name="textAreaLeft" fmla="*/ 714960 w 3132360"/>
              <a:gd name="textAreaRight" fmla="*/ 2417400 w 3132360"/>
              <a:gd name="textAreaTop" fmla="*/ 681840 h 2987640"/>
              <a:gd name="textAreaBottom" fmla="*/ 2305800 h 298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3"/>
          </a:solidFill>
          <a:ln w="25560">
            <a:solidFill>
              <a:srgbClr val="fcf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ost common verb in Spanis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539640" y="115920"/>
            <a:ext cx="7993080" cy="67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7-06-25T16:03:59Z</dcterms:modified>
  <cp:revision>123</cp:revision>
  <dc:subject/>
  <dc:title>TITLE</dc:title>
</cp:coreProperties>
</file>