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AE8-2A86-4552-99C1-9A200238D5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6FD-11FC-4B5A-8FBE-C234519C88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B94-49E0-4735-A07C-4B730718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015-00FC-4A61-9949-841C3F2A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F55-752E-44DF-896D-BAA6FA99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013-380B-407C-BC9A-007C87E8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7F29-005F-42B1-926D-E3652643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113A-B343-46AD-AA25-BFF53341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23B0-06C3-4929-AFE6-F39E83D9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83E5-3A88-4B71-A311-2A4140C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09DE-B637-473B-8EBF-7AE32A5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584A-B5A4-457D-A5A8-CEF72D89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3FE-DB49-4B99-8B45-7DA72DC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DE7-308B-4645-B8B6-D6A97301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679F-F321-46FC-917F-70944E1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32DC-AB55-4E75-A87A-F87DC29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9A7-D57D-4F4D-81E0-AFAFB9A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5657-D00D-4B4D-A1D6-C63117E6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6677-AA9B-40A9-925C-6FAA3C3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AF7A-0322-4D75-BFA2-C69B11C0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0DD6-71EB-471F-BF2A-8D7FBC1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89C7-15D7-4E54-8175-E3D1BEB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F5F1-3510-4C88-992E-511E37F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C1CA-D7A0-4FB1-AC82-8C3F3E4E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42D-2AFE-458F-B6C3-3775525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B7B6-62CB-4FE7-82F7-4E99420E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5A71-A6DE-4A2D-8C0D-F627F5A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0503-1E60-4F41-91BB-283E98A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D7D5-8A2E-4D4B-90F9-E941F94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0717-C0E3-4DD4-98FA-07F2C3F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A532-ED43-496A-87DC-E9742F29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619F-DAF5-484A-9203-6C79A12D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701-4FDB-46FA-9608-1EB8235D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99B-6DED-40BE-928A-422F9D1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A0E-7770-4F20-A3F7-517AA0A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A14-2851-4ADF-AF3A-9CC5904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7DF-B530-48F4-BC39-5EBD2BE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063-AA71-449F-8F10-D481A55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FCD-C0E9-4670-8E20-435B392527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3FF-18DF-4148-82A6-6E2915BCFD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34ED-C33D-44DA-ACF7-06E0CAFF28B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clock"/>
          <p:cNvPicPr/>
          <p:nvPr/>
        </p:nvPicPr>
        <p:blipFill>
          <a:blip r:embed="rId1"/>
          <a:stretch/>
        </p:blipFill>
        <p:spPr>
          <a:xfrm>
            <a:off x="2771640" y="1484280"/>
            <a:ext cx="3673440" cy="3611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630072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y cuar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299736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enos cuar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564000" y="4941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y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771640" y="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Es la una</a:t>
            </a:r>
            <a:br>
              <a:rPr sz="4400"/>
            </a:b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Son las 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58000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156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di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156360" y="357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vei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651640" y="4365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 veinti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826920" y="1413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50920" y="227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di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0" y="378936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vei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0" y="4437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enos veinticin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2:06Z</dcterms:modified>
  <cp:revision>265</cp:revision>
  <dc:subject/>
  <dc:title>TITLE</dc:title>
</cp:coreProperties>
</file>