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55488-4768-4E81-B182-D760CD0ACD66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FAEAF-F993-4FD9-AC6D-EFC761CDC266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6E872-F892-4460-8BBC-B7F287C11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397F5-C074-435A-9320-4C291B8F8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9567F-59E7-4585-B284-FEAC76F43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8FF15-C553-4FAE-977E-1E7327A1E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20F4E-C51C-457E-9741-5DAAAA8D5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77036-B23A-4AEA-88F0-731632C96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EAE57-53BE-4CE3-99F4-AC9A72FEE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2AA9D-C0E9-408A-BE18-BFE55F52A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98F5B-3B09-41C8-BAF9-17CBBA453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14002-D66F-4CEA-A023-CDB969338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1E0C1-04F0-43D0-90E0-B95653218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1A6F1-D999-4641-B901-19F79D923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C1C15-14B0-4C8F-AF3E-FD1A1BD35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CC783-A63E-402E-B520-2FAC33ECA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E4F31-66DA-4532-B1E6-FC5EE3353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92C05-0629-4305-8189-0207B4208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35251-4676-42CD-A5FE-FAAC6BEE0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00951B-E1AB-4B8E-BBB9-462B97A8B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C1571F-A359-4B78-8BC5-293BBDCCD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4BB67D-3DC2-4C6C-AB61-798BE467B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8A077D-8708-4A35-9CAD-1CD1D71D0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0FC158-72EF-4C60-893E-B4D4D9381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6414B-4C52-4818-8B3C-41C88A118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A2F0DE-6B9F-4E6A-9CE7-0940E24F6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8840A0-A995-4483-84FF-6BFB3F120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CA149C-E29E-4CEF-B256-0FD7D6C20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E309DD-92B3-488A-B2BF-3F35AB2BC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FFA214-A90C-4F12-BC8A-9092D4B8A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2C8228-D7C4-4FE0-A9BB-2B3CD3296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3D3CD5-5C8A-4B07-AED6-0D0D203E6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C580A-D291-4221-9CEC-B7D051B9C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D1A37-76A8-4189-AD13-7C3FA1C5E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6D40E-D946-4457-B2E2-F11D7F902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9578A-C613-4E1E-A352-BC7A1409E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E36BA-FB31-4B0E-A976-7C024F22A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E01EF-8E68-4A66-AC67-363A125B4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1B283-310C-411C-A0C7-6A9E90A3D4C9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203EA-2B26-41C7-9BDA-99E9413BFB2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600A2-8383-4C41-A8F9-9B4603A23CC2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1" name="Picture 6" descr="clock"/>
          <p:cNvPicPr/>
          <p:nvPr/>
        </p:nvPicPr>
        <p:blipFill>
          <a:blip r:embed="rId1"/>
          <a:stretch/>
        </p:blipFill>
        <p:spPr>
          <a:xfrm>
            <a:off x="2771640" y="1484280"/>
            <a:ext cx="3673440" cy="361152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7"/>
          <p:cNvSpPr/>
          <p:nvPr/>
        </p:nvSpPr>
        <p:spPr>
          <a:xfrm>
            <a:off x="6300720" y="2852640"/>
            <a:ext cx="20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7"/>
                </a:solidFill>
                <a:latin typeface="Comic Sans MS"/>
              </a:rPr>
              <a:t>y cuarto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Text Box 8"/>
          <p:cNvSpPr/>
          <p:nvPr/>
        </p:nvSpPr>
        <p:spPr>
          <a:xfrm>
            <a:off x="0" y="2997360"/>
            <a:ext cx="30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7"/>
                </a:solidFill>
                <a:latin typeface="Comic Sans MS"/>
              </a:rPr>
              <a:t>menos cuarto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Text Box 9"/>
          <p:cNvSpPr/>
          <p:nvPr/>
        </p:nvSpPr>
        <p:spPr>
          <a:xfrm>
            <a:off x="3564000" y="4941720"/>
            <a:ext cx="208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7"/>
                </a:solidFill>
                <a:latin typeface="Comic Sans MS"/>
              </a:rPr>
              <a:t>y</a:t>
            </a:r>
            <a:br>
              <a:rPr sz="3600"/>
            </a:br>
            <a:r>
              <a:rPr b="0" lang="en-GB" sz="3600" spc="-1" strike="noStrike">
                <a:solidFill>
                  <a:srgbClr val="fffff7"/>
                </a:solidFill>
                <a:latin typeface="Comic Sans MS"/>
              </a:rPr>
              <a:t>media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Text Box 10"/>
          <p:cNvSpPr/>
          <p:nvPr/>
        </p:nvSpPr>
        <p:spPr>
          <a:xfrm>
            <a:off x="2771640" y="0"/>
            <a:ext cx="3456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ff00"/>
                </a:solidFill>
                <a:latin typeface="Comic Sans MS"/>
              </a:rPr>
              <a:t>Es la una</a:t>
            </a:r>
            <a:br>
              <a:rPr sz="4400"/>
            </a:br>
            <a:r>
              <a:rPr b="0" lang="en-GB" sz="4400" spc="-1" strike="noStrike">
                <a:solidFill>
                  <a:srgbClr val="00ff00"/>
                </a:solidFill>
                <a:latin typeface="Comic Sans MS"/>
              </a:rPr>
              <a:t>Son las do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Text Box 11"/>
          <p:cNvSpPr/>
          <p:nvPr/>
        </p:nvSpPr>
        <p:spPr>
          <a:xfrm>
            <a:off x="5580000" y="148428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Comic Sans MS"/>
              </a:rPr>
              <a:t>y cinco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Text Box 12"/>
          <p:cNvSpPr/>
          <p:nvPr/>
        </p:nvSpPr>
        <p:spPr>
          <a:xfrm>
            <a:off x="6156360" y="220500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Comic Sans MS"/>
              </a:rPr>
              <a:t>y diez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Text Box 13"/>
          <p:cNvSpPr/>
          <p:nvPr/>
        </p:nvSpPr>
        <p:spPr>
          <a:xfrm>
            <a:off x="6156360" y="357336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Comic Sans MS"/>
              </a:rPr>
              <a:t>y veint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Text Box 14"/>
          <p:cNvSpPr/>
          <p:nvPr/>
        </p:nvSpPr>
        <p:spPr>
          <a:xfrm>
            <a:off x="5651640" y="4365720"/>
            <a:ext cx="31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Comic Sans MS"/>
              </a:rPr>
              <a:t>y veinticinco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Text Box 15"/>
          <p:cNvSpPr/>
          <p:nvPr/>
        </p:nvSpPr>
        <p:spPr>
          <a:xfrm>
            <a:off x="826920" y="1413000"/>
            <a:ext cx="280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Comic Sans MS"/>
              </a:rPr>
              <a:t>menos cinco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Text Box 16"/>
          <p:cNvSpPr/>
          <p:nvPr/>
        </p:nvSpPr>
        <p:spPr>
          <a:xfrm>
            <a:off x="250920" y="227664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Comic Sans MS"/>
              </a:rPr>
              <a:t>menos diez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Text Box 17"/>
          <p:cNvSpPr/>
          <p:nvPr/>
        </p:nvSpPr>
        <p:spPr>
          <a:xfrm>
            <a:off x="0" y="3789360"/>
            <a:ext cx="31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Comic Sans MS"/>
              </a:rPr>
              <a:t>menos veint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Text Box 18"/>
          <p:cNvSpPr/>
          <p:nvPr/>
        </p:nvSpPr>
        <p:spPr>
          <a:xfrm>
            <a:off x="0" y="4437000"/>
            <a:ext cx="378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Comic Sans MS"/>
              </a:rPr>
              <a:t>menos veinticinco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 Seccombe</cp:lastModifiedBy>
  <dcterms:modified xsi:type="dcterms:W3CDTF">2017-06-25T16:12:06Z</dcterms:modified>
  <cp:revision>265</cp:revision>
  <dc:subject/>
  <dc:title>TITLE</dc:title>
</cp:coreProperties>
</file>