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2350-3D1C-4551-BE3B-CAEA9F7D8C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74F1-9A60-4FDB-ACA1-BD78B59A29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8FF-9388-4D76-A383-2D270140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EBB-1F1F-48E1-B6BE-B0D8E7CD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026-F1E6-438A-9521-F21BF75B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B2B-9D0F-4766-ABF0-0E26254A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F5F8-8124-47CB-B728-0D02BB2C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03AB-03C1-4BA4-8264-EE6933B3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CFC4-F6A3-4887-86BA-E3E8C88C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CE3A-E4EE-4B0C-8A66-BFFD296D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50B1-C371-4016-8DA1-5F3977A5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09F8-9A7E-4FA3-844A-54E009D6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6D78-F490-4211-ABEB-FC95D5B1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51E-DBDA-4A1D-9A5E-734C6AD1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F681-FBF1-4723-B13B-6EC5E466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9CEE-8FFA-4594-8982-C566C6E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27B3-8F35-4A8A-A631-AE36F659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03B6-B2BE-408E-91E4-8BF05FFC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4ADC-1014-4339-A9B8-4EE33E87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D28A-ABF0-4386-9F88-9655AAB7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FC71-54AA-4502-8688-32388458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1A97-AB12-4A3F-A675-1169E7A1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C91AD-4535-4F73-9BDA-C2810F29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59F4-0373-4777-9200-46DC9C06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561-A423-4AEB-B3AE-7CBAD65D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905B-1F67-4668-B7E3-6052C2AF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44CD-12E9-4453-8D5C-EC5BDADB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9FA0-06E3-4C2B-9DB5-F65B0005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993D-7414-492A-B2FE-790289B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0349-8EB7-4258-832A-C6548624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CEE38-ED48-4E5F-993E-C1F93E94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498D-B246-4456-B349-D36BCA23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F2F-5FD8-4FD9-85DE-BDE483EE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60C-C9BD-4344-B804-02D84155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AD7-8039-46BD-84F1-908D9B53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A41-485F-4529-8502-ADA8149D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D71-970A-4B9B-A89D-5491A3D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5A3-CFA6-47DF-B9F1-97186D5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7E9B-77F2-430B-8595-905B2EFF4E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7298-960F-4F8F-B6AD-46B4630189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C263-7C77-47E1-B988-1C6AEC42CD9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250920" y="189000"/>
            <a:ext cx="86421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tch up the tim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ounded Rectangle 2"/>
          <p:cNvSpPr/>
          <p:nvPr/>
        </p:nvSpPr>
        <p:spPr>
          <a:xfrm>
            <a:off x="479520" y="1197000"/>
            <a:ext cx="244944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6:0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ounded Rectangle 6"/>
          <p:cNvSpPr/>
          <p:nvPr/>
        </p:nvSpPr>
        <p:spPr>
          <a:xfrm>
            <a:off x="479520" y="2276640"/>
            <a:ext cx="2449440" cy="86508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ounded Rectangle 7"/>
          <p:cNvSpPr/>
          <p:nvPr/>
        </p:nvSpPr>
        <p:spPr>
          <a:xfrm>
            <a:off x="479520" y="3357720"/>
            <a:ext cx="2449440" cy="86328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ounded Rectangle 8"/>
          <p:cNvSpPr/>
          <p:nvPr/>
        </p:nvSpPr>
        <p:spPr>
          <a:xfrm>
            <a:off x="479520" y="4437000"/>
            <a:ext cx="244944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ounded Rectangle 9"/>
          <p:cNvSpPr/>
          <p:nvPr/>
        </p:nvSpPr>
        <p:spPr>
          <a:xfrm>
            <a:off x="479520" y="5516640"/>
            <a:ext cx="2449440" cy="86508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ounded Rectangle 10"/>
          <p:cNvSpPr/>
          <p:nvPr/>
        </p:nvSpPr>
        <p:spPr>
          <a:xfrm>
            <a:off x="3348000" y="1197000"/>
            <a:ext cx="540072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n las d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ounded Rectangle 11"/>
          <p:cNvSpPr/>
          <p:nvPr/>
        </p:nvSpPr>
        <p:spPr>
          <a:xfrm>
            <a:off x="3348000" y="2271600"/>
            <a:ext cx="540072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n las diez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ounded Rectangle 12"/>
          <p:cNvSpPr/>
          <p:nvPr/>
        </p:nvSpPr>
        <p:spPr>
          <a:xfrm>
            <a:off x="3348000" y="3346560"/>
            <a:ext cx="540072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n las doc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ounded Rectangle 13"/>
          <p:cNvSpPr/>
          <p:nvPr/>
        </p:nvSpPr>
        <p:spPr>
          <a:xfrm>
            <a:off x="3348000" y="4421160"/>
            <a:ext cx="540072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n las sei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ounded Rectangle 14"/>
          <p:cNvSpPr/>
          <p:nvPr/>
        </p:nvSpPr>
        <p:spPr>
          <a:xfrm>
            <a:off x="3348000" y="5495760"/>
            <a:ext cx="5400720" cy="863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on las siet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10:20Z</dcterms:modified>
  <cp:revision>263</cp:revision>
  <dc:subject/>
  <dc:title>TITLE</dc:title>
</cp:coreProperties>
</file>