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3222-B073-403D-97C8-74D8A15E19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FB72-DC87-4388-8780-C11CC39399C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53D-5F1A-4425-ACC0-A8D87B5C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23A5-2B14-4672-A8AE-DB4698F5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006-CADC-472B-8FA7-32640E37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5CA5-0DD0-40E1-BC46-286CD2E7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E5D8-5ADC-4D1E-8154-02870A8D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AEC6-9B97-4590-B06F-F13CC986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9BFB-D29D-4378-9F4F-1593EF7C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A6D2-D63E-44C5-A167-50648654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3FED-186A-4131-A2ED-945C59C8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3748-3302-4A31-848F-B6AD7B94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9033-28AA-48CA-BAFB-8823F539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2FD-C88E-471F-9ABC-4EB86951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FB22-A207-4A90-9FA5-BBB1C2F7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0D2D-1BC6-4652-987D-85E1DDEA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188F-9F62-4898-814E-DF159AF3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2E7F-DE6D-42B7-A85C-63D39677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237F-944A-4295-9DE5-4B113A78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43D75-BB5B-46FE-BA10-E2F8DA91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745F4-28EE-4CE7-BB1A-C5259EC7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2025-4E4F-45A0-9190-515196CA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E4F57-FFB7-4F7B-9982-42B87165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08AE-1BDD-4B7D-B969-0EA9A207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97F-5969-4DC6-B3FA-3A410CF7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4FFC7-99FB-41E2-AAFB-466DE14B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740FF-F7AF-453E-B874-6673FAD5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F92AA-4846-4939-8740-AAA95173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6952E-7E97-4B82-B6E8-822A275F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D8B49-BB79-4AD3-8A0B-615B5B40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0C522-CA9E-4E36-8058-8BBCCEAD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E60D-F255-4100-8410-97A157E0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AC6-1F0A-4306-83D7-14E77948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95E-D465-40AB-BCD8-AD5D76F6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105E-AB07-4360-8719-CA583474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437-9166-48EE-BBF6-AABB82EB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13F-563D-4F9A-9586-86CAD616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091-0E3A-4993-8E91-4081A784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0E1E-7FBE-4E87-84F8-06DFBDE186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6F2B-F861-4F24-BE62-45CD18F717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D493-22CA-43D6-9E91-0C29F4C1E95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250920" y="189000"/>
            <a:ext cx="864216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tch up the tim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ounded Rectangle 2"/>
          <p:cNvSpPr/>
          <p:nvPr/>
        </p:nvSpPr>
        <p:spPr>
          <a:xfrm>
            <a:off x="479520" y="1197000"/>
            <a:ext cx="2449440" cy="863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6:00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ounded Rectangle 6"/>
          <p:cNvSpPr/>
          <p:nvPr/>
        </p:nvSpPr>
        <p:spPr>
          <a:xfrm>
            <a:off x="479520" y="2276640"/>
            <a:ext cx="2449440" cy="86508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ounded Rectangle 7"/>
          <p:cNvSpPr/>
          <p:nvPr/>
        </p:nvSpPr>
        <p:spPr>
          <a:xfrm>
            <a:off x="479520" y="3357720"/>
            <a:ext cx="2449440" cy="86328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ounded Rectangle 8"/>
          <p:cNvSpPr/>
          <p:nvPr/>
        </p:nvSpPr>
        <p:spPr>
          <a:xfrm>
            <a:off x="479520" y="4437000"/>
            <a:ext cx="2449440" cy="863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ounded Rectangle 9"/>
          <p:cNvSpPr/>
          <p:nvPr/>
        </p:nvSpPr>
        <p:spPr>
          <a:xfrm>
            <a:off x="479520" y="5516640"/>
            <a:ext cx="2449440" cy="86508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2:00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ounded Rectangle 10"/>
          <p:cNvSpPr/>
          <p:nvPr/>
        </p:nvSpPr>
        <p:spPr>
          <a:xfrm>
            <a:off x="3348000" y="1197000"/>
            <a:ext cx="5400720" cy="863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on las do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ounded Rectangle 11"/>
          <p:cNvSpPr/>
          <p:nvPr/>
        </p:nvSpPr>
        <p:spPr>
          <a:xfrm>
            <a:off x="3348000" y="2271600"/>
            <a:ext cx="5400720" cy="863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on las diez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ounded Rectangle 12"/>
          <p:cNvSpPr/>
          <p:nvPr/>
        </p:nvSpPr>
        <p:spPr>
          <a:xfrm>
            <a:off x="3348000" y="3346560"/>
            <a:ext cx="5400720" cy="863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on las doc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ounded Rectangle 13"/>
          <p:cNvSpPr/>
          <p:nvPr/>
        </p:nvSpPr>
        <p:spPr>
          <a:xfrm>
            <a:off x="3348000" y="4421160"/>
            <a:ext cx="5400720" cy="863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on las sei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ounded Rectangle 14"/>
          <p:cNvSpPr/>
          <p:nvPr/>
        </p:nvSpPr>
        <p:spPr>
          <a:xfrm>
            <a:off x="3348000" y="5495760"/>
            <a:ext cx="5400720" cy="863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on las siet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6:10:20Z</dcterms:modified>
  <cp:revision>263</cp:revision>
  <dc:subject/>
  <dc:title>TITLE</dc:title>
</cp:coreProperties>
</file>