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33A5-15C1-40EE-A980-E89CD8C2056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08AA-14DC-4965-A198-A0AA570AE44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069-618E-4F8C-94C7-48470C0A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B04-1104-40EC-8420-CC1F9E75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2E8-9833-4656-99C6-851EC5BA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CF3-51A1-46FF-85F5-B7606953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4BB3-75EE-4E0C-A0CF-8F0B2C04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CCEB-0D2D-4385-9059-EF464C66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CE89-C05F-4CD0-BDFA-5BFDBCAC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F82A-6401-4895-88DB-7DFA373B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1EB9-7F5C-4970-8B78-7628E7E1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3314-9D68-4C54-909D-E891DE79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E889-15AD-4F91-B40A-CD4875FE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D46-ECD7-4E1B-80D6-AC706F69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23AD-26E7-4246-A991-5B232AE3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1303-EB99-4B8A-87C2-E366E591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0637-FC3D-43F1-8A39-1B889B1A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E0B9-2D7A-4E6A-AC6D-8DF631D9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1E2A-A33F-4B76-8A34-93D62558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0C76D-21E9-4B0C-91C7-90ED4FC8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85CD7-2EF6-48FD-BE0C-490136F3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2294F-7F85-4A6E-BBB1-09C034A9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A6116-11F3-468F-A1EE-5BC22837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6C00C-05A1-433A-AEAB-15DD1FE6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4D9-C10C-479B-BC09-D4BE4931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04814-EC4C-4A23-8956-81CE6977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3C890-3E97-4F3D-A372-999EA155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B4C77-62C3-4993-9900-45690D11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34DBD-B2A1-4CCE-BCCA-047BD39A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B2664-ABBA-429C-AA26-DBE08A46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07A6E-3002-4562-A711-AA43BE16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BE523-39EE-4FE0-8288-D0E5A066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2A7-12BB-4AFB-A14B-27E13193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4313-691B-4E17-86C4-285BB7F4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D4C-B3F3-45E4-9A85-06A0BA20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DAE-68CC-48A8-9C46-A9D4579E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89D-9922-423D-A514-C0E7CD64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88D-8AD1-4699-A0E7-3BB7F820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003E-36E2-40A3-8169-AF424335453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59E4-21FD-4A36-925B-A868861827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2293-18D4-49E7-876C-49387086701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5" descr="C:\Users\Clare\AppData\Local\Microsoft\Windows\Temporary Internet Files\Content.IE5\TMW2PP1K\redherring[1].jpg"/>
          <p:cNvPicPr/>
          <p:nvPr/>
        </p:nvPicPr>
        <p:blipFill>
          <a:blip r:embed="rId1"/>
          <a:stretch/>
        </p:blipFill>
        <p:spPr>
          <a:xfrm>
            <a:off x="108000" y="476280"/>
            <a:ext cx="2230560" cy="158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2843280" y="476280"/>
            <a:ext cx="172872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33" name="Straight Arrow Connector 2"/>
          <p:cNvCxnSpPr/>
          <p:nvPr/>
        </p:nvCxnSpPr>
        <p:spPr>
          <a:xfrm flipH="1" flipV="1">
            <a:off x="2987280" y="1340640"/>
            <a:ext cx="7214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4" name="Straight Arrow Connector 6"/>
          <p:cNvCxnSpPr/>
          <p:nvPr/>
        </p:nvCxnSpPr>
        <p:spPr>
          <a:xfrm flipV="1">
            <a:off x="3708360" y="1125000"/>
            <a:ext cx="432720" cy="21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4859280" y="476280"/>
            <a:ext cx="172872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36" name="Straight Arrow Connector 15"/>
          <p:cNvCxnSpPr>
            <a:endCxn id="135" idx="0"/>
          </p:cNvCxnSpPr>
          <p:nvPr/>
        </p:nvCxnSpPr>
        <p:spPr>
          <a:xfrm flipH="1" flipV="1">
            <a:off x="5723640" y="476280"/>
            <a:ext cx="1080" cy="865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37" name="Straight Arrow Connector 16"/>
          <p:cNvCxnSpPr/>
          <p:nvPr/>
        </p:nvCxnSpPr>
        <p:spPr>
          <a:xfrm flipH="1">
            <a:off x="5508000" y="1341360"/>
            <a:ext cx="216360" cy="4327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38" name="Picture 6" descr=""/>
          <p:cNvPicPr/>
          <p:nvPr/>
        </p:nvPicPr>
        <p:blipFill>
          <a:blip r:embed="rId4"/>
          <a:stretch/>
        </p:blipFill>
        <p:spPr>
          <a:xfrm>
            <a:off x="6894360" y="476280"/>
            <a:ext cx="172728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39" name="Straight Arrow Connector 21"/>
          <p:cNvCxnSpPr>
            <a:endCxn id="138" idx="2"/>
          </p:cNvCxnSpPr>
          <p:nvPr/>
        </p:nvCxnSpPr>
        <p:spPr>
          <a:xfrm>
            <a:off x="7757640" y="1341000"/>
            <a:ext cx="720" cy="86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0" name="Straight Arrow Connector 22"/>
          <p:cNvCxnSpPr/>
          <p:nvPr/>
        </p:nvCxnSpPr>
        <p:spPr>
          <a:xfrm flipV="1">
            <a:off x="7758000" y="1340640"/>
            <a:ext cx="4327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41" name="Picture 6" descr=""/>
          <p:cNvPicPr/>
          <p:nvPr/>
        </p:nvPicPr>
        <p:blipFill>
          <a:blip r:embed="rId5"/>
          <a:stretch/>
        </p:blipFill>
        <p:spPr>
          <a:xfrm>
            <a:off x="2843280" y="2492280"/>
            <a:ext cx="172872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42" name="Straight Arrow Connector 26"/>
          <p:cNvCxnSpPr/>
          <p:nvPr/>
        </p:nvCxnSpPr>
        <p:spPr>
          <a:xfrm>
            <a:off x="3708000" y="3357360"/>
            <a:ext cx="1080" cy="43236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43" name="Straight Arrow Connector 27"/>
          <p:cNvCxnSpPr>
            <a:endCxn id="141" idx="0"/>
          </p:cNvCxnSpPr>
          <p:nvPr/>
        </p:nvCxnSpPr>
        <p:spPr>
          <a:xfrm flipH="1" flipV="1">
            <a:off x="3707640" y="2492280"/>
            <a:ext cx="1080" cy="86580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44" name="Picture 6" descr=""/>
          <p:cNvPicPr/>
          <p:nvPr/>
        </p:nvPicPr>
        <p:blipFill>
          <a:blip r:embed="rId6"/>
          <a:stretch/>
        </p:blipFill>
        <p:spPr>
          <a:xfrm>
            <a:off x="4859280" y="2492280"/>
            <a:ext cx="172872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45" name="Straight Arrow Connector 33"/>
          <p:cNvCxnSpPr/>
          <p:nvPr/>
        </p:nvCxnSpPr>
        <p:spPr>
          <a:xfrm flipV="1">
            <a:off x="5724000" y="2636640"/>
            <a:ext cx="1080" cy="72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6" name="Straight Arrow Connector 34"/>
          <p:cNvCxnSpPr/>
          <p:nvPr/>
        </p:nvCxnSpPr>
        <p:spPr>
          <a:xfrm flipV="1">
            <a:off x="5724360" y="2996640"/>
            <a:ext cx="216720" cy="36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47" name="Picture 6" descr=""/>
          <p:cNvPicPr/>
          <p:nvPr/>
        </p:nvPicPr>
        <p:blipFill>
          <a:blip r:embed="rId7"/>
          <a:stretch/>
        </p:blipFill>
        <p:spPr>
          <a:xfrm>
            <a:off x="6894360" y="2492280"/>
            <a:ext cx="172728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48" name="Straight Arrow Connector 37"/>
          <p:cNvCxnSpPr/>
          <p:nvPr/>
        </p:nvCxnSpPr>
        <p:spPr>
          <a:xfrm>
            <a:off x="7757640" y="3357360"/>
            <a:ext cx="702360" cy="1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49" name="Straight Arrow Connector 38"/>
          <p:cNvCxnSpPr/>
          <p:nvPr/>
        </p:nvCxnSpPr>
        <p:spPr>
          <a:xfrm flipV="1">
            <a:off x="7757640" y="2925360"/>
            <a:ext cx="1080" cy="4327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50" name="Picture 6" descr=""/>
          <p:cNvPicPr/>
          <p:nvPr/>
        </p:nvPicPr>
        <p:blipFill>
          <a:blip r:embed="rId8"/>
          <a:stretch/>
        </p:blipFill>
        <p:spPr>
          <a:xfrm>
            <a:off x="2841480" y="4508640"/>
            <a:ext cx="172908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51" name="Straight Arrow Connector 42"/>
          <p:cNvCxnSpPr>
            <a:endCxn id="150" idx="2"/>
          </p:cNvCxnSpPr>
          <p:nvPr/>
        </p:nvCxnSpPr>
        <p:spPr>
          <a:xfrm flipH="1">
            <a:off x="3705840" y="5373360"/>
            <a:ext cx="1080" cy="86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2" name="Straight Arrow Connector 43"/>
          <p:cNvCxnSpPr/>
          <p:nvPr/>
        </p:nvCxnSpPr>
        <p:spPr>
          <a:xfrm flipH="1" flipV="1">
            <a:off x="3347280" y="5157360"/>
            <a:ext cx="359640" cy="21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3" name="Picture 6" descr=""/>
          <p:cNvPicPr/>
          <p:nvPr/>
        </p:nvPicPr>
        <p:blipFill>
          <a:blip r:embed="rId9"/>
          <a:stretch/>
        </p:blipFill>
        <p:spPr>
          <a:xfrm>
            <a:off x="4859280" y="4508640"/>
            <a:ext cx="172872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54" name="Straight Arrow Connector 48"/>
          <p:cNvCxnSpPr/>
          <p:nvPr/>
        </p:nvCxnSpPr>
        <p:spPr>
          <a:xfrm>
            <a:off x="5724360" y="5373360"/>
            <a:ext cx="216720" cy="35964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55" name="Straight Arrow Connector 49"/>
          <p:cNvCxnSpPr>
            <a:endCxn id="153" idx="1"/>
          </p:cNvCxnSpPr>
          <p:nvPr/>
        </p:nvCxnSpPr>
        <p:spPr>
          <a:xfrm flipH="1" flipV="1">
            <a:off x="4859280" y="5373000"/>
            <a:ext cx="865080" cy="1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56" name="Picture 6" descr=""/>
          <p:cNvPicPr/>
          <p:nvPr/>
        </p:nvPicPr>
        <p:blipFill>
          <a:blip r:embed="rId10"/>
          <a:stretch/>
        </p:blipFill>
        <p:spPr>
          <a:xfrm>
            <a:off x="6894360" y="4508640"/>
            <a:ext cx="172728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57" name="Straight Arrow Connector 53"/>
          <p:cNvCxnSpPr>
            <a:endCxn id="156" idx="3"/>
          </p:cNvCxnSpPr>
          <p:nvPr/>
        </p:nvCxnSpPr>
        <p:spPr>
          <a:xfrm flipV="1">
            <a:off x="7757640" y="5373000"/>
            <a:ext cx="864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8" name="Straight Arrow Connector 54"/>
          <p:cNvCxnSpPr/>
          <p:nvPr/>
        </p:nvCxnSpPr>
        <p:spPr>
          <a:xfrm flipH="1">
            <a:off x="7379640" y="5373720"/>
            <a:ext cx="378360" cy="28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9-02-04T09:16:46Z</dcterms:modified>
  <cp:revision>267</cp:revision>
  <dc:subject/>
  <dc:title>TITLE</dc:title>
</cp:coreProperties>
</file>