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21D-31CA-47F0-B088-667BFC41A4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9BB-AD27-49C3-9BD0-B9E5AA0131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41E-3EC7-4BCB-BC76-4D4117E0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BFB-CCF8-4DA2-B2CD-FA8C25C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BCA-A6DD-497B-8BD3-FD6CB0F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FB6-06D6-4884-B374-7B88B0CC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3FB8-72EA-49E7-A544-57EFB5F9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015-A747-4288-BB4C-F2FE7E47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EE1-BCA3-472C-8556-C8973D0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FCF-F542-4FE4-B41F-30C7711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D76-B897-4546-81AE-525C2D7F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8250-CF68-4C56-8D55-25442867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E78-C4B7-4C87-97FA-E7D6B77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2BE-3624-4DDF-B477-8C10DBA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5E7-6798-4DEB-A081-5C1CE5C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DCC-7B67-4DEC-95B8-2C2425E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6DB2-6A99-4BD0-B499-17571B2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2391-3BA1-4C56-BB2D-219C1BB6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1F05-CE06-454A-9E0A-AB4D2550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9DE3-FD79-4FD6-B5FD-C296D907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9781-A2C4-485A-91D4-C0BDE26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4289-2F0D-4F7D-A16F-37D493A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92F0-4ED9-4409-9063-5BB297F4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21CA-F483-477B-AAC3-947BEB21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586-E278-4EB0-8A4F-2B914086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712C-9BEE-4A56-B9D2-1053A06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886B-B9FC-4D40-BD26-D2B644E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FC28-A74D-4BC8-9D27-3F945E7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883B-F272-420B-8C7B-50ADE748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A2BA-81AD-4967-9623-BC610E64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B8E3-D954-403C-B16B-2182FF43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1A34-A576-4CE9-BE29-77BA4F9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C8E-450B-4766-8682-05AD74B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84C-1548-4654-84A0-14F97C20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E22-2A13-4C0D-8C9F-21D1E9FA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F57-D611-430C-BF16-8777822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D9C-60E8-43D8-B555-E66B20B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41E-626E-4461-AAFB-DF87E75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0A5B-10F0-49C5-81BE-A462B57F7E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C67-7DAA-4D40-BAE3-6C87C9CF0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6D54-5E24-4B1B-BE12-7F6EDFBF3C8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5" descr="C:\Users\Clare\AppData\Local\Microsoft\Windows\Temporary Internet Files\Content.IE5\TMW2PP1K\redherring[1].jpg"/>
          <p:cNvPicPr/>
          <p:nvPr/>
        </p:nvPicPr>
        <p:blipFill>
          <a:blip r:embed="rId1"/>
          <a:stretch/>
        </p:blipFill>
        <p:spPr>
          <a:xfrm>
            <a:off x="108000" y="47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2"/>
          <p:cNvCxnSpPr/>
          <p:nvPr/>
        </p:nvCxnSpPr>
        <p:spPr>
          <a:xfrm flipH="1" flipV="1">
            <a:off x="2987280" y="13406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Straight Arrow Connector 6"/>
          <p:cNvCxnSpPr/>
          <p:nvPr/>
        </p:nvCxnSpPr>
        <p:spPr>
          <a:xfrm flipV="1">
            <a:off x="3708360" y="1125000"/>
            <a:ext cx="43272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15"/>
          <p:cNvCxnSpPr>
            <a:endCxn id="135" idx="0"/>
          </p:cNvCxnSpPr>
          <p:nvPr/>
        </p:nvCxnSpPr>
        <p:spPr>
          <a:xfrm flipH="1" flipV="1">
            <a:off x="5723640" y="476280"/>
            <a:ext cx="1080" cy="865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 flipH="1">
            <a:off x="5508000" y="1341360"/>
            <a:ext cx="21636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894360" y="476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1"/>
          <p:cNvCxnSpPr>
            <a:endCxn id="138" idx="2"/>
          </p:cNvCxnSpPr>
          <p:nvPr/>
        </p:nvCxnSpPr>
        <p:spPr>
          <a:xfrm>
            <a:off x="7757640" y="1341000"/>
            <a:ext cx="72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0" name="Straight Arrow Connector 22"/>
          <p:cNvCxnSpPr/>
          <p:nvPr/>
        </p:nvCxnSpPr>
        <p:spPr>
          <a:xfrm flipV="1">
            <a:off x="7758000" y="1340640"/>
            <a:ext cx="43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2843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6"/>
          <p:cNvCxnSpPr/>
          <p:nvPr/>
        </p:nvCxnSpPr>
        <p:spPr>
          <a:xfrm>
            <a:off x="3708000" y="3357360"/>
            <a:ext cx="108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3" name="Straight Arrow Connector 27"/>
          <p:cNvCxnSpPr>
            <a:endCxn id="141" idx="0"/>
          </p:cNvCxnSpPr>
          <p:nvPr/>
        </p:nvCxnSpPr>
        <p:spPr>
          <a:xfrm flipH="1" flipV="1">
            <a:off x="3707640" y="2492280"/>
            <a:ext cx="1080" cy="86580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44" name="Picture 6" descr=""/>
          <p:cNvPicPr/>
          <p:nvPr/>
        </p:nvPicPr>
        <p:blipFill>
          <a:blip r:embed="rId6"/>
          <a:stretch/>
        </p:blipFill>
        <p:spPr>
          <a:xfrm>
            <a:off x="4859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33"/>
          <p:cNvCxnSpPr/>
          <p:nvPr/>
        </p:nvCxnSpPr>
        <p:spPr>
          <a:xfrm flipV="1">
            <a:off x="5724000" y="263664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Straight Arrow Connector 34"/>
          <p:cNvCxnSpPr/>
          <p:nvPr/>
        </p:nvCxnSpPr>
        <p:spPr>
          <a:xfrm flipV="1">
            <a:off x="5724360" y="2996640"/>
            <a:ext cx="21672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6894360" y="2492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37"/>
          <p:cNvCxnSpPr/>
          <p:nvPr/>
        </p:nvCxnSpPr>
        <p:spPr>
          <a:xfrm>
            <a:off x="7757640" y="3357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9" name="Straight Arrow Connector 38"/>
          <p:cNvCxnSpPr/>
          <p:nvPr/>
        </p:nvCxnSpPr>
        <p:spPr>
          <a:xfrm flipV="1">
            <a:off x="7757640" y="2925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0" name="Picture 6" descr=""/>
          <p:cNvPicPr/>
          <p:nvPr/>
        </p:nvPicPr>
        <p:blipFill>
          <a:blip r:embed="rId8"/>
          <a:stretch/>
        </p:blipFill>
        <p:spPr>
          <a:xfrm>
            <a:off x="2841480" y="4508640"/>
            <a:ext cx="17290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2"/>
          <p:cNvCxnSpPr>
            <a:endCxn id="150" idx="2"/>
          </p:cNvCxnSpPr>
          <p:nvPr/>
        </p:nvCxnSpPr>
        <p:spPr>
          <a:xfrm flipH="1">
            <a:off x="3705840" y="537336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43"/>
          <p:cNvCxnSpPr/>
          <p:nvPr/>
        </p:nvCxnSpPr>
        <p:spPr>
          <a:xfrm flipH="1" flipV="1">
            <a:off x="3347280" y="5157360"/>
            <a:ext cx="35964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3" name="Picture 6" descr=""/>
          <p:cNvPicPr/>
          <p:nvPr/>
        </p:nvPicPr>
        <p:blipFill>
          <a:blip r:embed="rId9"/>
          <a:stretch/>
        </p:blipFill>
        <p:spPr>
          <a:xfrm>
            <a:off x="4859280" y="450864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48"/>
          <p:cNvCxnSpPr/>
          <p:nvPr/>
        </p:nvCxnSpPr>
        <p:spPr>
          <a:xfrm>
            <a:off x="5724360" y="5373360"/>
            <a:ext cx="216720" cy="3596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5" name="Straight Arrow Connector 49"/>
          <p:cNvCxnSpPr>
            <a:endCxn id="153" idx="1"/>
          </p:cNvCxnSpPr>
          <p:nvPr/>
        </p:nvCxnSpPr>
        <p:spPr>
          <a:xfrm flipH="1" flipV="1">
            <a:off x="4859280" y="5373000"/>
            <a:ext cx="86508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6" name="Picture 6" descr=""/>
          <p:cNvPicPr/>
          <p:nvPr/>
        </p:nvPicPr>
        <p:blipFill>
          <a:blip r:embed="rId10"/>
          <a:stretch/>
        </p:blipFill>
        <p:spPr>
          <a:xfrm>
            <a:off x="6894360" y="450864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53"/>
          <p:cNvCxnSpPr>
            <a:endCxn id="156" idx="3"/>
          </p:cNvCxnSpPr>
          <p:nvPr/>
        </p:nvCxnSpPr>
        <p:spPr>
          <a:xfrm flipV="1">
            <a:off x="7757640" y="5373000"/>
            <a:ext cx="8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8" name="Straight Arrow Connector 54"/>
          <p:cNvCxnSpPr/>
          <p:nvPr/>
        </p:nvCxnSpPr>
        <p:spPr>
          <a:xfrm flipH="1">
            <a:off x="7379640" y="5373720"/>
            <a:ext cx="37836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2-04T09:16:46Z</dcterms:modified>
  <cp:revision>267</cp:revision>
  <dc:subject/>
  <dc:title>TITLE</dc:title>
</cp:coreProperties>
</file>