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3FF-53F3-4E7A-8C98-AFC4A3514C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5EB-B0C5-4F5B-B62D-2BA6171F1E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8F9-720E-4971-9288-FA123CC1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3E6-A38D-4B54-BF0F-B20B55A7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3ED-F3AF-48FD-9D96-10A47BC1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3DC-262B-4B9B-BDED-C1739561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77F6-135A-4B39-A6E6-B7FF622D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37FE-226C-4D64-87B9-E3779CAC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43E0-051F-46BB-AB81-7E326E92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6BF8-C197-4DBB-BEB3-F7B93BC0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7183-31DB-49AF-8AE0-7A839A5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1133-2202-4575-9ADA-83C043D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B79-CC5F-4CD3-AB85-A5E3155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56A-5BE7-4AE9-B213-6EAE615F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2C21-4BE3-4BEF-8473-23208C1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C8A3-6BD2-497A-A6E8-92A33A33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37E3-80FF-427B-8D31-918A8104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2D16-2381-449E-BD43-CCE3CB56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F6DD-3A05-4D3C-806B-FD1DF96E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015C-43D9-4393-84AF-2F52C9A4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1872-4565-4954-B5A5-275B08BC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2836-ACCB-4A01-9D80-F33CFDE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262A-7ABD-4FB2-BECE-203D40C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426D-F44B-4B4A-BA3F-8CC16390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7E3-A5CE-47BE-8384-5611D65B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8B34-401B-44D7-BCE3-29CDC004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E53A-46BC-4A56-9239-626B7F6F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418B-B463-45E0-9D61-6441415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D789-ACF9-4797-8F2A-EF6C2558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B0A2-CF94-4C5B-AA17-D2B81EBC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75F3-FC66-4FC5-A953-198C9E39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CB5A-BCE8-4F1C-A7AF-8C1434C0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499-97BE-4EA3-ABC9-5705B57B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659-2E8C-4ACF-A7C6-FFFC39A9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35D-161F-4C7D-9B72-AE5087E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45E-C8D1-4358-941C-69C874A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EBC-A0A8-471A-984A-D28FA55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D2A-3344-49E2-BF36-38E13E3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286E-0219-458D-8425-043B51BA7F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D40-51C6-4383-9154-0D0BE80E67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0250-81AB-4AF6-99BF-1F9681642C7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5" descr="C:\Users\Clare\AppData\Local\Microsoft\Windows\Temporary Internet Files\Content.IE5\TMW2PP1K\redherring[1].jpg"/>
          <p:cNvPicPr/>
          <p:nvPr/>
        </p:nvPicPr>
        <p:blipFill>
          <a:blip r:embed="rId1"/>
          <a:stretch/>
        </p:blipFill>
        <p:spPr>
          <a:xfrm>
            <a:off x="108000" y="47628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2"/>
          <p:cNvCxnSpPr/>
          <p:nvPr/>
        </p:nvCxnSpPr>
        <p:spPr>
          <a:xfrm flipV="1">
            <a:off x="3708000" y="62028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Straight Arrow Connector 6"/>
          <p:cNvCxnSpPr/>
          <p:nvPr/>
        </p:nvCxnSpPr>
        <p:spPr>
          <a:xfrm>
            <a:off x="3708360" y="1341000"/>
            <a:ext cx="43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15"/>
          <p:cNvCxnSpPr>
            <a:endCxn id="135" idx="2"/>
          </p:cNvCxnSpPr>
          <p:nvPr/>
        </p:nvCxnSpPr>
        <p:spPr>
          <a:xfrm flipH="1">
            <a:off x="5723640" y="1341000"/>
            <a:ext cx="720" cy="864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7" name="Straight Arrow Connector 16"/>
          <p:cNvCxnSpPr/>
          <p:nvPr/>
        </p:nvCxnSpPr>
        <p:spPr>
          <a:xfrm flipH="1" flipV="1">
            <a:off x="5616000" y="907560"/>
            <a:ext cx="108360" cy="434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6894360" y="476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21"/>
          <p:cNvCxnSpPr/>
          <p:nvPr/>
        </p:nvCxnSpPr>
        <p:spPr>
          <a:xfrm flipV="1">
            <a:off x="7757640" y="62028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0" name="Straight Arrow Connector 22"/>
          <p:cNvCxnSpPr/>
          <p:nvPr/>
        </p:nvCxnSpPr>
        <p:spPr>
          <a:xfrm flipH="1">
            <a:off x="7379640" y="1341360"/>
            <a:ext cx="37836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2843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6"/>
          <p:cNvCxnSpPr/>
          <p:nvPr/>
        </p:nvCxnSpPr>
        <p:spPr>
          <a:xfrm>
            <a:off x="3708360" y="3357360"/>
            <a:ext cx="28800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3" name="Straight Arrow Connector 27"/>
          <p:cNvCxnSpPr>
            <a:endCxn id="141" idx="3"/>
          </p:cNvCxnSpPr>
          <p:nvPr/>
        </p:nvCxnSpPr>
        <p:spPr>
          <a:xfrm flipV="1">
            <a:off x="3708000" y="3356640"/>
            <a:ext cx="864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44" name="Picture 6" descr=""/>
          <p:cNvPicPr/>
          <p:nvPr/>
        </p:nvPicPr>
        <p:blipFill>
          <a:blip r:embed="rId6"/>
          <a:stretch/>
        </p:blipFill>
        <p:spPr>
          <a:xfrm>
            <a:off x="4859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33"/>
          <p:cNvCxnSpPr/>
          <p:nvPr/>
        </p:nvCxnSpPr>
        <p:spPr>
          <a:xfrm flipV="1">
            <a:off x="5724000" y="263664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Straight Arrow Connector 34"/>
          <p:cNvCxnSpPr/>
          <p:nvPr/>
        </p:nvCxnSpPr>
        <p:spPr>
          <a:xfrm flipV="1">
            <a:off x="5724360" y="2996640"/>
            <a:ext cx="21672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7" name="Picture 6" descr=""/>
          <p:cNvPicPr/>
          <p:nvPr/>
        </p:nvPicPr>
        <p:blipFill>
          <a:blip r:embed="rId7"/>
          <a:stretch/>
        </p:blipFill>
        <p:spPr>
          <a:xfrm>
            <a:off x="6894360" y="2492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37"/>
          <p:cNvCxnSpPr/>
          <p:nvPr/>
        </p:nvCxnSpPr>
        <p:spPr>
          <a:xfrm flipH="1">
            <a:off x="7019640" y="3357360"/>
            <a:ext cx="73872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9" name="Straight Arrow Connector 38"/>
          <p:cNvCxnSpPr/>
          <p:nvPr/>
        </p:nvCxnSpPr>
        <p:spPr>
          <a:xfrm>
            <a:off x="7758000" y="3357720"/>
            <a:ext cx="432720" cy="1432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0" name="Picture 6" descr=""/>
          <p:cNvPicPr/>
          <p:nvPr/>
        </p:nvPicPr>
        <p:blipFill>
          <a:blip r:embed="rId8"/>
          <a:stretch/>
        </p:blipFill>
        <p:spPr>
          <a:xfrm>
            <a:off x="2841480" y="4508640"/>
            <a:ext cx="17290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2"/>
          <p:cNvCxnSpPr>
            <a:endCxn id="150" idx="2"/>
          </p:cNvCxnSpPr>
          <p:nvPr/>
        </p:nvCxnSpPr>
        <p:spPr>
          <a:xfrm flipH="1">
            <a:off x="3705840" y="537336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Straight Arrow Connector 43"/>
          <p:cNvCxnSpPr/>
          <p:nvPr/>
        </p:nvCxnSpPr>
        <p:spPr>
          <a:xfrm flipH="1" flipV="1">
            <a:off x="3276000" y="5299920"/>
            <a:ext cx="430920" cy="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3" name="Picture 6" descr=""/>
          <p:cNvPicPr/>
          <p:nvPr/>
        </p:nvPicPr>
        <p:blipFill>
          <a:blip r:embed="rId9"/>
          <a:stretch/>
        </p:blipFill>
        <p:spPr>
          <a:xfrm>
            <a:off x="4859280" y="450864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4" name="Straight Arrow Connector 48"/>
          <p:cNvCxnSpPr/>
          <p:nvPr/>
        </p:nvCxnSpPr>
        <p:spPr>
          <a:xfrm flipH="1">
            <a:off x="5508000" y="5373360"/>
            <a:ext cx="216360" cy="35964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5" name="Straight Arrow Connector 49"/>
          <p:cNvCxnSpPr>
            <a:endCxn id="153" idx="3"/>
          </p:cNvCxnSpPr>
          <p:nvPr/>
        </p:nvCxnSpPr>
        <p:spPr>
          <a:xfrm flipV="1">
            <a:off x="5724000" y="5373000"/>
            <a:ext cx="864360" cy="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6" name="Picture 6" descr=""/>
          <p:cNvPicPr/>
          <p:nvPr/>
        </p:nvPicPr>
        <p:blipFill>
          <a:blip r:embed="rId10"/>
          <a:stretch/>
        </p:blipFill>
        <p:spPr>
          <a:xfrm>
            <a:off x="6894360" y="450864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53"/>
          <p:cNvCxnSpPr/>
          <p:nvPr/>
        </p:nvCxnSpPr>
        <p:spPr>
          <a:xfrm flipH="1">
            <a:off x="7019640" y="5373360"/>
            <a:ext cx="738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8" name="Straight Arrow Connector 54"/>
          <p:cNvCxnSpPr/>
          <p:nvPr/>
        </p:nvCxnSpPr>
        <p:spPr>
          <a:xfrm flipH="1">
            <a:off x="7308360" y="5373360"/>
            <a:ext cx="450000" cy="3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1:09Z</dcterms:modified>
  <cp:revision>265</cp:revision>
  <dc:subject/>
  <dc:title>TITLE</dc:title>
</cp:coreProperties>
</file>