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A2A-D8AC-4679-B6F1-D4E56ADFFA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8B1F-27DE-4CC1-976A-B8122064E6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EB5-983C-454B-9AD5-9787EFB8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756-E28A-4D0D-A308-9CD3B45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F24-82D4-4972-8F17-4C4C581C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C49-F834-41B3-BE96-EC4623E6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F68A-AF21-4F21-8B25-AA329C6F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1DD5-3BCD-41AC-BA04-C3A0A34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A95-45C7-4380-9713-C552DAA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B85-6DDD-4BD4-83C5-9174465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965-C90E-435A-B136-EA17B635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BFF1-1075-4FEB-B387-C501D4D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1E7D-C0DC-4845-B7D1-B9AD784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8A5-6B8A-4CEE-B5D8-EA7945E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6F8-83C9-45B7-B116-939C869A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3F1-60F1-4381-9FA8-2862B99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BF3-A1A1-46F6-81BA-71310441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97D-6F6D-4EAA-8299-3AFF411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BCB-03BF-44F5-B594-DD4FA12E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1529-1BB5-4BAA-98D3-DCA66167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E43B-F457-44BB-B866-A13D42DF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FDA9-0167-4DE4-B5DB-0D4CD0E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14D3-D642-4E53-8703-2D12566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BF12-CA11-4F6B-8B6A-7594EDD9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721-BDDA-4CE8-8F95-A8E09B1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94BA-5EFB-4C41-B035-F288560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10BC-333E-40E4-889F-1F97455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5A6B-2335-4814-83AF-39374A5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D90F-581C-4E97-A8F4-31D8A39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8726-84CE-49EB-A055-16C9B95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E2BA-B3B6-4E8E-A2C9-BDD8671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F403-0927-4C2E-A4FB-38AB5210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494-B66E-4071-B01D-3025B6D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EC7-04B9-4C42-88C1-22F46C6B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926-B0D3-4EB2-BC57-F471122E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0BC-F74A-4871-9355-3318EB3F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20F-1F72-4DD2-A11D-D508B65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3EE-FE7C-415C-B3E9-CDE1BA4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E0F6-3B06-45A3-913A-CFF8E6B1E4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4AD3-9D25-4BBD-A0BD-44A2442691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BDC6-E65C-4F5B-B4BA-9300700C86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5" descr="C:\Users\Clare\AppData\Local\Microsoft\Windows\Temporary Internet Files\Content.IE5\TMW2PP1K\redherring[1].jpg"/>
          <p:cNvPicPr/>
          <p:nvPr/>
        </p:nvPicPr>
        <p:blipFill>
          <a:blip r:embed="rId1"/>
          <a:stretch/>
        </p:blipFill>
        <p:spPr>
          <a:xfrm>
            <a:off x="108000" y="47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2"/>
          <p:cNvCxnSpPr/>
          <p:nvPr/>
        </p:nvCxnSpPr>
        <p:spPr>
          <a:xfrm flipV="1">
            <a:off x="3708000" y="62028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Straight Arrow Connector 6"/>
          <p:cNvCxnSpPr/>
          <p:nvPr/>
        </p:nvCxnSpPr>
        <p:spPr>
          <a:xfrm>
            <a:off x="3708360" y="1341000"/>
            <a:ext cx="43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15"/>
          <p:cNvCxnSpPr>
            <a:endCxn id="135" idx="2"/>
          </p:cNvCxnSpPr>
          <p:nvPr/>
        </p:nvCxnSpPr>
        <p:spPr>
          <a:xfrm flipH="1">
            <a:off x="5723640" y="1341000"/>
            <a:ext cx="720" cy="864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 flipH="1" flipV="1">
            <a:off x="5616000" y="907560"/>
            <a:ext cx="108360" cy="434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894360" y="476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1"/>
          <p:cNvCxnSpPr/>
          <p:nvPr/>
        </p:nvCxnSpPr>
        <p:spPr>
          <a:xfrm flipV="1">
            <a:off x="7757640" y="62028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0" name="Straight Arrow Connector 22"/>
          <p:cNvCxnSpPr/>
          <p:nvPr/>
        </p:nvCxnSpPr>
        <p:spPr>
          <a:xfrm flipH="1">
            <a:off x="7379640" y="1341360"/>
            <a:ext cx="37836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2843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6"/>
          <p:cNvCxnSpPr/>
          <p:nvPr/>
        </p:nvCxnSpPr>
        <p:spPr>
          <a:xfrm>
            <a:off x="3708360" y="3357360"/>
            <a:ext cx="28800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3" name="Straight Arrow Connector 27"/>
          <p:cNvCxnSpPr>
            <a:endCxn id="141" idx="3"/>
          </p:cNvCxnSpPr>
          <p:nvPr/>
        </p:nvCxnSpPr>
        <p:spPr>
          <a:xfrm flipV="1">
            <a:off x="3708000" y="3356640"/>
            <a:ext cx="864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44" name="Picture 6" descr=""/>
          <p:cNvPicPr/>
          <p:nvPr/>
        </p:nvPicPr>
        <p:blipFill>
          <a:blip r:embed="rId6"/>
          <a:stretch/>
        </p:blipFill>
        <p:spPr>
          <a:xfrm>
            <a:off x="4859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33"/>
          <p:cNvCxnSpPr/>
          <p:nvPr/>
        </p:nvCxnSpPr>
        <p:spPr>
          <a:xfrm flipV="1">
            <a:off x="5724000" y="263664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Straight Arrow Connector 34"/>
          <p:cNvCxnSpPr/>
          <p:nvPr/>
        </p:nvCxnSpPr>
        <p:spPr>
          <a:xfrm flipV="1">
            <a:off x="5724360" y="2996640"/>
            <a:ext cx="21672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6894360" y="2492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37"/>
          <p:cNvCxnSpPr/>
          <p:nvPr/>
        </p:nvCxnSpPr>
        <p:spPr>
          <a:xfrm flipH="1">
            <a:off x="7019640" y="3357360"/>
            <a:ext cx="73872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9" name="Straight Arrow Connector 38"/>
          <p:cNvCxnSpPr/>
          <p:nvPr/>
        </p:nvCxnSpPr>
        <p:spPr>
          <a:xfrm>
            <a:off x="7758000" y="3357720"/>
            <a:ext cx="432720" cy="1432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0" name="Picture 6" descr=""/>
          <p:cNvPicPr/>
          <p:nvPr/>
        </p:nvPicPr>
        <p:blipFill>
          <a:blip r:embed="rId8"/>
          <a:stretch/>
        </p:blipFill>
        <p:spPr>
          <a:xfrm>
            <a:off x="2841480" y="4508640"/>
            <a:ext cx="17290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2"/>
          <p:cNvCxnSpPr>
            <a:endCxn id="150" idx="2"/>
          </p:cNvCxnSpPr>
          <p:nvPr/>
        </p:nvCxnSpPr>
        <p:spPr>
          <a:xfrm flipH="1">
            <a:off x="3705840" y="537336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43"/>
          <p:cNvCxnSpPr/>
          <p:nvPr/>
        </p:nvCxnSpPr>
        <p:spPr>
          <a:xfrm flipH="1" flipV="1">
            <a:off x="3276000" y="5299920"/>
            <a:ext cx="43092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3" name="Picture 6" descr=""/>
          <p:cNvPicPr/>
          <p:nvPr/>
        </p:nvPicPr>
        <p:blipFill>
          <a:blip r:embed="rId9"/>
          <a:stretch/>
        </p:blipFill>
        <p:spPr>
          <a:xfrm>
            <a:off x="4859280" y="450864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48"/>
          <p:cNvCxnSpPr/>
          <p:nvPr/>
        </p:nvCxnSpPr>
        <p:spPr>
          <a:xfrm flipH="1">
            <a:off x="5508000" y="5373360"/>
            <a:ext cx="216360" cy="3596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5" name="Straight Arrow Connector 49"/>
          <p:cNvCxnSpPr>
            <a:endCxn id="153" idx="3"/>
          </p:cNvCxnSpPr>
          <p:nvPr/>
        </p:nvCxnSpPr>
        <p:spPr>
          <a:xfrm flipV="1">
            <a:off x="5724000" y="5373000"/>
            <a:ext cx="864360" cy="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6" name="Picture 6" descr=""/>
          <p:cNvPicPr/>
          <p:nvPr/>
        </p:nvPicPr>
        <p:blipFill>
          <a:blip r:embed="rId10"/>
          <a:stretch/>
        </p:blipFill>
        <p:spPr>
          <a:xfrm>
            <a:off x="6894360" y="450864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53"/>
          <p:cNvCxnSpPr/>
          <p:nvPr/>
        </p:nvCxnSpPr>
        <p:spPr>
          <a:xfrm flipH="1">
            <a:off x="7019640" y="5373360"/>
            <a:ext cx="738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8" name="Straight Arrow Connector 54"/>
          <p:cNvCxnSpPr/>
          <p:nvPr/>
        </p:nvCxnSpPr>
        <p:spPr>
          <a:xfrm flipH="1">
            <a:off x="7308360" y="5373360"/>
            <a:ext cx="450000" cy="3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1:09Z</dcterms:modified>
  <cp:revision>265</cp:revision>
  <dc:subject/>
  <dc:title>TITLE</dc:title>
</cp:coreProperties>
</file>