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D0E-97E5-4A91-89AC-59C27840B2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957-3F17-41A1-934A-C50912FB5B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088-2E59-4B15-846D-D499A50438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25C4-5BC9-45E4-AF00-3CCC0CC7DA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0F0F-867C-4975-AA3C-A971940013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FB4A-7758-42C7-BC85-2EC48516DA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EFF2-0671-44BB-89F7-16D282AA3C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1AF6-F700-4E70-9C24-D3A3AC7440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01E6-32FB-4903-A46F-77FA2C77AB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28C-9722-4517-B35D-2FBAB7877F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FFF-8236-47E6-BA92-5059FC0C12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916-5B51-4046-8DE7-B9186BD0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D5E-7718-4907-8FB0-B8F2E8C6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BE8-94B1-44DE-A041-D969C704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F56-DBC4-4821-8EC8-5F7B5842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29D-F4B5-4119-BF8E-41D484E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85A-C189-4B19-95A0-69E32BD5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3FD-68C3-4EED-BA96-7B39E271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58E-C668-4A98-A486-2FADED4E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0DB-508D-4132-AD19-2BFBE96D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C28-DB8D-44B5-915A-EDD5A60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61F-342C-4BA9-9C51-CAAA634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E37-C2B0-403F-AA24-47CB6B3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AF8-2664-4130-BE8F-6E5860F3E8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feminine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38240" y="115920"/>
            <a:ext cx="3641760" cy="612684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nue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oni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rpie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mascu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69880" y="2403360"/>
            <a:ext cx="2417760" cy="40806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áb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32000" y="2403360"/>
            <a:ext cx="2417760" cy="40806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riz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úfa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imp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femin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95280" y="1542960"/>
            <a:ext cx="2664000" cy="411588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eb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at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octu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132000" y="1268280"/>
            <a:ext cx="2417760" cy="47862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nue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oni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potentially masculine or femin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26920" y="1851120"/>
            <a:ext cx="4505400" cy="40806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melocot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olif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rpie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96840" y="1481040"/>
            <a:ext cx="3322800" cy="465012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áb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564000" y="1825560"/>
            <a:ext cx="2663640" cy="411588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eb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at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octu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definitely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82680" y="2013120"/>
            <a:ext cx="2417760" cy="465012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riz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úfa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imp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987640" y="1197000"/>
            <a:ext cx="2417760" cy="478620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ovej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nuev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oni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masculine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1692360" y="792000"/>
            <a:ext cx="3600360" cy="521964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áb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melocot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feminine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60360" y="115920"/>
            <a:ext cx="4211640" cy="612684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ebo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at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octu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tranqui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agra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nteres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olif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0" y="597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masculine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800280" y="1282680"/>
            <a:ext cx="3014640" cy="4650120"/>
          </a:xfrm>
          <a:prstGeom prst="rect">
            <a:avLst/>
          </a:prstGeom>
          <a:solidFill>
            <a:srgbClr val="c6f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eriz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búfa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imp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u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lvaj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3-19T11:36:18Z</dcterms:modified>
  <cp:revision>126</cp:revision>
  <dc:subject/>
  <dc:title>TITLE</dc:title>
</cp:coreProperties>
</file>