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F43D-3038-4AD5-B89B-66338A02CD6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D02A-E809-467B-85A4-9D478247431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1F2B-BA37-4C93-9F36-D7086161DB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1C2F-DE8D-43E6-97E0-EC5E3A1BE78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E9CB-4BF5-4832-B4C9-7202F3AD36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346F-7825-4AF8-A769-DA6204A06F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91E2-A198-4ABC-A67B-14F7C6F19C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0D42-DC18-4E55-A2EA-E9BF5C21E5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959D-0591-4061-AC74-0FAC41FD05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361F-BF27-47A7-B906-D9796AD3648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7831-BC85-45FF-8C5A-9A458AA011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B1F-4A8A-4487-B6D3-933D180B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BD4-2865-4C40-8A9B-AA1E3B2C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E29-1141-4A21-8359-1B11ECCA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BAB-F367-408D-8E07-C335B79C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28F3-2798-4B5A-9DDF-C0991F49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13B9-930E-424C-9F1D-9E8F4B4F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EDF-0823-4E90-86CE-04EE4E02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EB5-7B81-4D91-930A-5933958F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9A2-C689-49E7-9EBC-27D89139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68B-B51B-4CA8-90DD-3B1188B2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157-EF83-4845-B43C-D85E83AF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E2F-7ECB-46AE-A8BB-64E96B15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FFC1-73B9-4DA8-A611-91E0EFCBD2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0" y="597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feminine plur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138240" y="115920"/>
            <a:ext cx="3641760" cy="612684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er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v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ovej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nuev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oni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n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serpien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salvaj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0" y="597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definitely mascu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69880" y="2403360"/>
            <a:ext cx="2417760" cy="408060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a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rába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fe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132000" y="2403360"/>
            <a:ext cx="2417760" cy="408060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lát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riz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úfal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impi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0" y="597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definitely femin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395280" y="1542960"/>
            <a:ext cx="2664000" cy="411588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cebol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at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noctur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tranqui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3132000" y="1268280"/>
            <a:ext cx="2417760" cy="478620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er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v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ovej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nuev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oni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n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0" y="597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potentially masculine or femin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826920" y="1851120"/>
            <a:ext cx="4505400" cy="408060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melocot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colifl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agra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interesan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guisan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serpien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salvaj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0" y="597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definitely singul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96840" y="1481040"/>
            <a:ext cx="3322800" cy="465012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a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rába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fe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agra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interesan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3564000" y="1825560"/>
            <a:ext cx="2663640" cy="411588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cebol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at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noctur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tranqui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0" y="597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definitely plur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382680" y="2013120"/>
            <a:ext cx="2417760" cy="465012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lát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riz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úfal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impi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salvaj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2987640" y="1197000"/>
            <a:ext cx="2417760" cy="478620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er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v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ovej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nuev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oni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n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0" y="597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masculine singul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1692360" y="792000"/>
            <a:ext cx="3600360" cy="521964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a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rába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fe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agra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interesan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melocot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0" y="597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feminine singul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360360" y="115920"/>
            <a:ext cx="4211640" cy="612684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cebol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at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noctur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tranqui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agra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interesan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colifl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0" y="597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masculine plur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800280" y="1282680"/>
            <a:ext cx="3014640" cy="465012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lát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riz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úfal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impi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guisan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salvaj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8-03-19T11:36:18Z</dcterms:modified>
  <cp:revision>126</cp:revision>
  <dc:subject/>
  <dc:title>TITLE</dc:title>
</cp:coreProperties>
</file>