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2284-BE97-4CD1-B081-ADC478747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6906-15B3-4618-A524-4F4D30B7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C275-FE07-4AE3-8CB1-2513ACCB3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3C7C-AEA9-4866-9CFA-520AABE9A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5099-8C65-42AB-B6E4-49387768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3AB8-F49A-42F7-939C-FCC27165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9A6E-30B4-4642-AC54-47A79D58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A7AF-C5F6-4466-B3EA-FD2F9E18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3613-3119-4D6A-AE1E-FE577D3C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E351-8B07-447D-935F-91F917CF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E206-F595-43A7-A3C0-C6CA4F77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BB15-AB41-4319-AAAF-D7659C12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A890-15B7-4C06-A6A9-879B3AAA9A2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946296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9360" y="0"/>
            <a:ext cx="92394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923904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9144000" cy="54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-9360" y="404640"/>
            <a:ext cx="91818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104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0T16:31:18Z</dcterms:created>
  <dc:creator>Helen</dc:creator>
  <dc:description/>
  <dc:language>en-US</dc:language>
  <cp:lastModifiedBy>Clare Seccombe</cp:lastModifiedBy>
  <dcterms:modified xsi:type="dcterms:W3CDTF">2014-04-14T21:07:22Z</dcterms:modified>
  <cp:revision>2</cp:revision>
  <dc:subject/>
  <dc:title>PowerPoint Presentation</dc:title>
</cp:coreProperties>
</file>