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1D3-8DC5-4BC7-92AA-D1969614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F9B-505C-4625-8CE7-4164D9E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AB6-8F30-4877-BFDC-B4529A64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565-B80C-4A27-B06C-CDB09E34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018-80D8-433E-8DCD-1EAF0C4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317-F5A1-47DB-9CA8-034C66D4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69E-A435-455A-8790-39FCB858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933-0159-4313-99FE-2C1254B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AA7-6C68-4C2D-9BDF-25375FF7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8E7-9360-4E28-A703-4234160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112-A8C5-4B46-8C6D-330EBEA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3A9-E4FD-482A-9423-64E56F1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576-B258-403D-BD26-C4B405CFD8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4629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2394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2390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9144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9360" y="404640"/>
            <a:ext cx="918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10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31:18Z</dcterms:created>
  <dc:creator>Helen</dc:creator>
  <dc:description/>
  <dc:language>en-US</dc:language>
  <cp:lastModifiedBy>Clare Seccombe</cp:lastModifiedBy>
  <dcterms:modified xsi:type="dcterms:W3CDTF">2014-04-14T21:07:22Z</dcterms:modified>
  <cp:revision>2</cp:revision>
  <dc:subject/>
  <dc:title>PowerPoint Presentation</dc:title>
</cp:coreProperties>
</file>