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9EAC-CEF4-4F3E-9C39-6E91456EFA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vege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0DAF-9A4A-494D-A5A4-26F4E3AC7D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vegetable” it it’s a vegetable, stay quiet if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3A56-12DC-4953-AC43-4176FDC1BF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vege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217F-A43C-4EA1-8E1F-D19467DF2C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88D-7763-4305-AC9F-DA179ECF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926-4BA2-43E0-A651-7E0E00C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6F8-596D-44AB-B35C-7FDC06C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524-4E3B-43D3-8EC6-0FB19F49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B96-C47F-4FB1-B829-DB58C9A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E98-AEA2-49D5-A2D2-DBB7DB1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2A9-5821-4F65-8580-B1812A8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B7E-855E-4AD8-8027-69E9D30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0C9-2712-4604-85A4-4DA9324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027-8CA8-445D-B23D-EC7E668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015-B603-42A0-8A60-79C904D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B8-29D8-42C3-9DDA-1909200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0F69-8387-4280-B830-7F8A117FDC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5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lechug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4373640" y="40687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tomat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684360" y="1413000"/>
            <a:ext cx="54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zanahori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toma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63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rogra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920" y="34210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ue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187800" y="5135400"/>
            <a:ext cx="570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zanahori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025960" y="249228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987800" y="13190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a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20" y="4365720"/>
            <a:ext cx="539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73160" y="12477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botel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248000" y="141120"/>
            <a:ext cx="51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lechug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48360" y="4044960"/>
            <a:ext cx="40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go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411280" y="2359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t_m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z_n_hor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92360" y="-100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j_ _ _a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843280" y="466092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_ _ i _ _ _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_  b_ _ 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76360" y="57592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l_ch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8:10Z</dcterms:modified>
  <cp:revision>165</cp:revision>
  <dc:subject/>
  <dc:title>TITLE</dc:title>
</cp:coreProperties>
</file>