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CA73-A35F-4486-8B4B-D797D35375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vege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C927-629A-47BF-ABB2-C08E24C963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“vegetable” it it’s a vegetable, stay quiet if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46D-6767-4E53-AD98-3A22D97650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vege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4B63-6DAE-48DC-8507-BC44B76A2D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AF2-FFB9-4C84-AC64-6A41439E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DCF-4A64-45F3-9AE1-59C4584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35B-A2FD-42AE-A9E0-EB25577C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133-541D-421A-8821-46A3F4E5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9B3-6B80-4BD8-AEE2-5DD71330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2B3-CD92-49C4-90A7-B34AC697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C53-88B9-4CE7-83C7-9D730304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E0F-5D10-400B-B7E0-E3EF87A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380-0CDB-4B81-90DA-09AD9E4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ACE-A6FE-4402-9B7C-9B54705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594-B719-489D-8B06-877184D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1AA-CC30-4844-8E08-6DD6D4C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9C5D-A5C4-4A91-AAD2-4BE0412AE6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5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221"/>
          <p:cNvSpPr/>
          <p:nvPr/>
        </p:nvSpPr>
        <p:spPr>
          <a:xfrm>
            <a:off x="324000" y="3573360"/>
            <a:ext cx="34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l ber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224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lechug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225"/>
          <p:cNvSpPr/>
          <p:nvPr/>
        </p:nvSpPr>
        <p:spPr>
          <a:xfrm>
            <a:off x="4373640" y="40687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os pepin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226"/>
          <p:cNvSpPr/>
          <p:nvPr/>
        </p:nvSpPr>
        <p:spPr>
          <a:xfrm>
            <a:off x="4284720" y="18900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judí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228"/>
          <p:cNvSpPr/>
          <p:nvPr/>
        </p:nvSpPr>
        <p:spPr>
          <a:xfrm>
            <a:off x="2178000" y="259380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os tomat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29"/>
          <p:cNvSpPr/>
          <p:nvPr/>
        </p:nvSpPr>
        <p:spPr>
          <a:xfrm>
            <a:off x="684360" y="1413000"/>
            <a:ext cx="54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zanahori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2322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tomat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60" y="5759280"/>
            <a:ext cx="633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rogram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9920" y="342108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uent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187800" y="5135400"/>
            <a:ext cx="570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zanahori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025960" y="2492280"/>
            <a:ext cx="411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el berr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0" y="11592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judí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987800" y="13190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caj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0520" y="4365720"/>
            <a:ext cx="539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epino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73160" y="124776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botell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248000" y="141120"/>
            <a:ext cx="511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lechug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148360" y="4044960"/>
            <a:ext cx="40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gom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411280" y="23590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t_m_ _ 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112536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z_n_hor_ 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92360" y="-1000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j_ _ _a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843280" y="466092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p_ _ i _ _ _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9640" y="35622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e_  b_ _ _ 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76360" y="57592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l_ch_ _ 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4-28T09:28:10Z</dcterms:modified>
  <cp:revision>165</cp:revision>
  <dc:subject/>
  <dc:title>TITLE</dc:title>
</cp:coreProperties>
</file>