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CC35-411E-4462-A3CC-57D0F35FD6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63B5-7859-4A69-813C-D3B4CFD22A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203-077E-4D34-856A-695CE09F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B4B-E7AC-4F57-8E1B-C8E473D0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8AD-5D44-4222-9C81-404F19AA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D60-9FA6-4585-8930-9D8C3850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BCB-1548-4CB6-B44D-6CDB189B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82C-57C9-462B-AB63-A90343C7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9AF-53B7-4223-B8C8-1F0E5BA4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5BA-338B-4B7B-9907-236FB15D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691-A11E-422E-85EE-A5C4B2ED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673-A03D-48F7-9F5B-414B65B5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3ED-55BB-42AA-AB4A-28FA8462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1B4-63CD-43FC-99F9-FB3D507C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0993-BE5C-43F6-8778-F1CEF15F491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518160" y="6453360"/>
            <a:ext cx="262584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3" descr="PH03396I"/>
          <p:cNvPicPr/>
          <p:nvPr/>
        </p:nvPicPr>
        <p:blipFill>
          <a:blip r:embed="rId1"/>
          <a:srcRect l="0" t="12500" r="9940" b="14311"/>
          <a:stretch/>
        </p:blipFill>
        <p:spPr>
          <a:xfrm>
            <a:off x="6769080" y="239760"/>
            <a:ext cx="1849320" cy="223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TG%20-%20Green%20Beans"/>
          <p:cNvPicPr/>
          <p:nvPr/>
        </p:nvPicPr>
        <p:blipFill>
          <a:blip r:embed="rId2"/>
          <a:srcRect l="8395" t="7677" r="8395" b="0"/>
          <a:stretch/>
        </p:blipFill>
        <p:spPr>
          <a:xfrm>
            <a:off x="301680" y="235080"/>
            <a:ext cx="2879640" cy="208440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5"/>
          <p:cNvGrpSpPr/>
          <p:nvPr/>
        </p:nvGrpSpPr>
        <p:grpSpPr>
          <a:xfrm>
            <a:off x="6202440" y="4281480"/>
            <a:ext cx="2665440" cy="2195640"/>
            <a:chOff x="6202440" y="4281480"/>
            <a:chExt cx="2665440" cy="2195640"/>
          </a:xfrm>
        </p:grpSpPr>
        <p:pic>
          <p:nvPicPr>
            <p:cNvPr id="52" name="Picture 6" descr="3CAGUNTG1CAMBRZCLCAG1P7MYCA49FR6QCAFSEQ78CA4DP4K9CAVY173TCAPC6A3VCA23RC4CCAIE19AWCAU39FUDCA8FBKJ6CAEC1FBYCA7WEU7HCAAO41JPCA8M0OU6CA84V784CA8R7C2QCAILBG7T"/>
            <p:cNvPicPr/>
            <p:nvPr/>
          </p:nvPicPr>
          <p:blipFill>
            <a:blip r:embed="rId3"/>
            <a:stretch/>
          </p:blipFill>
          <p:spPr>
            <a:xfrm>
              <a:off x="6851880" y="5362560"/>
              <a:ext cx="13683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7" descr="3CAGUNTG1CAMBRZCLCAG1P7MYCA49FR6QCAFSEQ78CA4DP4K9CAVY173TCAPC6A3VCA23RC4CCAIE19AWCAU39FUDCA8FBKJ6CAEC1FBYCA7WEU7HCAAO41JPCA8M0OU6CA84V784CA8R7C2QCAILBG7T"/>
            <p:cNvPicPr/>
            <p:nvPr/>
          </p:nvPicPr>
          <p:blipFill>
            <a:blip r:embed="rId4"/>
            <a:stretch/>
          </p:blipFill>
          <p:spPr>
            <a:xfrm>
              <a:off x="6202440" y="4281480"/>
              <a:ext cx="136872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8" descr="3CAGUNTG1CAMBRZCLCAG1P7MYCA49FR6QCAFSEQ78CA4DP4K9CAVY173TCAPC6A3VCA23RC4CCAIE19AWCAU39FUDCA8FBKJ6CAEC1FBYCA7WEU7HCAAO41JPCA8M0OU6CA84V784CA8R7C2QCAILBG7T"/>
            <p:cNvPicPr/>
            <p:nvPr/>
          </p:nvPicPr>
          <p:blipFill>
            <a:blip r:embed="rId5"/>
            <a:stretch/>
          </p:blipFill>
          <p:spPr>
            <a:xfrm>
              <a:off x="7499520" y="4281480"/>
              <a:ext cx="1368360" cy="111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9" descr="cucumber[1]"/>
          <p:cNvPicPr/>
          <p:nvPr/>
        </p:nvPicPr>
        <p:blipFill>
          <a:blip r:embed="rId6"/>
          <a:stretch/>
        </p:blipFill>
        <p:spPr>
          <a:xfrm>
            <a:off x="3592440" y="43005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mustard-cress-lrg[1]"/>
          <p:cNvPicPr/>
          <p:nvPr/>
        </p:nvPicPr>
        <p:blipFill>
          <a:blip r:embed="rId7"/>
          <a:stretch/>
        </p:blipFill>
        <p:spPr>
          <a:xfrm>
            <a:off x="298440" y="4300560"/>
            <a:ext cx="2843280" cy="221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PH02772J"/>
          <p:cNvPicPr/>
          <p:nvPr/>
        </p:nvPicPr>
        <p:blipFill>
          <a:blip r:embed="rId8"/>
          <a:srcRect l="0" t="7646" r="0" b="10227"/>
          <a:stretch/>
        </p:blipFill>
        <p:spPr>
          <a:xfrm>
            <a:off x="3451320" y="235080"/>
            <a:ext cx="3025800" cy="192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1332000" y="242100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4427640" y="242100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7308720" y="234936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332000" y="357336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4427640" y="357336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7308720" y="350028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5-04-28T09:28:50Z</dcterms:modified>
  <cp:revision>165</cp:revision>
  <dc:subject/>
  <dc:title>TITLE</dc:title>
</cp:coreProperties>
</file>