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4FA-8337-4508-AEAA-82B5E9A2B6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7EE5-6C8B-4F2C-A8FF-37AFD813FD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EAA-3E6B-48DA-A043-5191525B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8D8-E6D0-45EF-9578-D0050E21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C5C-BD92-42AA-AFF7-D8DCF502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31A-05B9-4978-9DD0-6E07A42A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F94-C68D-45A3-B199-286455A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DF5-2479-4151-8DFF-6FBA4860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39A-71F0-4F15-AA3B-6127DA19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7C4-6B68-46BB-8182-78B707AD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761-8B89-4629-9B11-380BA9BC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F8C-76D1-4FCD-B43F-4C45FD8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FD2-A99B-4078-A56E-F87D9A6E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2E5-97ED-497F-9D8E-8EF890D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2717-B871-437D-ABE3-6F6B57862A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518160" y="6453360"/>
            <a:ext cx="262584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3" descr="PH03396I"/>
          <p:cNvPicPr/>
          <p:nvPr/>
        </p:nvPicPr>
        <p:blipFill>
          <a:blip r:embed="rId1"/>
          <a:srcRect l="0" t="12500" r="9940" b="14311"/>
          <a:stretch/>
        </p:blipFill>
        <p:spPr>
          <a:xfrm>
            <a:off x="6769080" y="239760"/>
            <a:ext cx="1849320" cy="223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TG%20-%20Green%20Beans"/>
          <p:cNvPicPr/>
          <p:nvPr/>
        </p:nvPicPr>
        <p:blipFill>
          <a:blip r:embed="rId2"/>
          <a:srcRect l="8395" t="7677" r="8395" b="0"/>
          <a:stretch/>
        </p:blipFill>
        <p:spPr>
          <a:xfrm>
            <a:off x="301680" y="235080"/>
            <a:ext cx="2879640" cy="20844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202440" y="4281480"/>
            <a:ext cx="2665440" cy="2195640"/>
            <a:chOff x="6202440" y="4281480"/>
            <a:chExt cx="2665440" cy="2195640"/>
          </a:xfrm>
        </p:grpSpPr>
        <p:pic>
          <p:nvPicPr>
            <p:cNvPr id="52" name="Picture 6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3"/>
            <a:stretch/>
          </p:blipFill>
          <p:spPr>
            <a:xfrm>
              <a:off x="6851880" y="5362560"/>
              <a:ext cx="13683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4"/>
            <a:stretch/>
          </p:blipFill>
          <p:spPr>
            <a:xfrm>
              <a:off x="6202440" y="4281480"/>
              <a:ext cx="136872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3CAGUNTG1CAMBRZCLCAG1P7MYCA49FR6QCAFSEQ78CA4DP4K9CAVY173TCAPC6A3VCA23RC4CCAIE19AWCAU39FUDCA8FBKJ6CAEC1FBYCA7WEU7HCAAO41JPCA8M0OU6CA84V784CA8R7C2QCAILBG7T"/>
            <p:cNvPicPr/>
            <p:nvPr/>
          </p:nvPicPr>
          <p:blipFill>
            <a:blip r:embed="rId5"/>
            <a:stretch/>
          </p:blipFill>
          <p:spPr>
            <a:xfrm>
              <a:off x="7499520" y="4281480"/>
              <a:ext cx="136836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9" descr="cucumber[1]"/>
          <p:cNvPicPr/>
          <p:nvPr/>
        </p:nvPicPr>
        <p:blipFill>
          <a:blip r:embed="rId6"/>
          <a:stretch/>
        </p:blipFill>
        <p:spPr>
          <a:xfrm>
            <a:off x="3592440" y="43005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mustard-cress-lrg[1]"/>
          <p:cNvPicPr/>
          <p:nvPr/>
        </p:nvPicPr>
        <p:blipFill>
          <a:blip r:embed="rId7"/>
          <a:stretch/>
        </p:blipFill>
        <p:spPr>
          <a:xfrm>
            <a:off x="298440" y="4300560"/>
            <a:ext cx="284328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PH02772J"/>
          <p:cNvPicPr/>
          <p:nvPr/>
        </p:nvPicPr>
        <p:blipFill>
          <a:blip r:embed="rId8"/>
          <a:srcRect l="0" t="7646" r="0" b="10227"/>
          <a:stretch/>
        </p:blipFill>
        <p:spPr>
          <a:xfrm>
            <a:off x="3451320" y="235080"/>
            <a:ext cx="3025800" cy="192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332000" y="242100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27640" y="242100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7308720" y="2349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332000" y="357336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427640" y="357336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7308720" y="350028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5-04-28T09:28:50Z</dcterms:modified>
  <cp:revision>165</cp:revision>
  <dc:subject/>
  <dc:title>TITLE</dc:title>
</cp:coreProperties>
</file>