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3AA1-1D08-4FAD-84BC-D270A2608E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C521-AB0B-47C6-A868-A530CD1B43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64E0-C153-4B7F-B558-84FFBC8984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AB80-EDEE-41A1-8E33-1EC924EB12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DF13-AF13-434D-999D-0E12FA521C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1DD-ABDF-4B55-96B0-83E00E62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9DE-BFEA-4EE2-8051-3A021C43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815-495B-4734-AF1F-1C28299B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208-76CF-4679-80B6-3A10F058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C325-B607-4E14-A0EA-B4A1B551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0CEA-9F14-4357-96EA-2459189F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E60B-7F26-4EED-A1CA-2CF8E5C6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6AEA-9194-417C-B05F-53E594A3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BC6C-546A-4856-81C4-CFDF96C9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B6FD-A6D6-4221-ACC2-4D7AE9DA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A3CE-1ABF-45AC-95C1-88BB7C46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06F-FA23-4758-95E9-0B30E0F0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EE10-DC0F-4A87-920A-5F5D2A2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3893-D914-45B4-ACC9-F94A5B3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156-9C5D-4799-A57F-E8682CC7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AF0A-0FC3-4640-B214-F38EB8D2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3271-2D9C-480C-A09F-77252A32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428C-19B4-4914-A189-C334C9A7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6071-6E07-4620-9375-20F2EDC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E2FB-E691-4AF3-804E-DD364E7B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FD8C-2E0D-448E-BB95-5BD651D0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0A76-9E80-4076-94A1-76834EFE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109-C720-485F-BE12-45AD3628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AE4BF-CAC4-4B81-8964-4EB1534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E4A6-F9F8-4D54-8E88-340C52AD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BAF7-66CE-40B5-B910-83E0295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A26A-B6E7-4215-802A-6903E79D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100F-20BB-429C-8C9A-B929DB63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89F1-4748-4A61-BCF3-032ECF04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D2B1-5584-45C7-AF0B-5FA916D7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451-E4EF-4BDD-B94F-681E2764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4DF-A536-4248-B0C5-80A6AB3D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F11-C466-45FC-AF92-D2FA4E32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3B5-E01D-45F1-BA11-24CCAB8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5CD-F4F7-4342-A827-890FA390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897-D6C5-4D2D-8C00-0EF4C4DB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7AEE-BDA0-4B07-AB28-32A9233627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93EB-4F34-46FD-BDAE-6AAA690D45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86D7-7333-4BB7-9296-3E70010CF41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19160" y="477720"/>
            <a:ext cx="172872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32" name="Straight Arrow Connector 15"/>
          <p:cNvCxnSpPr>
            <a:endCxn id="131" idx="0"/>
          </p:cNvCxnSpPr>
          <p:nvPr/>
        </p:nvCxnSpPr>
        <p:spPr>
          <a:xfrm flipH="1" flipV="1">
            <a:off x="983520" y="477720"/>
            <a:ext cx="1080" cy="86580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3" name="Straight Arrow Connector 16"/>
          <p:cNvCxnSpPr/>
          <p:nvPr/>
        </p:nvCxnSpPr>
        <p:spPr>
          <a:xfrm flipH="1">
            <a:off x="767880" y="1342800"/>
            <a:ext cx="21672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19160" y="4724280"/>
            <a:ext cx="172728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35" name="Straight Arrow Connector 37"/>
          <p:cNvCxnSpPr/>
          <p:nvPr/>
        </p:nvCxnSpPr>
        <p:spPr>
          <a:xfrm>
            <a:off x="982440" y="5589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6" name="Straight Arrow Connector 38"/>
          <p:cNvCxnSpPr/>
          <p:nvPr/>
        </p:nvCxnSpPr>
        <p:spPr>
          <a:xfrm flipV="1">
            <a:off x="982440" y="5157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108000" y="2563920"/>
            <a:ext cx="1728720" cy="173016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42"/>
          <p:cNvCxnSpPr>
            <a:endCxn id="137" idx="2"/>
          </p:cNvCxnSpPr>
          <p:nvPr/>
        </p:nvCxnSpPr>
        <p:spPr>
          <a:xfrm flipH="1">
            <a:off x="972360" y="3430080"/>
            <a:ext cx="72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43"/>
          <p:cNvCxnSpPr/>
          <p:nvPr/>
        </p:nvCxnSpPr>
        <p:spPr>
          <a:xfrm flipH="1" flipV="1">
            <a:off x="614520" y="3214080"/>
            <a:ext cx="358920" cy="21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0" name="Picture 1" descr=""/>
          <p:cNvPicPr/>
          <p:nvPr/>
        </p:nvPicPr>
        <p:blipFill>
          <a:blip r:embed="rId4"/>
          <a:stretch/>
        </p:blipFill>
        <p:spPr>
          <a:xfrm>
            <a:off x="1835280" y="378000"/>
            <a:ext cx="1854000" cy="18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5"/>
          <a:stretch/>
        </p:blipFill>
        <p:spPr>
          <a:xfrm>
            <a:off x="4211640" y="2600280"/>
            <a:ext cx="1547640" cy="1595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6"/>
          <a:stretch/>
        </p:blipFill>
        <p:spPr>
          <a:xfrm>
            <a:off x="1835280" y="4776840"/>
            <a:ext cx="199548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963800" y="2563920"/>
            <a:ext cx="2263680" cy="160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8"/>
          <a:stretch/>
        </p:blipFill>
        <p:spPr>
          <a:xfrm>
            <a:off x="3780000" y="4675320"/>
            <a:ext cx="2473200" cy="1709640"/>
          </a:xfrm>
          <a:prstGeom prst="rect">
            <a:avLst/>
          </a:prstGeom>
          <a:ln w="0">
            <a:noFill/>
          </a:ln>
        </p:spPr>
      </p:pic>
      <p:sp>
        <p:nvSpPr>
          <p:cNvPr id="145" name="32-Point Star 11"/>
          <p:cNvSpPr/>
          <p:nvPr/>
        </p:nvSpPr>
        <p:spPr>
          <a:xfrm>
            <a:off x="6084720" y="-387360"/>
            <a:ext cx="3600720" cy="2664000"/>
          </a:xfrm>
          <a:custGeom>
            <a:avLst/>
            <a:gdLst>
              <a:gd name="textAreaLeft" fmla="*/ 821880 w 3600720"/>
              <a:gd name="textAreaRight" fmla="*/ 2778840 w 360072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6778800" y="2556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son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it’s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a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9160" y="477720"/>
            <a:ext cx="172872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15"/>
          <p:cNvCxnSpPr>
            <a:endCxn id="148" idx="0"/>
          </p:cNvCxnSpPr>
          <p:nvPr/>
        </p:nvCxnSpPr>
        <p:spPr>
          <a:xfrm flipH="1" flipV="1">
            <a:off x="983520" y="477360"/>
            <a:ext cx="1080" cy="8661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50" name="Straight Arrow Connector 16"/>
          <p:cNvCxnSpPr/>
          <p:nvPr/>
        </p:nvCxnSpPr>
        <p:spPr>
          <a:xfrm flipH="1">
            <a:off x="767880" y="1342800"/>
            <a:ext cx="21672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119160" y="4724280"/>
            <a:ext cx="172728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52" name="Straight Arrow Connector 37"/>
          <p:cNvCxnSpPr/>
          <p:nvPr/>
        </p:nvCxnSpPr>
        <p:spPr>
          <a:xfrm>
            <a:off x="982440" y="5589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53" name="Straight Arrow Connector 38"/>
          <p:cNvCxnSpPr/>
          <p:nvPr/>
        </p:nvCxnSpPr>
        <p:spPr>
          <a:xfrm flipV="1">
            <a:off x="982440" y="5157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108000" y="2563920"/>
            <a:ext cx="1728720" cy="1730160"/>
          </a:xfrm>
          <a:prstGeom prst="rect">
            <a:avLst/>
          </a:prstGeom>
          <a:ln w="0">
            <a:noFill/>
          </a:ln>
        </p:spPr>
      </p:pic>
      <p:cxnSp>
        <p:nvCxnSpPr>
          <p:cNvPr id="155" name="Straight Arrow Connector 42"/>
          <p:cNvCxnSpPr>
            <a:endCxn id="154" idx="2"/>
          </p:cNvCxnSpPr>
          <p:nvPr/>
        </p:nvCxnSpPr>
        <p:spPr>
          <a:xfrm>
            <a:off x="972720" y="343008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6" name="Straight Arrow Connector 43"/>
          <p:cNvCxnSpPr/>
          <p:nvPr/>
        </p:nvCxnSpPr>
        <p:spPr>
          <a:xfrm flipH="1" flipV="1">
            <a:off x="614520" y="3214080"/>
            <a:ext cx="358920" cy="21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7" name="Picture 1" descr=""/>
          <p:cNvPicPr/>
          <p:nvPr/>
        </p:nvPicPr>
        <p:blipFill>
          <a:blip r:embed="rId4"/>
          <a:stretch/>
        </p:blipFill>
        <p:spPr>
          <a:xfrm>
            <a:off x="1835280" y="378000"/>
            <a:ext cx="185400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5"/>
          <a:stretch/>
        </p:blipFill>
        <p:spPr>
          <a:xfrm>
            <a:off x="4211640" y="2600280"/>
            <a:ext cx="1547640" cy="1595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6"/>
          <a:stretch/>
        </p:blipFill>
        <p:spPr>
          <a:xfrm>
            <a:off x="1835280" y="4776840"/>
            <a:ext cx="1995480" cy="167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7"/>
          <a:stretch/>
        </p:blipFill>
        <p:spPr>
          <a:xfrm>
            <a:off x="1963800" y="2563920"/>
            <a:ext cx="2263680" cy="160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8"/>
          <a:stretch/>
        </p:blipFill>
        <p:spPr>
          <a:xfrm>
            <a:off x="3780000" y="4675320"/>
            <a:ext cx="2473200" cy="1709640"/>
          </a:xfrm>
          <a:prstGeom prst="rect">
            <a:avLst/>
          </a:prstGeom>
          <a:ln w="0">
            <a:noFill/>
          </a:ln>
        </p:spPr>
      </p:pic>
      <p:sp>
        <p:nvSpPr>
          <p:cNvPr id="162" name="32-Point Star 11"/>
          <p:cNvSpPr/>
          <p:nvPr/>
        </p:nvSpPr>
        <p:spPr>
          <a:xfrm>
            <a:off x="6084720" y="-387360"/>
            <a:ext cx="3600720" cy="2664000"/>
          </a:xfrm>
          <a:custGeom>
            <a:avLst/>
            <a:gdLst>
              <a:gd name="textAreaLeft" fmla="*/ 821880 w 3600720"/>
              <a:gd name="textAreaRight" fmla="*/ 2778840 w 360072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6778800" y="2556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son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it’s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a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3095640" y="136440"/>
            <a:ext cx="3168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siete, hace frío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19160" y="477720"/>
            <a:ext cx="172872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15"/>
          <p:cNvCxnSpPr>
            <a:endCxn id="166" idx="0"/>
          </p:cNvCxnSpPr>
          <p:nvPr/>
        </p:nvCxnSpPr>
        <p:spPr>
          <a:xfrm flipH="1" flipV="1">
            <a:off x="983520" y="477360"/>
            <a:ext cx="1080" cy="8661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68" name="Straight Arrow Connector 16"/>
          <p:cNvCxnSpPr/>
          <p:nvPr/>
        </p:nvCxnSpPr>
        <p:spPr>
          <a:xfrm flipH="1">
            <a:off x="767880" y="1342800"/>
            <a:ext cx="21672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119160" y="4724280"/>
            <a:ext cx="172728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37"/>
          <p:cNvCxnSpPr/>
          <p:nvPr/>
        </p:nvCxnSpPr>
        <p:spPr>
          <a:xfrm>
            <a:off x="982440" y="5589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71" name="Straight Arrow Connector 38"/>
          <p:cNvCxnSpPr/>
          <p:nvPr/>
        </p:nvCxnSpPr>
        <p:spPr>
          <a:xfrm flipV="1">
            <a:off x="982440" y="5157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108000" y="2563920"/>
            <a:ext cx="1728720" cy="1730160"/>
          </a:xfrm>
          <a:prstGeom prst="rect">
            <a:avLst/>
          </a:prstGeom>
          <a:ln w="0">
            <a:noFill/>
          </a:ln>
        </p:spPr>
      </p:pic>
      <p:cxnSp>
        <p:nvCxnSpPr>
          <p:cNvPr id="173" name="Straight Arrow Connector 42"/>
          <p:cNvCxnSpPr>
            <a:endCxn id="172" idx="2"/>
          </p:cNvCxnSpPr>
          <p:nvPr/>
        </p:nvCxnSpPr>
        <p:spPr>
          <a:xfrm>
            <a:off x="972720" y="343008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4" name="Straight Arrow Connector 43"/>
          <p:cNvCxnSpPr/>
          <p:nvPr/>
        </p:nvCxnSpPr>
        <p:spPr>
          <a:xfrm flipH="1" flipV="1">
            <a:off x="614520" y="3214080"/>
            <a:ext cx="358920" cy="21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75" name="Picture 1" descr=""/>
          <p:cNvPicPr/>
          <p:nvPr/>
        </p:nvPicPr>
        <p:blipFill>
          <a:blip r:embed="rId4"/>
          <a:stretch/>
        </p:blipFill>
        <p:spPr>
          <a:xfrm>
            <a:off x="1835280" y="378000"/>
            <a:ext cx="185400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5"/>
          <a:stretch/>
        </p:blipFill>
        <p:spPr>
          <a:xfrm>
            <a:off x="4211640" y="2600280"/>
            <a:ext cx="1547640" cy="1595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6"/>
          <a:stretch/>
        </p:blipFill>
        <p:spPr>
          <a:xfrm>
            <a:off x="1835280" y="4776840"/>
            <a:ext cx="199548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7"/>
          <a:stretch/>
        </p:blipFill>
        <p:spPr>
          <a:xfrm>
            <a:off x="1963800" y="2563920"/>
            <a:ext cx="2263680" cy="160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8"/>
          <a:stretch/>
        </p:blipFill>
        <p:spPr>
          <a:xfrm>
            <a:off x="3780000" y="4675320"/>
            <a:ext cx="2473200" cy="1709640"/>
          </a:xfrm>
          <a:prstGeom prst="rect">
            <a:avLst/>
          </a:prstGeom>
          <a:ln w="0">
            <a:noFill/>
          </a:ln>
        </p:spPr>
      </p:pic>
      <p:sp>
        <p:nvSpPr>
          <p:cNvPr id="180" name="32-Point Star 11"/>
          <p:cNvSpPr/>
          <p:nvPr/>
        </p:nvSpPr>
        <p:spPr>
          <a:xfrm>
            <a:off x="6084720" y="-387360"/>
            <a:ext cx="3600720" cy="2664000"/>
          </a:xfrm>
          <a:custGeom>
            <a:avLst/>
            <a:gdLst>
              <a:gd name="textAreaLeft" fmla="*/ 821880 w 3600720"/>
              <a:gd name="textAreaRight" fmla="*/ 2778840 w 360072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6778800" y="2556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son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it’s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a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3095640" y="136440"/>
            <a:ext cx="3168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siete, hace frío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5688000" y="2276640"/>
            <a:ext cx="356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diez y media, hace viento y llueve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119160" y="477720"/>
            <a:ext cx="172872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86" name="Straight Arrow Connector 15"/>
          <p:cNvCxnSpPr>
            <a:endCxn id="185" idx="0"/>
          </p:cNvCxnSpPr>
          <p:nvPr/>
        </p:nvCxnSpPr>
        <p:spPr>
          <a:xfrm flipH="1" flipV="1">
            <a:off x="983520" y="477360"/>
            <a:ext cx="1080" cy="8661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87" name="Straight Arrow Connector 16"/>
          <p:cNvCxnSpPr/>
          <p:nvPr/>
        </p:nvCxnSpPr>
        <p:spPr>
          <a:xfrm flipH="1">
            <a:off x="767880" y="1342800"/>
            <a:ext cx="21672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19160" y="4724280"/>
            <a:ext cx="172728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89" name="Straight Arrow Connector 37"/>
          <p:cNvCxnSpPr/>
          <p:nvPr/>
        </p:nvCxnSpPr>
        <p:spPr>
          <a:xfrm>
            <a:off x="982440" y="5589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90" name="Straight Arrow Connector 38"/>
          <p:cNvCxnSpPr/>
          <p:nvPr/>
        </p:nvCxnSpPr>
        <p:spPr>
          <a:xfrm flipV="1">
            <a:off x="982440" y="5157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108000" y="2563920"/>
            <a:ext cx="1728720" cy="1730160"/>
          </a:xfrm>
          <a:prstGeom prst="rect">
            <a:avLst/>
          </a:prstGeom>
          <a:ln w="0">
            <a:noFill/>
          </a:ln>
        </p:spPr>
      </p:pic>
      <p:cxnSp>
        <p:nvCxnSpPr>
          <p:cNvPr id="192" name="Straight Arrow Connector 42"/>
          <p:cNvCxnSpPr>
            <a:endCxn id="191" idx="2"/>
          </p:cNvCxnSpPr>
          <p:nvPr/>
        </p:nvCxnSpPr>
        <p:spPr>
          <a:xfrm>
            <a:off x="972720" y="343008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3" name="Straight Arrow Connector 43"/>
          <p:cNvCxnSpPr/>
          <p:nvPr/>
        </p:nvCxnSpPr>
        <p:spPr>
          <a:xfrm flipH="1" flipV="1">
            <a:off x="614520" y="3214080"/>
            <a:ext cx="358920" cy="21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94" name="Picture 1" descr=""/>
          <p:cNvPicPr/>
          <p:nvPr/>
        </p:nvPicPr>
        <p:blipFill>
          <a:blip r:embed="rId4"/>
          <a:stretch/>
        </p:blipFill>
        <p:spPr>
          <a:xfrm>
            <a:off x="1835280" y="378000"/>
            <a:ext cx="1854000" cy="18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5"/>
          <a:stretch/>
        </p:blipFill>
        <p:spPr>
          <a:xfrm>
            <a:off x="4211640" y="2600280"/>
            <a:ext cx="1547640" cy="1595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6"/>
          <a:stretch/>
        </p:blipFill>
        <p:spPr>
          <a:xfrm>
            <a:off x="1835280" y="4776840"/>
            <a:ext cx="1995480" cy="167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7"/>
          <a:stretch/>
        </p:blipFill>
        <p:spPr>
          <a:xfrm>
            <a:off x="1963800" y="2563920"/>
            <a:ext cx="2263680" cy="1604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8"/>
          <a:stretch/>
        </p:blipFill>
        <p:spPr>
          <a:xfrm>
            <a:off x="3780000" y="4675320"/>
            <a:ext cx="2473200" cy="1709640"/>
          </a:xfrm>
          <a:prstGeom prst="rect">
            <a:avLst/>
          </a:prstGeom>
          <a:ln w="0">
            <a:noFill/>
          </a:ln>
        </p:spPr>
      </p:pic>
      <p:sp>
        <p:nvSpPr>
          <p:cNvPr id="199" name="32-Point Star 11"/>
          <p:cNvSpPr/>
          <p:nvPr/>
        </p:nvSpPr>
        <p:spPr>
          <a:xfrm>
            <a:off x="6084720" y="-387360"/>
            <a:ext cx="3600720" cy="2664000"/>
          </a:xfrm>
          <a:custGeom>
            <a:avLst/>
            <a:gdLst>
              <a:gd name="textAreaLeft" fmla="*/ 821880 w 3600720"/>
              <a:gd name="textAreaRight" fmla="*/ 2778840 w 360072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778800" y="2556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son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it’s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a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3095640" y="136440"/>
            <a:ext cx="3168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siete, hace frío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5688000" y="2276640"/>
            <a:ext cx="356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diez y media, hace viento y llueve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5867280" y="4437000"/>
            <a:ext cx="32767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doce y cuarto, hace calor y hay niebla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02-25T10:37:24Z</dcterms:modified>
  <cp:revision>268</cp:revision>
  <dc:subject/>
  <dc:title>TITLE</dc:title>
</cp:coreProperties>
</file>