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B751-6901-4710-86FE-AA5F05595D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5561-60A1-4826-BD67-B424603883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BCE7-C1D2-4E7D-AB83-97D5CC48D9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9378-A9B2-41A3-95FF-C033ABDA7C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536E-19D7-4707-8CBC-79FAB39454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3DF-C07E-4921-9671-EEE9DC6F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3DF-AF54-4F79-83BF-C8F9F26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E7D-AAB8-4FD6-951A-33165C3C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F75-C530-4979-93A2-7C863803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C866-D101-4DCB-945B-69CEE962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6317-9393-40B8-A755-D76DD4A6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D08D-C3FD-458E-B7D3-1DD090B8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FA31-BA1E-453B-846A-E083F837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B0E0-BAFF-4CCB-8653-031064DC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6FC4-2BC5-46B5-89F3-DD2A138B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F85C-5A11-41E1-9EE4-F866A6E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D5F-28BD-495E-9A5C-2DFE5B4C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1713-2CF6-439A-8679-390FF3B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E063-B2D3-4EA7-A7A9-49EE52B8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FD7-9906-454B-A1C1-7338C373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7E56-A38D-4A77-AD9C-A31F3B09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E312-85DB-4BA2-B024-6DDC03F3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1B05-48C4-4965-B877-79247A35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2936-E58A-4AB1-8F28-A5B02300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31C1-39C1-4E23-88D7-77CDEB2D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2E63-6138-4966-A990-B19BE237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BC0A1-C199-434C-82B2-2EE65FCC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69A-6AD9-46AE-B0F0-D8AA6C45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301B-7060-4D8C-AB53-51B041AB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47025-6416-41B0-A1E4-E2DA274B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3BA9-9F52-4810-8256-30B495A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A307-A73A-45EF-B624-C2960901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1E77-B340-49CD-841D-05800390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3C93-2C16-4B28-A5FB-DFD8F4AF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3D35-CC86-4FA8-83AD-7811D101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170-9255-42CC-A3D8-57B1C195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ABB-10EC-4121-895E-52BD1D13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522-FC2E-441A-97E4-57249C6E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18C-61D6-4FF8-80F3-8CADD3DC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E2E-20F4-42A0-862A-0AC34792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14B-81B1-45F8-AD8D-75815B84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BB6F-24FA-494C-B27D-11DF2AF8AB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F561-9423-4592-96B1-BED8C1CCA1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B8FF-1DE5-43B6-87A7-B72CF626DBF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19160" y="477720"/>
            <a:ext cx="172872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Arrow Connector 15"/>
          <p:cNvCxnSpPr>
            <a:endCxn id="131" idx="0"/>
          </p:cNvCxnSpPr>
          <p:nvPr/>
        </p:nvCxnSpPr>
        <p:spPr>
          <a:xfrm flipH="1" flipV="1">
            <a:off x="983520" y="477720"/>
            <a:ext cx="1080" cy="86580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3" name="Straight Arrow Connector 16"/>
          <p:cNvCxnSpPr/>
          <p:nvPr/>
        </p:nvCxnSpPr>
        <p:spPr>
          <a:xfrm flipH="1">
            <a:off x="767880" y="1342800"/>
            <a:ext cx="21672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19160" y="4724280"/>
            <a:ext cx="172728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35" name="Straight Arrow Connector 37"/>
          <p:cNvCxnSpPr/>
          <p:nvPr/>
        </p:nvCxnSpPr>
        <p:spPr>
          <a:xfrm>
            <a:off x="982440" y="5589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6" name="Straight Arrow Connector 38"/>
          <p:cNvCxnSpPr/>
          <p:nvPr/>
        </p:nvCxnSpPr>
        <p:spPr>
          <a:xfrm flipV="1">
            <a:off x="982440" y="5157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108000" y="2563920"/>
            <a:ext cx="1728720" cy="173016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42"/>
          <p:cNvCxnSpPr>
            <a:endCxn id="137" idx="2"/>
          </p:cNvCxnSpPr>
          <p:nvPr/>
        </p:nvCxnSpPr>
        <p:spPr>
          <a:xfrm flipH="1">
            <a:off x="972360" y="3430080"/>
            <a:ext cx="72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43"/>
          <p:cNvCxnSpPr/>
          <p:nvPr/>
        </p:nvCxnSpPr>
        <p:spPr>
          <a:xfrm flipH="1" flipV="1">
            <a:off x="614520" y="3214080"/>
            <a:ext cx="358920" cy="21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0" name="Picture 1" descr=""/>
          <p:cNvPicPr/>
          <p:nvPr/>
        </p:nvPicPr>
        <p:blipFill>
          <a:blip r:embed="rId4"/>
          <a:stretch/>
        </p:blipFill>
        <p:spPr>
          <a:xfrm>
            <a:off x="1835280" y="378000"/>
            <a:ext cx="1854000" cy="18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5"/>
          <a:stretch/>
        </p:blipFill>
        <p:spPr>
          <a:xfrm>
            <a:off x="4211640" y="2600280"/>
            <a:ext cx="1547640" cy="1595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6"/>
          <a:stretch/>
        </p:blipFill>
        <p:spPr>
          <a:xfrm>
            <a:off x="1835280" y="4776840"/>
            <a:ext cx="199548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963800" y="2563920"/>
            <a:ext cx="2263680" cy="160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8"/>
          <a:stretch/>
        </p:blipFill>
        <p:spPr>
          <a:xfrm>
            <a:off x="3780000" y="4675320"/>
            <a:ext cx="2473200" cy="1709640"/>
          </a:xfrm>
          <a:prstGeom prst="rect">
            <a:avLst/>
          </a:prstGeom>
          <a:ln w="0">
            <a:noFill/>
          </a:ln>
        </p:spPr>
      </p:pic>
      <p:sp>
        <p:nvSpPr>
          <p:cNvPr id="145" name="32-Point Star 11"/>
          <p:cNvSpPr/>
          <p:nvPr/>
        </p:nvSpPr>
        <p:spPr>
          <a:xfrm>
            <a:off x="6084720" y="-387360"/>
            <a:ext cx="3600720" cy="2664000"/>
          </a:xfrm>
          <a:custGeom>
            <a:avLst/>
            <a:gdLst>
              <a:gd name="textAreaLeft" fmla="*/ 821880 w 3600720"/>
              <a:gd name="textAreaRight" fmla="*/ 2778840 w 360072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6778800" y="2556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son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it’s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a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9160" y="477720"/>
            <a:ext cx="172872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5"/>
          <p:cNvCxnSpPr>
            <a:endCxn id="148" idx="0"/>
          </p:cNvCxnSpPr>
          <p:nvPr/>
        </p:nvCxnSpPr>
        <p:spPr>
          <a:xfrm flipH="1" flipV="1">
            <a:off x="983520" y="477360"/>
            <a:ext cx="1080" cy="8661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50" name="Straight Arrow Connector 16"/>
          <p:cNvCxnSpPr/>
          <p:nvPr/>
        </p:nvCxnSpPr>
        <p:spPr>
          <a:xfrm flipH="1">
            <a:off x="767880" y="1342800"/>
            <a:ext cx="21672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119160" y="4724280"/>
            <a:ext cx="172728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52" name="Straight Arrow Connector 37"/>
          <p:cNvCxnSpPr/>
          <p:nvPr/>
        </p:nvCxnSpPr>
        <p:spPr>
          <a:xfrm>
            <a:off x="982440" y="5589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53" name="Straight Arrow Connector 38"/>
          <p:cNvCxnSpPr/>
          <p:nvPr/>
        </p:nvCxnSpPr>
        <p:spPr>
          <a:xfrm flipV="1">
            <a:off x="982440" y="5157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108000" y="2563920"/>
            <a:ext cx="1728720" cy="1730160"/>
          </a:xfrm>
          <a:prstGeom prst="rect">
            <a:avLst/>
          </a:prstGeom>
          <a:ln w="0">
            <a:noFill/>
          </a:ln>
        </p:spPr>
      </p:pic>
      <p:cxnSp>
        <p:nvCxnSpPr>
          <p:cNvPr id="155" name="Straight Arrow Connector 42"/>
          <p:cNvCxnSpPr>
            <a:endCxn id="154" idx="2"/>
          </p:cNvCxnSpPr>
          <p:nvPr/>
        </p:nvCxnSpPr>
        <p:spPr>
          <a:xfrm>
            <a:off x="972720" y="343008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Straight Arrow Connector 43"/>
          <p:cNvCxnSpPr/>
          <p:nvPr/>
        </p:nvCxnSpPr>
        <p:spPr>
          <a:xfrm flipH="1" flipV="1">
            <a:off x="614520" y="3214080"/>
            <a:ext cx="358920" cy="21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7" name="Picture 1" descr=""/>
          <p:cNvPicPr/>
          <p:nvPr/>
        </p:nvPicPr>
        <p:blipFill>
          <a:blip r:embed="rId4"/>
          <a:stretch/>
        </p:blipFill>
        <p:spPr>
          <a:xfrm>
            <a:off x="1835280" y="378000"/>
            <a:ext cx="185400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5"/>
          <a:stretch/>
        </p:blipFill>
        <p:spPr>
          <a:xfrm>
            <a:off x="4211640" y="2600280"/>
            <a:ext cx="1547640" cy="1595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6"/>
          <a:stretch/>
        </p:blipFill>
        <p:spPr>
          <a:xfrm>
            <a:off x="1835280" y="4776840"/>
            <a:ext cx="1995480" cy="167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7"/>
          <a:stretch/>
        </p:blipFill>
        <p:spPr>
          <a:xfrm>
            <a:off x="1963800" y="2563920"/>
            <a:ext cx="2263680" cy="1604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8"/>
          <a:stretch/>
        </p:blipFill>
        <p:spPr>
          <a:xfrm>
            <a:off x="3780000" y="4675320"/>
            <a:ext cx="2473200" cy="1709640"/>
          </a:xfrm>
          <a:prstGeom prst="rect">
            <a:avLst/>
          </a:prstGeom>
          <a:ln w="0">
            <a:noFill/>
          </a:ln>
        </p:spPr>
      </p:pic>
      <p:sp>
        <p:nvSpPr>
          <p:cNvPr id="162" name="32-Point Star 11"/>
          <p:cNvSpPr/>
          <p:nvPr/>
        </p:nvSpPr>
        <p:spPr>
          <a:xfrm>
            <a:off x="6084720" y="-387360"/>
            <a:ext cx="3600720" cy="2664000"/>
          </a:xfrm>
          <a:custGeom>
            <a:avLst/>
            <a:gdLst>
              <a:gd name="textAreaLeft" fmla="*/ 821880 w 3600720"/>
              <a:gd name="textAreaRight" fmla="*/ 2778840 w 360072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6778800" y="2556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son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it’s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a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3095640" y="136440"/>
            <a:ext cx="3168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siete, hace frío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19160" y="477720"/>
            <a:ext cx="172872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15"/>
          <p:cNvCxnSpPr>
            <a:endCxn id="166" idx="0"/>
          </p:cNvCxnSpPr>
          <p:nvPr/>
        </p:nvCxnSpPr>
        <p:spPr>
          <a:xfrm flipH="1" flipV="1">
            <a:off x="983520" y="477360"/>
            <a:ext cx="1080" cy="8661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68" name="Straight Arrow Connector 16"/>
          <p:cNvCxnSpPr/>
          <p:nvPr/>
        </p:nvCxnSpPr>
        <p:spPr>
          <a:xfrm flipH="1">
            <a:off x="767880" y="1342800"/>
            <a:ext cx="21672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119160" y="4724280"/>
            <a:ext cx="172728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37"/>
          <p:cNvCxnSpPr/>
          <p:nvPr/>
        </p:nvCxnSpPr>
        <p:spPr>
          <a:xfrm>
            <a:off x="982440" y="5589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71" name="Straight Arrow Connector 38"/>
          <p:cNvCxnSpPr/>
          <p:nvPr/>
        </p:nvCxnSpPr>
        <p:spPr>
          <a:xfrm flipV="1">
            <a:off x="982440" y="5157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108000" y="2563920"/>
            <a:ext cx="1728720" cy="173016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42"/>
          <p:cNvCxnSpPr>
            <a:endCxn id="172" idx="2"/>
          </p:cNvCxnSpPr>
          <p:nvPr/>
        </p:nvCxnSpPr>
        <p:spPr>
          <a:xfrm>
            <a:off x="972720" y="343008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4" name="Straight Arrow Connector 43"/>
          <p:cNvCxnSpPr/>
          <p:nvPr/>
        </p:nvCxnSpPr>
        <p:spPr>
          <a:xfrm flipH="1" flipV="1">
            <a:off x="614520" y="3214080"/>
            <a:ext cx="358920" cy="21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5" name="Picture 1" descr=""/>
          <p:cNvPicPr/>
          <p:nvPr/>
        </p:nvPicPr>
        <p:blipFill>
          <a:blip r:embed="rId4"/>
          <a:stretch/>
        </p:blipFill>
        <p:spPr>
          <a:xfrm>
            <a:off x="1835280" y="378000"/>
            <a:ext cx="18540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5"/>
          <a:stretch/>
        </p:blipFill>
        <p:spPr>
          <a:xfrm>
            <a:off x="4211640" y="2600280"/>
            <a:ext cx="1547640" cy="1595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6"/>
          <a:stretch/>
        </p:blipFill>
        <p:spPr>
          <a:xfrm>
            <a:off x="1835280" y="4776840"/>
            <a:ext cx="199548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7"/>
          <a:stretch/>
        </p:blipFill>
        <p:spPr>
          <a:xfrm>
            <a:off x="1963800" y="2563920"/>
            <a:ext cx="2263680" cy="160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8"/>
          <a:stretch/>
        </p:blipFill>
        <p:spPr>
          <a:xfrm>
            <a:off x="3780000" y="4675320"/>
            <a:ext cx="2473200" cy="1709640"/>
          </a:xfrm>
          <a:prstGeom prst="rect">
            <a:avLst/>
          </a:prstGeom>
          <a:ln w="0">
            <a:noFill/>
          </a:ln>
        </p:spPr>
      </p:pic>
      <p:sp>
        <p:nvSpPr>
          <p:cNvPr id="180" name="32-Point Star 11"/>
          <p:cNvSpPr/>
          <p:nvPr/>
        </p:nvSpPr>
        <p:spPr>
          <a:xfrm>
            <a:off x="6084720" y="-387360"/>
            <a:ext cx="3600720" cy="2664000"/>
          </a:xfrm>
          <a:custGeom>
            <a:avLst/>
            <a:gdLst>
              <a:gd name="textAreaLeft" fmla="*/ 821880 w 3600720"/>
              <a:gd name="textAreaRight" fmla="*/ 2778840 w 360072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6778800" y="2556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son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it’s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a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3095640" y="136440"/>
            <a:ext cx="3168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siete, hace frío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5688000" y="2276640"/>
            <a:ext cx="356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diez y media, hace viento y llueve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a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119160" y="477720"/>
            <a:ext cx="172872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86" name="Straight Arrow Connector 15"/>
          <p:cNvCxnSpPr>
            <a:endCxn id="185" idx="0"/>
          </p:cNvCxnSpPr>
          <p:nvPr/>
        </p:nvCxnSpPr>
        <p:spPr>
          <a:xfrm flipH="1" flipV="1">
            <a:off x="983520" y="477360"/>
            <a:ext cx="1080" cy="8661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87" name="Straight Arrow Connector 16"/>
          <p:cNvCxnSpPr/>
          <p:nvPr/>
        </p:nvCxnSpPr>
        <p:spPr>
          <a:xfrm flipH="1">
            <a:off x="767880" y="1342800"/>
            <a:ext cx="216720" cy="43236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19160" y="4724280"/>
            <a:ext cx="1727280" cy="1729080"/>
          </a:xfrm>
          <a:prstGeom prst="rect">
            <a:avLst/>
          </a:prstGeom>
          <a:ln w="0">
            <a:noFill/>
          </a:ln>
        </p:spPr>
      </p:pic>
      <p:cxnSp>
        <p:nvCxnSpPr>
          <p:cNvPr id="189" name="Straight Arrow Connector 37"/>
          <p:cNvCxnSpPr/>
          <p:nvPr/>
        </p:nvCxnSpPr>
        <p:spPr>
          <a:xfrm>
            <a:off x="982440" y="5589360"/>
            <a:ext cx="70236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90" name="Straight Arrow Connector 38"/>
          <p:cNvCxnSpPr/>
          <p:nvPr/>
        </p:nvCxnSpPr>
        <p:spPr>
          <a:xfrm flipV="1">
            <a:off x="982440" y="5157360"/>
            <a:ext cx="1080" cy="43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108000" y="2563920"/>
            <a:ext cx="1728720" cy="173016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Arrow Connector 42"/>
          <p:cNvCxnSpPr>
            <a:endCxn id="191" idx="2"/>
          </p:cNvCxnSpPr>
          <p:nvPr/>
        </p:nvCxnSpPr>
        <p:spPr>
          <a:xfrm>
            <a:off x="972720" y="3430080"/>
            <a:ext cx="108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Straight Arrow Connector 43"/>
          <p:cNvCxnSpPr/>
          <p:nvPr/>
        </p:nvCxnSpPr>
        <p:spPr>
          <a:xfrm flipH="1" flipV="1">
            <a:off x="614520" y="3214080"/>
            <a:ext cx="358920" cy="21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94" name="Picture 1" descr=""/>
          <p:cNvPicPr/>
          <p:nvPr/>
        </p:nvPicPr>
        <p:blipFill>
          <a:blip r:embed="rId4"/>
          <a:stretch/>
        </p:blipFill>
        <p:spPr>
          <a:xfrm>
            <a:off x="1835280" y="378000"/>
            <a:ext cx="185400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4211640" y="2600280"/>
            <a:ext cx="1547640" cy="1595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6"/>
          <a:stretch/>
        </p:blipFill>
        <p:spPr>
          <a:xfrm>
            <a:off x="1835280" y="4776840"/>
            <a:ext cx="1995480" cy="167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7"/>
          <a:stretch/>
        </p:blipFill>
        <p:spPr>
          <a:xfrm>
            <a:off x="1963800" y="2563920"/>
            <a:ext cx="2263680" cy="1604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8"/>
          <a:stretch/>
        </p:blipFill>
        <p:spPr>
          <a:xfrm>
            <a:off x="3780000" y="4675320"/>
            <a:ext cx="2473200" cy="1709640"/>
          </a:xfrm>
          <a:prstGeom prst="rect">
            <a:avLst/>
          </a:prstGeom>
          <a:ln w="0">
            <a:noFill/>
          </a:ln>
        </p:spPr>
      </p:pic>
      <p:sp>
        <p:nvSpPr>
          <p:cNvPr id="199" name="32-Point Star 11"/>
          <p:cNvSpPr/>
          <p:nvPr/>
        </p:nvSpPr>
        <p:spPr>
          <a:xfrm>
            <a:off x="6084720" y="-387360"/>
            <a:ext cx="3600720" cy="2664000"/>
          </a:xfrm>
          <a:custGeom>
            <a:avLst/>
            <a:gdLst>
              <a:gd name="textAreaLeft" fmla="*/ 821880 w 3600720"/>
              <a:gd name="textAreaRight" fmla="*/ 2778840 w 360072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778800" y="2556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son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it’s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a las do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2 o’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3095640" y="136440"/>
            <a:ext cx="3168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siete, hace frío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5688000" y="2276640"/>
            <a:ext cx="356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diez y media, hace viento y llueve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5867280" y="4437000"/>
            <a:ext cx="32767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A las doce y cuarto, hace calor y hay niebla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02-25T10:37:24Z</dcterms:modified>
  <cp:revision>268</cp:revision>
  <dc:subject/>
  <dc:title>TITLE</dc:title>
</cp:coreProperties>
</file>