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635-B4CD-457A-A45E-253372A5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50A-74B3-4D69-866B-EAB3BA58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D03-F1E1-4672-B61F-0A700BCD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BC3-3527-4C83-B359-AA309780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E4C-4718-4D36-B217-5FA9CB4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0C8-42D4-4BB3-A5C5-F49E5A57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82F-F8F9-4713-AFB1-D75996A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D61-165A-405A-8BB7-A22A7BF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CE6-2283-4078-8E4F-6AB11D5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84E-E943-4602-AFE0-7032750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5FF-A4AD-458B-80A4-4AC6E83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496-FCE2-4A86-B305-C618A86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0DC3-E9C0-4625-BE71-94DCD4454E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3080" y="2557440"/>
            <a:ext cx="1708200" cy="175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050240" y="2244600"/>
            <a:ext cx="203328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ular Callout 5"/>
          <p:cNvSpPr/>
          <p:nvPr/>
        </p:nvSpPr>
        <p:spPr>
          <a:xfrm>
            <a:off x="2941560" y="692280"/>
            <a:ext cx="3581640" cy="850680"/>
          </a:xfrm>
          <a:prstGeom prst="wedgeRoundRectCallout">
            <a:avLst>
              <a:gd name="adj1" fmla="val -88833"/>
              <a:gd name="adj2" fmla="val 81620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Veo ve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ounded Rectangular Callout 8"/>
          <p:cNvSpPr/>
          <p:nvPr/>
        </p:nvSpPr>
        <p:spPr>
          <a:xfrm>
            <a:off x="2941560" y="1870200"/>
            <a:ext cx="3581640" cy="850680"/>
          </a:xfrm>
          <a:prstGeom prst="wedgeRoundRectCallout">
            <a:avLst>
              <a:gd name="adj1" fmla="val 65120"/>
              <a:gd name="adj2" fmla="val 54347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¿ Qué ves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ounded Rectangular Callout 9"/>
          <p:cNvSpPr/>
          <p:nvPr/>
        </p:nvSpPr>
        <p:spPr>
          <a:xfrm>
            <a:off x="2825640" y="3049560"/>
            <a:ext cx="3813120" cy="849240"/>
          </a:xfrm>
          <a:prstGeom prst="wedgeRoundRectCallout">
            <a:avLst>
              <a:gd name="adj1" fmla="val -71759"/>
              <a:gd name="adj2" fmla="val 8893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Una cosi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ounded Rectangular Callout 10"/>
          <p:cNvSpPr/>
          <p:nvPr/>
        </p:nvSpPr>
        <p:spPr>
          <a:xfrm>
            <a:off x="2131920" y="4227480"/>
            <a:ext cx="5200920" cy="849240"/>
          </a:xfrm>
          <a:prstGeom prst="wedgeRoundRectCallout">
            <a:avLst>
              <a:gd name="adj1" fmla="val 54763"/>
              <a:gd name="adj2" fmla="val -51712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¿ Qué cosita es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ounded Rectangular Callout 11"/>
          <p:cNvSpPr/>
          <p:nvPr/>
        </p:nvSpPr>
        <p:spPr>
          <a:xfrm>
            <a:off x="1547640" y="5589720"/>
            <a:ext cx="5502600" cy="849240"/>
          </a:xfrm>
          <a:prstGeom prst="wedgeRoundRectCallout">
            <a:avLst>
              <a:gd name="adj1" fmla="val -51986"/>
              <a:gd name="adj2" fmla="val -124902"/>
              <a:gd name="adj3" fmla="val 16667"/>
            </a:avLst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Una frase del tiemp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7-06-25T16:08:44Z</dcterms:modified>
  <cp:revision>186</cp:revision>
  <dc:subject/>
  <dc:title>TITLE</dc:title>
</cp:coreProperties>
</file>