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1697-9B42-48DD-92F5-B9858A79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AD19-CE4B-4013-A8AE-143B0E8A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A56-CD0D-4C2A-8833-29E2AA37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0ED2-F2A4-4FE6-8A36-2B411CE0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44D9-1872-496A-838D-27CA1CB7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0BDD-B1BA-4747-9925-7BC48486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1423-DE9D-4381-9612-756093DB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D4CC-C542-4D52-9632-DE6698FD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3FE-9652-4DA1-9284-8DBDCD5E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2452-5F47-4553-95E2-1FFB793E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2DFB-1192-4A2B-9A7E-CD51D31F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A3F-FDF0-4F7D-8C83-CCB99EDC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5E08-7502-40B9-B306-349A0EA4842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73080" y="2557440"/>
            <a:ext cx="1708200" cy="1758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7050240" y="2244600"/>
            <a:ext cx="2033280" cy="180972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ular Callout 5"/>
          <p:cNvSpPr/>
          <p:nvPr/>
        </p:nvSpPr>
        <p:spPr>
          <a:xfrm>
            <a:off x="2941560" y="692280"/>
            <a:ext cx="3581640" cy="850680"/>
          </a:xfrm>
          <a:prstGeom prst="wedgeRoundRectCallout">
            <a:avLst>
              <a:gd name="adj1" fmla="val -88833"/>
              <a:gd name="adj2" fmla="val 81620"/>
              <a:gd name="adj3" fmla="val 16667"/>
            </a:avLst>
          </a:prstGeom>
          <a:solidFill>
            <a:srgbClr val="ffffd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Veo ve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Rounded Rectangular Callout 8"/>
          <p:cNvSpPr/>
          <p:nvPr/>
        </p:nvSpPr>
        <p:spPr>
          <a:xfrm>
            <a:off x="2941560" y="1870200"/>
            <a:ext cx="3581640" cy="850680"/>
          </a:xfrm>
          <a:prstGeom prst="wedgeRoundRectCallout">
            <a:avLst>
              <a:gd name="adj1" fmla="val 65120"/>
              <a:gd name="adj2" fmla="val 54347"/>
              <a:gd name="adj3" fmla="val 16667"/>
            </a:avLst>
          </a:prstGeom>
          <a:solidFill>
            <a:srgbClr val="ffffd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¿ Qué ves 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Rounded Rectangular Callout 9"/>
          <p:cNvSpPr/>
          <p:nvPr/>
        </p:nvSpPr>
        <p:spPr>
          <a:xfrm>
            <a:off x="2825640" y="3049560"/>
            <a:ext cx="3813120" cy="849240"/>
          </a:xfrm>
          <a:prstGeom prst="wedgeRoundRectCallout">
            <a:avLst>
              <a:gd name="adj1" fmla="val -71759"/>
              <a:gd name="adj2" fmla="val 8893"/>
              <a:gd name="adj3" fmla="val 16667"/>
            </a:avLst>
          </a:prstGeom>
          <a:solidFill>
            <a:srgbClr val="ffffd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Una cosit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Rounded Rectangular Callout 10"/>
          <p:cNvSpPr/>
          <p:nvPr/>
        </p:nvSpPr>
        <p:spPr>
          <a:xfrm>
            <a:off x="2131920" y="4227480"/>
            <a:ext cx="5200920" cy="849240"/>
          </a:xfrm>
          <a:prstGeom prst="wedgeRoundRectCallout">
            <a:avLst>
              <a:gd name="adj1" fmla="val 54763"/>
              <a:gd name="adj2" fmla="val -51712"/>
              <a:gd name="adj3" fmla="val 16667"/>
            </a:avLst>
          </a:prstGeom>
          <a:solidFill>
            <a:srgbClr val="ffffd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¿ Qué cosita es 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ounded Rectangular Callout 11"/>
          <p:cNvSpPr/>
          <p:nvPr/>
        </p:nvSpPr>
        <p:spPr>
          <a:xfrm>
            <a:off x="1547640" y="5589720"/>
            <a:ext cx="5502600" cy="849240"/>
          </a:xfrm>
          <a:prstGeom prst="wedgeRoundRectCallout">
            <a:avLst>
              <a:gd name="adj1" fmla="val -51986"/>
              <a:gd name="adj2" fmla="val -124902"/>
              <a:gd name="adj3" fmla="val 16667"/>
            </a:avLst>
          </a:prstGeom>
          <a:solidFill>
            <a:srgbClr val="ffffd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Una frase del tiempo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7-06-25T16:08:44Z</dcterms:modified>
  <cp:revision>186</cp:revision>
  <dc:subject/>
  <dc:title>TITLE</dc:title>
</cp:coreProperties>
</file>