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5FA-99BA-4F4E-A911-C1E1B1B29D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4950-781B-4FDB-8E3B-7DDDB19BE9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CB0-D718-4F8B-9DBF-4E3C25D946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C627-1ACB-4BFF-B130-6252606CF8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596-296A-4747-B5A9-6F80AEE337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924-4233-4BF2-9FD8-ED383AFB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A81-B0F6-4A54-8045-F03561E0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FA0-1686-4096-A2AC-7FADB9ED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8F6-9BF9-433D-8C71-BE7E6541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D6BD-6E09-4E72-990F-77075E71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F530-5AC1-41D6-8430-0203ABF4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2924-9F50-47ED-9B9E-C6E1551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1C46-7646-4609-A6E7-8194C703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15E1-A4CA-460B-BCC8-85B96413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A347-9116-4D62-8AA9-1C4252A9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0764-C8EC-4B64-81B9-B7830CD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3FE-B79C-40A7-89B5-3C0A74E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94DE-680A-4D74-829D-7A282C0C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6F6E-A344-460F-B620-B7ECF33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DB5D-F870-4CCE-A3CC-8964E4E7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D6BF-25DC-4A32-AEF4-FB0124E7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DDCC-0EF4-472E-A849-F6B2B233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CB3-F445-40BA-BAAE-1DBB2110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EEC-05D7-4DEA-A697-31F913D4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313-C8A8-4D8B-B37A-0895154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ABE-7486-4A3B-86FA-DF2C58E5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E20-293C-4AB8-A617-D6DF8223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706-0C6C-442D-B0C9-371E474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F08-8F96-4321-8700-1655DC4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4CC5-71C7-4C55-8A08-DF17AAF304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18E-3FB2-4007-A853-B47F0C5AAB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2340000" y="472428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lápiz de color 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197080" y="1400040"/>
            <a:ext cx="5183280" cy="332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6"/>
          <p:cNvSpPr/>
          <p:nvPr/>
        </p:nvSpPr>
        <p:spPr>
          <a:xfrm>
            <a:off x="2268360" y="4508640"/>
            <a:ext cx="47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estuche de color 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967640" cy="372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2050920" y="4594320"/>
            <a:ext cx="51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 regla de color 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616360" cy="374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2268360" y="4581360"/>
            <a:ext cx="47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 sacapuntas de color 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659640" y="6245280"/>
            <a:ext cx="2484360" cy="612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rcRect l="20076" t="0" r="24803" b="0"/>
          <a:stretch/>
        </p:blipFill>
        <p:spPr>
          <a:xfrm>
            <a:off x="3029040" y="765000"/>
            <a:ext cx="3230640" cy="389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681120" y="11592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3-19T11:25:01Z</dcterms:modified>
  <cp:revision>145</cp:revision>
  <dc:subject/>
  <dc:title>TITLE</dc:title>
</cp:coreProperties>
</file>