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FC99-FCE5-4DF5-B1A0-5636BDA285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F264-BC98-4239-987A-D36ACA6180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207-2126-4559-8411-BE82572472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4EF-1058-4052-8102-51AE3F2C89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15F6-E550-436E-84A7-BDD61C96F4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99C-5329-4FA0-9E50-3341250F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47E-D1A4-4533-9BB3-D9A35CE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803-D261-4BF4-BEF5-FACA58F2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04D-0CCB-485A-B795-7652E6C9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EC2-0CC1-4D51-958E-6D37966D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F92F-BF9D-4EC8-89E7-A89F3CC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F12-DD4F-4B09-B7C9-E45A57D4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3394-E975-4E67-BCC3-41FB4FE6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125D-EDB2-4F57-BEF2-51A0AA6F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051C-9A02-48BA-B737-E0F67D2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4573-C341-4978-82BD-7DA30095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081-1407-4AD8-94F0-94D45B0E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559E-CD75-40B5-9061-11B1417A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769-4C90-4764-80CC-2300C05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D84A-531B-4753-98CF-ED2D4439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48E4-7D31-42F5-831E-9F5D4595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4241-BFDD-46C0-BE31-B1911FA0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C00-6AE3-4ADF-A0E0-E6D34783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4E9-C2B5-432A-A767-B07C1838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E27-4A71-4046-9FFE-3491D3F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C3A-4E03-4373-8DD1-CA84DBC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E7D-04BD-4232-B797-E4248013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AD3-FDC5-4F40-A645-0ADEAB5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ED6-9941-444A-8058-F3B9399C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862-6A64-4742-A396-14FE182234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0A18-55C7-4588-8347-81667DD91D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2340000" y="472428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lápiz de color 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197080" y="1400040"/>
            <a:ext cx="5183280" cy="33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6"/>
          <p:cNvSpPr/>
          <p:nvPr/>
        </p:nvSpPr>
        <p:spPr>
          <a:xfrm>
            <a:off x="2268360" y="4508640"/>
            <a:ext cx="47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estuche de color 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967640" cy="372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2050920" y="4594320"/>
            <a:ext cx="51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regla de color 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616360" cy="374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2268360" y="4581360"/>
            <a:ext cx="47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sacapuntas de color 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rcRect l="20076" t="0" r="24803" b="0"/>
          <a:stretch/>
        </p:blipFill>
        <p:spPr>
          <a:xfrm>
            <a:off x="3029040" y="765000"/>
            <a:ext cx="3230640" cy="389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3-19T11:25:01Z</dcterms:modified>
  <cp:revision>145</cp:revision>
  <dc:subject/>
  <dc:title>TITLE</dc:title>
</cp:coreProperties>
</file>