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8B0-978F-4A66-AE59-E27221D2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EBF-AEDD-47A2-A095-8154F0F0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CB4-C54C-4CC1-B2A4-A7157097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323-9E65-441E-8B0F-E8D35F5B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651-4855-493A-B366-BD14F5B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C1A-FEF4-4A5A-BB1E-8029311C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2B1-E567-441E-9340-1CC562A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451-17B7-4731-A8D1-2F8980D5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AB9-1DD3-4335-B640-07B6151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D1A-D705-4B26-BAE1-86EB141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EB2-C9FB-4DA5-AC81-74787877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1DD-E2BE-4A33-A206-265CCBE0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D63-E19E-4EC0-A96D-BDF333E5E1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826920" y="0"/>
            <a:ext cx="752508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7093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941720"/>
            <a:ext cx="2448000" cy="863640"/>
          </a:xfrm>
          <a:prstGeom prst="rightArrowCallout">
            <a:avLst>
              <a:gd name="adj1" fmla="val 25002"/>
              <a:gd name="adj2" fmla="val 25000"/>
              <a:gd name="adj3" fmla="val 47242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2502000" cy="706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33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2362320" cy="568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tretch/>
        </p:blipFill>
        <p:spPr>
          <a:xfrm>
            <a:off x="5329080" y="6232680"/>
            <a:ext cx="3814920" cy="625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7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7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74" name="Oval 9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sp>
        <p:nvSpPr>
          <p:cNvPr id="82" name="Oval 4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7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93" name="Oval 9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09-12-08T07:37:22Z</dcterms:modified>
  <cp:revision>57</cp:revision>
  <dc:subject/>
  <dc:title>TITLE</dc:title>
</cp:coreProperties>
</file>