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245-4D7D-4E41-836C-DF4164D2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92B-4C6A-4FF1-9B79-4F8B20C9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7B1-C060-42B1-A485-E4CE052F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5CA-F776-43C2-931C-BC20C78D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44D-BF10-4FB8-AB1A-47A0E9BC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BBC-DCBD-49E5-909D-68285E23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A96-FC56-41A9-AAF4-C312F5ED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B9D-5A69-4CCB-BB95-2A403AEB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C46-91F1-45E2-927E-313AA366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F7B-5241-4623-B655-D3078F17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79F-7981-48E5-96EB-F6B48EC4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B3D-316A-4F5B-A2A6-92134C85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C263-319F-4C86-AAC1-CC41675E8A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826920" y="0"/>
            <a:ext cx="752508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7093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941720"/>
            <a:ext cx="2448000" cy="863640"/>
          </a:xfrm>
          <a:prstGeom prst="rightArrowCallout">
            <a:avLst>
              <a:gd name="adj1" fmla="val 25002"/>
              <a:gd name="adj2" fmla="val 25000"/>
              <a:gd name="adj3" fmla="val 47242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633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2502000" cy="706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6332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5"/>
          <a:stretch/>
        </p:blipFill>
        <p:spPr>
          <a:xfrm>
            <a:off x="395280" y="1989000"/>
            <a:ext cx="2362320" cy="568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6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7"/>
          <a:stretch/>
        </p:blipFill>
        <p:spPr>
          <a:xfrm>
            <a:off x="5329080" y="6232680"/>
            <a:ext cx="3814920" cy="625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5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6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7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8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6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7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8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74" name="Oval 9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7164360" y="2421000"/>
            <a:ext cx="197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arcel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3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132000" y="51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6334200"/>
          </a:xfrm>
          <a:prstGeom prst="rect">
            <a:avLst/>
          </a:prstGeom>
          <a:ln w="0">
            <a:noFill/>
          </a:ln>
        </p:spPr>
      </p:pic>
      <p:sp>
        <p:nvSpPr>
          <p:cNvPr id="82" name="Oval 4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5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6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7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8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93" name="Oval 9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356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7164360" y="2421000"/>
            <a:ext cx="197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arcel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132000" y="51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09-12-08T07:37:22Z</dcterms:modified>
  <cp:revision>57</cp:revision>
  <dc:subject/>
  <dc:title>TITLE</dc:title>
</cp:coreProperties>
</file>