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9FD6-AC61-4E1D-B5A5-611B7C2DB1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6435-82C7-49EA-8ABA-20B6A10226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13D4-083B-433E-B14C-0143F26F02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A52-B4B0-4C78-A76D-EB196A41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DFB-A56B-4654-8691-10EF5B99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7EA-EACC-425D-B5D9-4DAB4400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7A8-E771-455A-B5B1-9E48B10B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DAC-4FC2-481E-8431-6DEE3091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8BF-3637-4681-A87B-5F94D1AB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EC9-ABA8-4BD6-AC1D-CA417C8E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F95-0045-4CFA-BDE3-6CE9E5AD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A53-C223-4EC5-B793-11D8429A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72D-4C97-4637-A76E-1A35245F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343-8FEF-4558-916A-301B668A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F39-B964-485D-A2FD-94D74451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4B0D-3E53-4717-B4AE-9614115EE9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5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16360" y="404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wims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981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otball b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1628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2205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2852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3500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wimming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4076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k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472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ot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537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59500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llet 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0720" y="40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40720" y="98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162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22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40720" y="28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12000" y="3500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200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200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12000" y="537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87280" y="260280"/>
          <a:ext cx="6769080" cy="239544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406520"/>
                <a:gridCol w="1339920"/>
                <a:gridCol w="13413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sg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sg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pl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pl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106344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1795320" cy="1717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76720" y="3429000"/>
            <a:ext cx="1308240" cy="1671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877080" y="3500280"/>
            <a:ext cx="1422360" cy="1465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524720" y="3500280"/>
            <a:ext cx="142236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11:47Z</dcterms:modified>
  <cp:revision>131</cp:revision>
  <dc:subject/>
  <dc:title>TITLE</dc:title>
</cp:coreProperties>
</file>