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BC2F-79F0-468B-88E3-F07E914C0B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2AE7-C82A-4824-B9D8-96EC210BE8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D460-80FA-4F81-BDB8-98707ACD4A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A3B-EDF6-4C6A-9AF6-C1C79330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4B4-AE0B-4A94-8EA6-995B5BC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5B-C1A8-42ED-9E54-537C67AE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9F7-C3E0-4BA0-8A44-BBD32EED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470-B771-4E88-92E1-A078E96A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952-BFEC-44E7-8485-ECEA057C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FC4-610C-40D7-BF00-79342258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7D5-7DA7-4C9C-8275-CF03D335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4B5-F43E-4048-B4E5-4AE199E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126-3701-41F6-9962-A4B2CDC1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FA0-E113-4C0B-BC9C-6CD0225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476-A8F6-472A-812A-3F3EB1B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FB6E-E309-48E5-9022-82A1EFB895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5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16360" y="404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981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otball b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1628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2205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852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500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ming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407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472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o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537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59500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llet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40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98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22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35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87280" y="260280"/>
          <a:ext cx="6769080" cy="239544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406520"/>
                <a:gridCol w="1339920"/>
                <a:gridCol w="1341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s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s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p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p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106344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1795320" cy="171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1308240" cy="167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77080" y="3500280"/>
            <a:ext cx="1422360" cy="1465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524720" y="3500280"/>
            <a:ext cx="142236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11:47Z</dcterms:modified>
  <cp:revision>131</cp:revision>
  <dc:subject/>
  <dc:title>TITLE</dc:title>
</cp:coreProperties>
</file>