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1CDE-26AB-41BB-9297-E74FF08B186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072C-A2ED-485A-AF20-6FD1B3C3B93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D193-736A-4CCE-A57F-174B1EA313F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7B03-38D5-43DC-8896-2B87DD94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4ACA-FC18-4AA0-AAAB-2A7D9585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9EFF-C010-4B76-87BE-BAAFA4F8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8BE3-DDA0-4D52-BE74-76EA1D10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AFF0-9A89-4542-BACC-9CA8F133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3BBA-5B72-475E-896B-570B5550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80C1-F063-4BDB-A4C5-3C6019CA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AC01-FF96-45F1-AF95-88191417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034E-5A5F-4C17-A812-C3172435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75FD-EF7C-4C50-9B46-B83A2C52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95E2-9B75-4CB8-9AC8-A6E1D4D9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B3C7-C3FF-4FCE-898D-B47A6978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222D-F046-4FBA-881D-C6E9F84B3A7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359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16360" y="4046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wims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16360" y="98100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otball b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16360" y="16286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-sh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16360" y="220500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28526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og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6360" y="3500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wimming 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40766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k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16360" y="4724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ot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6360" y="53737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h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59500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allet sh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40720" y="404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740720" y="981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1628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12000" y="2276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40720" y="2852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12000" y="3500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12000" y="4076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12000" y="472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12000" y="5373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4072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68360" y="1341360"/>
          <a:ext cx="8424360" cy="4051080"/>
        </p:xfrm>
        <a:graphic>
          <a:graphicData uri="http://schemas.openxmlformats.org/drawingml/2006/table">
            <a:tbl>
              <a:tblPr/>
              <a:tblGrid>
                <a:gridCol w="1669320"/>
                <a:gridCol w="1667520"/>
                <a:gridCol w="1750680"/>
                <a:gridCol w="1667520"/>
                <a:gridCol w="1669320"/>
              </a:tblGrid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sg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.sg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pl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.pl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260280"/>
            <a:ext cx="590544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cc"/>
                </a:solidFill>
                <a:latin typeface="Comic Sans MS"/>
              </a:rPr>
              <a:t>bañador</a:t>
            </a:r>
            <a:br>
              <a:rPr sz="4400"/>
            </a:br>
            <a:r>
              <a:rPr b="0" lang="en-GB" sz="4400" spc="-1" strike="noStrike">
                <a:solidFill>
                  <a:srgbClr val="ffccff"/>
                </a:solidFill>
                <a:latin typeface="Comic Sans MS"/>
              </a:rPr>
              <a:t>gafas de natación</a:t>
            </a:r>
            <a:br>
              <a:rPr sz="4400"/>
            </a:br>
            <a:r>
              <a:rPr b="0" lang="en-GB" sz="4400" spc="-1" strike="noStrike">
                <a:solidFill>
                  <a:srgbClr val="00ffcc"/>
                </a:solidFill>
                <a:latin typeface="Comic Sans MS"/>
              </a:rPr>
              <a:t>gorro de na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ff"/>
                </a:solidFill>
                <a:latin typeface="Comic Sans MS"/>
              </a:rPr>
              <a:t>botas de fútbol</a:t>
            </a:r>
            <a:br>
              <a:rPr sz="4400"/>
            </a:br>
            <a:r>
              <a:rPr b="0" lang="en-GB" sz="4400" spc="-1" strike="noStrike">
                <a:solidFill>
                  <a:srgbClr val="ffccff"/>
                </a:solidFill>
                <a:latin typeface="Comic Sans MS"/>
              </a:rPr>
              <a:t>camiseta</a:t>
            </a:r>
            <a:br>
              <a:rPr sz="4400"/>
            </a:br>
            <a:r>
              <a:rPr b="0" lang="en-GB" sz="4400" spc="-1" strike="noStrike">
                <a:solidFill>
                  <a:srgbClr val="00ffcc"/>
                </a:solidFill>
                <a:latin typeface="Comic Sans MS"/>
              </a:rPr>
              <a:t>calcetines</a:t>
            </a:r>
            <a:br>
              <a:rPr sz="4400"/>
            </a:br>
            <a:r>
              <a:rPr b="0" lang="en-GB" sz="4400" spc="-1" strike="noStrike">
                <a:solidFill>
                  <a:srgbClr val="00ffcc"/>
                </a:solidFill>
                <a:latin typeface="Comic Sans MS"/>
              </a:rPr>
              <a:t>pantalones cor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ff"/>
                </a:solidFill>
                <a:latin typeface="Comic Sans MS"/>
              </a:rPr>
              <a:t>falda</a:t>
            </a:r>
            <a:br>
              <a:rPr sz="4400"/>
            </a:br>
            <a:r>
              <a:rPr b="0" lang="en-GB" sz="4400" spc="-1" strike="noStrike">
                <a:solidFill>
                  <a:srgbClr val="ffccff"/>
                </a:solidFill>
                <a:latin typeface="Comic Sans MS"/>
              </a:rPr>
              <a:t>malla</a:t>
            </a:r>
            <a:br>
              <a:rPr sz="4400"/>
            </a:br>
            <a:r>
              <a:rPr b="0" lang="en-GB" sz="4400" spc="-1" strike="noStrike">
                <a:solidFill>
                  <a:srgbClr val="ffccff"/>
                </a:solidFill>
                <a:latin typeface="Comic Sans MS"/>
              </a:rPr>
              <a:t>zapatillas de bal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836640"/>
            <a:ext cx="2952720" cy="1434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 na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3141720"/>
            <a:ext cx="252108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 fút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77080" y="5445000"/>
            <a:ext cx="208764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 ba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32720" y="333360"/>
            <a:ext cx="216036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 te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4720" y="2036880"/>
            <a:ext cx="280836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 críqu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3740040"/>
            <a:ext cx="367200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 balonce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445000"/>
            <a:ext cx="295128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 cicl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1-19T22:13:03Z</dcterms:modified>
  <cp:revision>135</cp:revision>
  <dc:subject/>
  <dc:title>TITLE</dc:title>
</cp:coreProperties>
</file>