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581D-A5B6-4177-81FC-C37518733B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FE49-F7C3-4348-96DB-88823D5BD1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D00B-9CB0-46D0-A79E-7DEB050337D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8A52-C730-4B1A-8E5D-727F33FC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76E-A78C-4321-B722-E55F3E1C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3C1-A480-418A-A8A3-F29AE6A8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38F-0BCB-40F8-B9EF-02795029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5B0-D5AC-4716-B713-CED9B286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B13-7D47-4C07-AA5A-FD6EC302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BEB-2A73-48DE-9698-B281DB25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2A5-F2B8-4DAA-971F-7886BAD2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655-080F-4F10-B915-033D10E3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F94-17AF-4911-AC46-831624AF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069-45A2-4D12-B715-BD2DC7D3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29A-546D-4A6D-A969-6C5D8AD6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D1FF-3363-4F85-8653-47DA69A8D4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359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16360" y="404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wims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981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otball b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6360" y="1628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2205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2852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g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3500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wimming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4076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k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6360" y="4724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ot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5373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59500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llet sh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40720" y="40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40720" y="98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162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22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40720" y="285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12000" y="3500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12000" y="40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2000" y="47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12000" y="537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072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1341360"/>
          <a:ext cx="8424360" cy="4051080"/>
        </p:xfrm>
        <a:graphic>
          <a:graphicData uri="http://schemas.openxmlformats.org/drawingml/2006/table">
            <a:tbl>
              <a:tblPr/>
              <a:tblGrid>
                <a:gridCol w="1669320"/>
                <a:gridCol w="1667520"/>
                <a:gridCol w="1750680"/>
                <a:gridCol w="1667520"/>
                <a:gridCol w="1669320"/>
              </a:tblGrid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sg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sg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pl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pl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60280"/>
            <a:ext cx="590544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cc"/>
                </a:solidFill>
                <a:latin typeface="Comic Sans MS"/>
              </a:rPr>
              <a:t>bañador</a:t>
            </a:r>
            <a:br>
              <a:rPr sz="4400"/>
            </a:br>
            <a:r>
              <a:rPr b="0" lang="en-GB" sz="4400" spc="-1" strike="noStrike">
                <a:solidFill>
                  <a:srgbClr val="ffccff"/>
                </a:solidFill>
                <a:latin typeface="Comic Sans MS"/>
              </a:rPr>
              <a:t>gafas de natación</a:t>
            </a:r>
            <a:br>
              <a:rPr sz="4400"/>
            </a:br>
            <a:r>
              <a:rPr b="0" lang="en-GB" sz="4400" spc="-1" strike="noStrike">
                <a:solidFill>
                  <a:srgbClr val="00ffcc"/>
                </a:solidFill>
                <a:latin typeface="Comic Sans MS"/>
              </a:rPr>
              <a:t>gorro de na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ff"/>
                </a:solidFill>
                <a:latin typeface="Comic Sans MS"/>
              </a:rPr>
              <a:t>botas de fútbol</a:t>
            </a:r>
            <a:br>
              <a:rPr sz="4400"/>
            </a:br>
            <a:r>
              <a:rPr b="0" lang="en-GB" sz="4400" spc="-1" strike="noStrike">
                <a:solidFill>
                  <a:srgbClr val="ffccff"/>
                </a:solidFill>
                <a:latin typeface="Comic Sans MS"/>
              </a:rPr>
              <a:t>camiseta</a:t>
            </a:r>
            <a:br>
              <a:rPr sz="4400"/>
            </a:br>
            <a:r>
              <a:rPr b="0" lang="en-GB" sz="4400" spc="-1" strike="noStrike">
                <a:solidFill>
                  <a:srgbClr val="00ffcc"/>
                </a:solidFill>
                <a:latin typeface="Comic Sans MS"/>
              </a:rPr>
              <a:t>calcetines</a:t>
            </a:r>
            <a:br>
              <a:rPr sz="4400"/>
            </a:br>
            <a:r>
              <a:rPr b="0" lang="en-GB" sz="4400" spc="-1" strike="noStrike">
                <a:solidFill>
                  <a:srgbClr val="00ffcc"/>
                </a:solidFill>
                <a:latin typeface="Comic Sans MS"/>
              </a:rPr>
              <a:t>pantalones co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ff"/>
                </a:solidFill>
                <a:latin typeface="Comic Sans MS"/>
              </a:rPr>
              <a:t>falda</a:t>
            </a:r>
            <a:br>
              <a:rPr sz="4400"/>
            </a:br>
            <a:r>
              <a:rPr b="0" lang="en-GB" sz="4400" spc="-1" strike="noStrike">
                <a:solidFill>
                  <a:srgbClr val="ffccff"/>
                </a:solidFill>
                <a:latin typeface="Comic Sans MS"/>
              </a:rPr>
              <a:t>malla</a:t>
            </a:r>
            <a:br>
              <a:rPr sz="4400"/>
            </a:br>
            <a:r>
              <a:rPr b="0" lang="en-GB" sz="4400" spc="-1" strike="noStrike">
                <a:solidFill>
                  <a:srgbClr val="ffccff"/>
                </a:solidFill>
                <a:latin typeface="Comic Sans MS"/>
              </a:rPr>
              <a:t>zapatillas de bal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836640"/>
            <a:ext cx="295272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na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141720"/>
            <a:ext cx="252108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 fút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77080" y="5445000"/>
            <a:ext cx="20876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 ba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333360"/>
            <a:ext cx="216036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 te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4720" y="2036880"/>
            <a:ext cx="280836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 críqu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3740040"/>
            <a:ext cx="3672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 balonc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445000"/>
            <a:ext cx="295128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 cic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13:03Z</dcterms:modified>
  <cp:revision>135</cp:revision>
  <dc:subject/>
  <dc:title>TITLE</dc:title>
</cp:coreProperties>
</file>