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2C7-9D2E-4907-9D02-464D1C03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D5C-B502-46CD-96C2-CA3398A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BBB-1EFE-4121-BFC4-18A5EA6A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253-8732-4B52-AF07-7FAB0F13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AF8-32B4-4BEC-8D80-F97F93C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176-825D-4F6F-839E-20841AE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57F-1C10-4FF7-9BB6-7F4B307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677-3F8F-4A3B-9976-F87BC50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FBA-2DA6-4FA3-B724-A8AFE4A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0A2-0E9B-48AB-AE3C-291EB29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73D-3473-42E1-A2A2-7FC6B94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C39-8C95-4E2D-BA9F-E007763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185-65D8-4D24-B1AB-033A2B6C08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60280"/>
            <a:ext cx="28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692280"/>
            <a:ext cx="31687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fú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squ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equ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atl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cic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692280"/>
            <a:ext cx="45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v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tenis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n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922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413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1337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9242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3645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3657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5084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765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413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1337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924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645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51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26828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atl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341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balonc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126828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cic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34136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equ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155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fú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852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gimn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92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29242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n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rug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292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squ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9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t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581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tenis de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49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v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6:20Z</dcterms:modified>
  <cp:revision>141</cp:revision>
  <dc:subject/>
  <dc:title>TITLE</dc:title>
</cp:coreProperties>
</file>