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3E3-7D3E-4F12-9A21-605C9DDE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2FC-7EF5-4B7B-9422-E00D39A8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55C-8C0A-489D-A3EA-913B4E2C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2E8-C2D1-4508-AC19-9DD1E208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11C-851A-47FF-B158-B29D94E4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A3E-4D4D-4E9A-B35B-657FAACD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BCF-8DD2-4886-B257-69FCBD80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0A8-C868-4282-94FE-EA030565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B2D-877B-45E8-A1FE-3A5F0ACA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28B-CDCB-457F-A8A9-3F9AA923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12F-870F-4856-A8B3-D223773D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C56-028B-455C-ACF4-580453A4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D23F-5855-429F-AF4E-B72B38C7F2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2803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260280"/>
            <a:ext cx="280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692280"/>
            <a:ext cx="316872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fút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gimn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squ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equ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atle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rug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cic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692280"/>
            <a:ext cx="453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v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tenis de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balonc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na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__ te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69228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141300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cc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13372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92428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cc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364500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436572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508464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76500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cc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141300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213372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292428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64500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cc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36572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280360" cy="516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126828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atlet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34136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balonc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126828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cic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134136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 equ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3080" y="1557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fút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2852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 gimn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95640" y="292428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hoc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292428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 n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5640" y="321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rug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93080" y="292428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squ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494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t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458136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tenis de m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494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 v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16:20Z</dcterms:modified>
  <cp:revision>141</cp:revision>
  <dc:subject/>
  <dc:title>TITLE</dc:title>
</cp:coreProperties>
</file>