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180-D00F-4A07-A10B-56D70729AE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AA7-CAAE-4DEC-B96A-7FA915E7C2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B7C-6EEC-46F1-9E71-87A437E3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A81-D385-4F40-A5BE-F18099B2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A8B-FC52-4278-85CE-46E545EB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049-FFAF-44F4-B5AB-B4BEB4D6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5D9-7324-4115-9ED5-EBD5D7D2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1111-AE7A-4B29-9D68-29E7F0F2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8411-9EFE-4F16-9862-91161AFB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EBDA-2DBC-48BB-8915-8807C9C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C398-A874-439C-B1C1-F4512FAF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14D-1692-4DB6-9D90-D9758B0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303F-B237-41B6-9582-95E872E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A48-DDA1-458F-823B-5670CC3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CEEB-0945-4060-92D2-BFCE001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E9F-EED5-4D11-8903-FC13B989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B5B-5596-4672-B08D-479D41AB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89EB-7E58-470A-9FC3-B167989A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1F1-59E3-47D7-9782-7050DEE0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BF3-3CFC-4C02-90B8-FDEAD17E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64F-0812-47B7-8E68-7A1060D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F37-B59B-47BC-8277-3B010AC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10C-48F7-4EA4-B5A4-DD03266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A9D-C9D4-41D6-A395-83025BE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E9F-849D-4508-B310-E435EFF6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A39-4D3C-4579-8CC0-818C57E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DA21-A58B-4D6A-B240-64A510FA1B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2F65-CF99-4F85-90FF-0A388180E5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1048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al fútbol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me gusta fútbol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5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el rugby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io el baloncest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atletism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el natación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9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go ciclismo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la tenis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el squash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la gimnasia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encanta la vela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ego al hockey.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1" name="TextBox 2"/>
          <p:cNvSpPr/>
          <p:nvPr/>
        </p:nvSpPr>
        <p:spPr>
          <a:xfrm>
            <a:off x="3780000" y="333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traight Connector 4"/>
          <p:cNvSpPr/>
          <p:nvPr/>
        </p:nvSpPr>
        <p:spPr>
          <a:xfrm>
            <a:off x="468360" y="1844640"/>
            <a:ext cx="359892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468360" y="2924280"/>
            <a:ext cx="375120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3895560" y="37814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10"/>
          <p:cNvSpPr/>
          <p:nvPr/>
        </p:nvSpPr>
        <p:spPr>
          <a:xfrm>
            <a:off x="468360" y="5084640"/>
            <a:ext cx="375120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892680" y="59022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12"/>
          <p:cNvSpPr/>
          <p:nvPr/>
        </p:nvSpPr>
        <p:spPr>
          <a:xfrm>
            <a:off x="4716360" y="765000"/>
            <a:ext cx="4032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8258040" y="155736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Straight Connector 15"/>
          <p:cNvSpPr/>
          <p:nvPr/>
        </p:nvSpPr>
        <p:spPr>
          <a:xfrm>
            <a:off x="4716360" y="2924280"/>
            <a:ext cx="4032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Straight Connector 17"/>
          <p:cNvSpPr/>
          <p:nvPr/>
        </p:nvSpPr>
        <p:spPr>
          <a:xfrm>
            <a:off x="4932360" y="4005360"/>
            <a:ext cx="3600360" cy="0"/>
          </a:xfrm>
          <a:prstGeom prst="line">
            <a:avLst/>
          </a:prstGeom>
          <a:ln w="177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8209080" y="4886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8209080" y="58849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5:35Z</dcterms:modified>
  <cp:revision>193</cp:revision>
  <dc:subject/>
  <dc:title>TITLE</dc:title>
</cp:coreProperties>
</file>