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615D-B1F6-4058-9648-294A74BD5B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94D4-A584-43F3-9D37-82BB3B80C7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AF2-3572-426B-8FCF-927C3FB9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650-01C2-4EB2-808F-DB6626D0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347-AD81-4218-BC3D-D47B0ECF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FD6-B2B5-495B-A610-FBB8DF43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550F-0D4C-4339-B3FA-F1D7BFB1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8D22-F7B2-4EDB-804B-642B55DA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615E-4314-4AD7-A9F5-50041546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6A24-E9CF-42A8-AF76-FA81B899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993A-D99E-48F0-9FE2-4B3B2356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5359-E356-40F2-A41C-9EBEEBA5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2D6F-9FD5-4B40-940B-21E23CE3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32F-881B-47BE-ADEC-776DBEBE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22CB-C92D-4877-9FE5-F2893853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BBB9-FDA6-4073-8644-FF25F7CA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1192-E57F-418C-B497-1E82F952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24A1-C58C-434C-B873-3225922C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3C83-49CD-444C-B7FE-66C17093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F97-5845-4542-828E-3968FE85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0A2-0742-43C5-8B30-2BC76BE7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23B-A43D-42D4-8DF3-48441331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7A4-776D-4182-BBFB-A0D7CAEC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8C1-D6B2-4E82-9A91-905C255A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123-80C0-487D-83EE-D2A3F344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9EF-2904-4422-A3CE-2594EC40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8E10-B5F7-4FB7-83AB-ECB737CD39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9AC2-CDB8-4F10-9A70-C3B12B4968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1048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al fútbol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me gusta fútbol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05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go el rugby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io el baloncesto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049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 gusta atletismo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go el natación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049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go ciclismo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la tenis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el squash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 gusta la gimnasia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047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 encanta la vela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al hockey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91" name="TextBox 2"/>
          <p:cNvSpPr/>
          <p:nvPr/>
        </p:nvSpPr>
        <p:spPr>
          <a:xfrm>
            <a:off x="3780000" y="3333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Straight Connector 4"/>
          <p:cNvSpPr/>
          <p:nvPr/>
        </p:nvSpPr>
        <p:spPr>
          <a:xfrm>
            <a:off x="468360" y="1844640"/>
            <a:ext cx="3598920" cy="0"/>
          </a:xfrm>
          <a:prstGeom prst="line">
            <a:avLst/>
          </a:prstGeom>
          <a:ln w="177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Straight Connector 7"/>
          <p:cNvSpPr/>
          <p:nvPr/>
        </p:nvSpPr>
        <p:spPr>
          <a:xfrm>
            <a:off x="468360" y="2924280"/>
            <a:ext cx="3751200" cy="0"/>
          </a:xfrm>
          <a:prstGeom prst="line">
            <a:avLst/>
          </a:prstGeom>
          <a:ln w="177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3895560" y="37814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Straight Connector 10"/>
          <p:cNvSpPr/>
          <p:nvPr/>
        </p:nvSpPr>
        <p:spPr>
          <a:xfrm>
            <a:off x="468360" y="5084640"/>
            <a:ext cx="3751200" cy="0"/>
          </a:xfrm>
          <a:prstGeom prst="line">
            <a:avLst/>
          </a:prstGeom>
          <a:ln w="177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3892680" y="590220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Straight Connector 12"/>
          <p:cNvSpPr/>
          <p:nvPr/>
        </p:nvSpPr>
        <p:spPr>
          <a:xfrm>
            <a:off x="4716360" y="765000"/>
            <a:ext cx="4032360" cy="0"/>
          </a:xfrm>
          <a:prstGeom prst="line">
            <a:avLst/>
          </a:prstGeom>
          <a:ln w="177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8258040" y="155736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Straight Connector 15"/>
          <p:cNvSpPr/>
          <p:nvPr/>
        </p:nvSpPr>
        <p:spPr>
          <a:xfrm>
            <a:off x="4716360" y="2924280"/>
            <a:ext cx="4032360" cy="0"/>
          </a:xfrm>
          <a:prstGeom prst="line">
            <a:avLst/>
          </a:prstGeom>
          <a:ln w="177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Straight Connector 17"/>
          <p:cNvSpPr/>
          <p:nvPr/>
        </p:nvSpPr>
        <p:spPr>
          <a:xfrm>
            <a:off x="4932360" y="4005360"/>
            <a:ext cx="3600360" cy="0"/>
          </a:xfrm>
          <a:prstGeom prst="line">
            <a:avLst/>
          </a:prstGeom>
          <a:ln w="177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8209080" y="488628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8209080" y="58849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55:35Z</dcterms:modified>
  <cp:revision>193</cp:revision>
  <dc:subject/>
  <dc:title>TITLE</dc:title>
</cp:coreProperties>
</file>