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8ED-2C26-4AE0-BEA8-3F7015F9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6AD-46A4-4BC2-A930-5BC8070C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5AF-E90A-46B5-9787-92409F80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0F5-B947-49D3-8866-E2D88DFD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207-59F2-43E0-BB42-7C4736ED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653-4DC5-45A5-97EE-DB91FEB9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93FF-BA73-4A34-910E-AF78C0A6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0B5-D86C-41BA-AD29-801AE354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162-BE6A-4ECF-AFE4-95A3AFFF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644-46EF-48D8-8DE0-4D57C76A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EFE-5E83-426D-945D-26A8C119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337-A818-4352-AADF-447AA3D7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3E34-9E3C-46A9-AF7E-C021600EB2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bádmint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juego 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boxe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amin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balonm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juego 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orr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iatl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patinaj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gri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gol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juego 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re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piragü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béisb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juego 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arat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2320" y="0"/>
            <a:ext cx="4895640" cy="6875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5076720" y="62064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pentatl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5076720" y="3933720"/>
            <a:ext cx="38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juego al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ag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148360" y="476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ha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52:16Z</dcterms:modified>
  <cp:revision>186</cp:revision>
  <dc:subject/>
  <dc:title>TITLE</dc:title>
</cp:coreProperties>
</file>