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EE6-C67A-4E85-AF66-A5FA37B5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D8E-E630-4995-ADAE-22E30CC1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639-3386-47CF-A9B4-A647F113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5F4-7AFF-42D7-9F27-8AFA57F2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200-B2EC-49C6-9433-A3818741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43C-B030-4BCA-A7D5-92557453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9E7-0064-4242-AD7B-8F536681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BCF-895E-4384-A367-2E66B82C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415-29B7-4DCF-B9F8-D77D96FE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689-D807-4C8C-9F64-B368285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8C1-0CB4-4561-AD7E-4E6838B6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3AE-26FC-4512-9897-5A91912C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8391-6A6A-4813-B869-C97ACD58EB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ádmint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juego 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ox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amin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alonm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juego 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rr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iatl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atin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gri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gol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juego 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re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iragü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éisb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juego 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arat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entatl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2:16Z</dcterms:modified>
  <cp:revision>186</cp:revision>
  <dc:subject/>
  <dc:title>TITLE</dc:title>
</cp:coreProperties>
</file>