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5C15-7866-49AD-A782-0244D30458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1D64-7216-44B6-B84B-2A4AFB12423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BEA8-2D3F-4881-A406-0D1C5207237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42E2-3212-475B-B4DD-A9EF8EAF76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2336-A8D7-4384-A5E8-8DF77D6774D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BDC-FBEB-486E-8236-283A6E98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1EF3-C8DA-44AC-B70A-F5336BAD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3DC-3EB8-4C30-A069-FA103579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BCE-5D3D-4462-8945-83E0F0E9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93D-EC6C-4815-A0D6-D079D260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10B-68D3-4E3D-8CE8-D3F26BE9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EF71-6954-4A06-96CF-20D6A292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E0DA-FBE5-47E7-8094-13C879EC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BB5-B085-4862-9C9E-08CBE136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63B-F7D0-41BE-88A6-CA49C444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5AF4-8D17-4778-BC6E-6A26B67A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535D-3861-4C32-A044-36441306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B041-90DD-4092-895A-D91DF9A129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7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71640" y="476280"/>
            <a:ext cx="7272360" cy="3789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2556000" y="6381720"/>
            <a:ext cx="6588000" cy="459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ww.switcheroozoo.com/zoo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4437000"/>
            <a:ext cx="7848360" cy="17398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la cabeza de un _______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el cuerpo de una ________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la cola de un 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4437000"/>
            <a:ext cx="2448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o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0360" y="5013360"/>
            <a:ext cx="2448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tortu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5589720"/>
            <a:ext cx="2448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per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7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6381720"/>
            <a:ext cx="6588000" cy="459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ww.switcheroozoo.com/zoo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4437000"/>
            <a:ext cx="7848360" cy="17398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la cabeza de ___ _______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el cuerpo de ___ ________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la cola de ___ 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6913440" cy="3681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5148360" y="4437000"/>
            <a:ext cx="316872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a r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5013360"/>
            <a:ext cx="3456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bú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5589720"/>
            <a:ext cx="3456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caba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7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6381720"/>
            <a:ext cx="6588000" cy="459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ww.switcheroozoo.com/zoo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4437000"/>
            <a:ext cx="7848360" cy="17398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la ______ de ___ _______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el ______ de ___ _______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la ______ de ___ 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7129440" cy="3838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5292720" y="4437000"/>
            <a:ext cx="338472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hipopót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5013360"/>
            <a:ext cx="338472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flame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5589720"/>
            <a:ext cx="338472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tig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4437000"/>
            <a:ext cx="187308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cab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43280" y="5013360"/>
            <a:ext cx="187308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cuer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5589720"/>
            <a:ext cx="187308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7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56000" y="6381720"/>
            <a:ext cx="6588000" cy="459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ww.switcheroozoo.com/zoo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4437000"/>
            <a:ext cx="8135640" cy="17398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___ _____ de ___ _______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___ _____ de ___ _______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 ___ _____ de ___ 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16000" y="404640"/>
            <a:ext cx="7056360" cy="3749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5292720" y="4437000"/>
            <a:ext cx="338472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rinocer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92720" y="5013360"/>
            <a:ext cx="338472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ga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2720" y="5589720"/>
            <a:ext cx="338472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g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4437000"/>
            <a:ext cx="252108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la cab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0920" y="5013360"/>
            <a:ext cx="252108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el cuer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920" y="5589720"/>
            <a:ext cx="252108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la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5-19T13:38:36Z</dcterms:modified>
  <cp:revision>174</cp:revision>
  <dc:subject/>
  <dc:title>TITLE</dc:title>
</cp:coreProperties>
</file>