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C45-AE92-4B94-A52F-7622F3D078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ADD4-9087-4C0E-965F-4101F8D67B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F3A1-194B-4A1D-848D-09FFC46494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469-5A74-4177-9D68-2F77CED9A2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9F3-DA31-4164-A6F3-260F6497F1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595-8F6F-49A6-A8BF-0E225434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8DD-A053-47E8-86CA-A2D14E8A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F8C-51AC-44CE-B845-16C39321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5BB-6F96-4D17-94BC-9BE34658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ABF-4992-4C7E-A920-A067DE3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26E-A7A3-47E3-AC3C-E8D73B90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8FF-2706-41C0-96C2-A1714AE0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C34-5CAE-45A7-BE72-9CCFE006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4E8-3FB6-4F61-8C9A-FBA8858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167-3DB7-4A2C-AF81-7B519AE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6E5-4DF7-4D89-84D7-8B34F15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F3F-2771-44A5-BD31-52FBE33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EDD-371B-4DAA-A9D5-63D8D962FB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272360" cy="378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abeza de un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cuerpo de una _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ola de u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443700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501336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tort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58972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p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abeza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cuerpo de ___ _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ola de ___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913440" cy="36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148360" y="4437000"/>
            <a:ext cx="3168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r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5013360"/>
            <a:ext cx="3456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bú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5589720"/>
            <a:ext cx="3456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_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_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______ de ___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129440" cy="383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292720" y="4437000"/>
            <a:ext cx="3384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hipopót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501336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558972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tig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43700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501336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558972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437000"/>
            <a:ext cx="813564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056360" cy="37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292720" y="443700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rinocer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501336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58972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43700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501336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l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558972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5-19T13:38:36Z</dcterms:modified>
  <cp:revision>174</cp:revision>
  <dc:subject/>
  <dc:title>TITLE</dc:title>
</cp:coreProperties>
</file>