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96A2-1F4F-45BF-8730-E6EEDAD128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B562-0B1B-4EE5-8A2E-82996FB267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4667-21B4-4E7B-ACB6-191079059B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5476-0C11-471B-916D-0B6DE98A5B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D9F9-B6A1-40B0-9D69-B9EEF2A766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2D74-59D0-4573-942D-7ED327B539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6355-31D9-453D-8BB2-5F0000834C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59DB-9350-4F02-8FE1-459D90D224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3267-AF43-4E85-9E80-D48D96B5E4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BE58-C800-43A0-B248-A6195B19E5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0B76-E163-4820-AB4A-D49C7BCF3D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1CEF-0882-436C-980E-A44A3AA947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DEB4-1F91-4982-B06F-C7E47210C5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9DC-7E36-46F4-AF50-171B09179A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D6DD-69DD-428C-B44E-8CA031D6A7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F51-BABC-4758-9D8A-82D3D2D1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5CB-83D9-49EA-823E-515DED65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0B9-48A9-4A89-8E89-4C3CF1EE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54C-F747-49AF-BC44-70235311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E3ED-1C03-4325-9704-5445C59A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2B38-ECE9-4AD1-A656-539CAABD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26E4-A59C-4DD5-84C1-E3DF2EBD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507B-D62E-4AF0-B20E-F52A37FF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8CF5-1D04-4937-97F9-A0985C4B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C07C-1355-45F7-8163-483ACF92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E09-DF25-447E-A0DA-18E7AB6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ACE-469F-4B2F-8FA6-9F793AFC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7CAB-9585-496C-B151-9D12EA74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4ADE-A8AC-4464-8D55-EBC97186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C884-A897-40D8-B07B-6CB2C91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07D5-C857-4D1E-BFB2-40A94963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1D82-E2A9-43E5-8904-303A2B52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615-3019-4A0B-A6C8-5988E680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258-1770-4AF1-BB07-F240C8C8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1CA-FF0F-4D11-A6B4-877A17E5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DAC-616D-4424-9C5B-AC34EA87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E09-F6B4-4F61-89F0-8574DEF9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833-61D6-41D4-B031-5A2925D6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72D-7533-45E0-B4E7-E0FEB792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72E2-84AD-432C-A9EF-608A655CA0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D621-850E-4DD1-BA3C-5A84531238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24000" y="2565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to use this resour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actise the sentences using the sentence builder fir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en you click to advance to the first fading slide, the sentence will begin to fade.  Over 8 seconds it will fade t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ile it is fading, the children need to memorise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s soon as the sentence has faded, the children write it on their whiteboard and hold it up for you to se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peat with the other sente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gato se llama Milú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8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iene diez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8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0" y="2492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s hámsteres se llaman Rico y Mico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8361360" y="133200"/>
            <a:ext cx="574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8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ienen dos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8361360" y="133200"/>
            <a:ext cx="574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8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0" y="2492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tortuga se llama Lento.  Tiene doce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8010360" y="133200"/>
            <a:ext cx="925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8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0" y="549360"/>
            <a:ext cx="9144000" cy="5472000"/>
            <a:chOff x="0" y="549360"/>
            <a:chExt cx="9144000" cy="5472000"/>
          </a:xfrm>
        </p:grpSpPr>
        <p:pic>
          <p:nvPicPr>
            <p:cNvPr id="93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549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1"/>
            <p:cNvSpPr/>
            <p:nvPr/>
          </p:nvSpPr>
          <p:spPr>
            <a:xfrm>
              <a:off x="390240" y="549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ffccff"/>
                </a:solidFill>
                <a:latin typeface="Comic Sans MS"/>
              </a:rPr>
              <a:t>ocho tortuga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8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dos perro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8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o 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un ratón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ffccff"/>
                </a:solidFill>
                <a:latin typeface="Comic Sans MS"/>
              </a:rPr>
              <a:t>una cobaya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8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cinco pece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8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216000"/>
            <a:ext cx="9158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4:20Z</dcterms:modified>
  <cp:revision>206</cp:revision>
  <dc:subject/>
  <dc:title>TITLE</dc:title>
</cp:coreProperties>
</file>