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466C-DD13-41C5-A9CF-A519ADAE79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CE27-42C0-4D03-B0B5-DC160D614C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7BC7-2E10-4299-9182-1C54B987DC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3C46-DDC5-4712-9CD6-E48CD562E6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E4E4-A832-4E6B-953B-DEE4154430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F2FE-0735-4B15-B6DA-359901DD83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2851-839B-4016-91BC-59403CDEA9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89EF-1D53-47DA-86C0-E5E71606EB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E0A9-6579-4665-B9BD-07581D2A91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C7A4-2D51-4DC4-9810-21F4B9DDD2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0E4E-0BAF-4595-B7B3-D032E9981A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C3D8-594C-4C6C-92D1-CAE587908F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2157-40F8-49C4-B067-1E78431C05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E31-AB2B-40A8-A58E-DDF074BD58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6334-B2D6-4E35-9CB5-DBC0F169B0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425-2CA0-4DB7-ACED-F49AEEFF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BEE-E0AD-42E6-B776-ACDAF31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8E5-CF72-4D31-916D-F700B52D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6CB-D965-426C-8712-3CD5DDD5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5D06-80BE-4F24-AA32-5E4D36E3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F686-7158-4316-A1CA-78A6E9B1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1273-8F01-4B67-A069-AD426C0F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00FE-C41B-42DA-95FB-D6C93E9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FBE6-52BB-499C-9F47-B7E84AB6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24AB-54C0-4714-A289-53CA727A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1E61-39EE-429A-A8CB-8E9A6AB9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0D4-4DE1-4F61-A52D-2D3CC2C3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5017-BFBA-4F8E-AA3D-0BB5A0A0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3E52-2315-4813-A34B-97E2C10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1D23-8F31-4B23-9176-0579F3E7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FB21-7DF3-49AD-A6F6-631842BC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1F27-4BCD-4D36-944E-1A545E98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229-2CF4-4A69-8A96-33983ACC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BFA-011C-41E5-83D3-811E3AB9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C5F-3234-42E6-8202-5B1FF9FF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9FE-46F1-4633-8C47-4AD77504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6C4-9E9B-4EF0-BAA2-3805DBAF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D6D-EA25-4263-B430-98C8B89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22C-ABA0-487E-AA43-BDA7CDB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F3E7-81F7-45C4-9C3B-F3F81BB454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DCDF-88C5-4C27-BC6C-5FFBDA508F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24000" y="2565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to use this resour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actise the sentences using the sentence builder fir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en you click to advance to the first fading slide, the sentence will begin to fade.  Over 8 seconds it will fade t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ile it is fading, the children need to memorise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s soon as the sentence has faded, the children write it on their whiteboard and hold it up for you to se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peat with the other sente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gato se llama Milú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8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iene diez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8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0" y="2492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s hámsteres se llaman Rico y Mico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8361360" y="133200"/>
            <a:ext cx="574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8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ienen dos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8361360" y="133200"/>
            <a:ext cx="574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8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0" y="2492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tortuga se llama Lento.  Tiene doce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8010360" y="133200"/>
            <a:ext cx="925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8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0" y="549360"/>
            <a:ext cx="9144000" cy="5472000"/>
            <a:chOff x="0" y="549360"/>
            <a:chExt cx="9144000" cy="5472000"/>
          </a:xfrm>
        </p:grpSpPr>
        <p:pic>
          <p:nvPicPr>
            <p:cNvPr id="93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549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1"/>
            <p:cNvSpPr/>
            <p:nvPr/>
          </p:nvSpPr>
          <p:spPr>
            <a:xfrm>
              <a:off x="390240" y="549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ffccff"/>
                </a:solidFill>
                <a:latin typeface="Comic Sans MS"/>
              </a:rPr>
              <a:t>ocho tortuga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8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dos perro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8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o 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un ratón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ffccff"/>
                </a:solidFill>
                <a:latin typeface="Comic Sans MS"/>
              </a:rPr>
              <a:t>una cobaya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8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cinco pece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8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216000"/>
            <a:ext cx="9158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4:20Z</dcterms:modified>
  <cp:revision>206</cp:revision>
  <dc:subject/>
  <dc:title>TITLE</dc:title>
</cp:coreProperties>
</file>