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509-143D-48C1-9047-0573EE13E9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DA72-1A66-4AE8-9BC6-84833B4758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74B-EF08-4553-BC5C-A8E4A316B9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D24B-1E29-4EDC-8F0B-09FE01DAAC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7A8B-1E56-4286-9378-627A086750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FCB-1EF2-406D-9B8D-3185355AE2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65B-757C-4AF5-ADEF-179DFA79AB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CA33-43B5-4CFB-A2B4-AEF9D9B8B7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FCF-9C47-45D6-91E0-92C5004815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B85-E5C0-44B4-ADFE-DAB09B1D0B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CF8-3D21-41F7-AC9C-48C0636EC1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147-40DE-45E1-A6F3-797DC76A4A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DEC-6B80-4C84-BE4F-64B413D209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A23A-E564-4FFF-ACEE-4E9C5B82D0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5D9A-AA24-41FB-AB99-A3928B2916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783A-0992-45AB-8F54-6BF99C063D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C03-33D8-478E-B163-878D02840E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848E-EC55-4D37-A185-BDE8578228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F7D9-C86E-4F12-A013-A1C352C0A9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EC4-4F92-452E-AB22-FDBEC8E4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FC7-0EDC-47D2-8F58-7D6EA8E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D58-53D7-4BE5-A70A-1D4D2DA1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C65-AC84-4534-97CB-A3C61A1A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1D5-16B3-4136-BF77-3D6A0DE2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1AB-0BC2-41DB-A9EF-5C95F87E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2EF-4AAF-403D-9C62-05E8B67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57D-ABAD-4D8B-9B78-3D535A8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48B-7429-4196-809E-585FB04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1C2-A65F-4B63-AD79-B107F98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37F-25B3-42F9-BA96-8733D2D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BAC-B067-4012-9566-0C7DD5F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509-73D2-466C-A4F7-AAAB0ECFCD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5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1440" y="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5 bi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5 bird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ounded Rectangle 5"/>
          <p:cNvSpPr/>
          <p:nvPr/>
        </p:nvSpPr>
        <p:spPr>
          <a:xfrm>
            <a:off x="611280" y="2205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ounded Rectangle 6"/>
          <p:cNvSpPr/>
          <p:nvPr/>
        </p:nvSpPr>
        <p:spPr>
          <a:xfrm>
            <a:off x="3397320" y="3382920"/>
            <a:ext cx="10792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ounded Rectangle 7"/>
          <p:cNvSpPr/>
          <p:nvPr/>
        </p:nvSpPr>
        <p:spPr>
          <a:xfrm>
            <a:off x="5454720" y="2517840"/>
            <a:ext cx="14414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3 m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-2700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3 m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ounded Rectangle 5"/>
          <p:cNvSpPr/>
          <p:nvPr/>
        </p:nvSpPr>
        <p:spPr>
          <a:xfrm>
            <a:off x="611280" y="206064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3430440" y="1700280"/>
            <a:ext cx="108108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ounded Rectangle 7"/>
          <p:cNvSpPr/>
          <p:nvPr/>
        </p:nvSpPr>
        <p:spPr>
          <a:xfrm>
            <a:off x="6927840" y="12852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4 tortois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4 tortois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ounded Rectangle 5"/>
          <p:cNvSpPr/>
          <p:nvPr/>
        </p:nvSpPr>
        <p:spPr>
          <a:xfrm>
            <a:off x="622440" y="2097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6"/>
          <p:cNvSpPr/>
          <p:nvPr/>
        </p:nvSpPr>
        <p:spPr>
          <a:xfrm>
            <a:off x="3419640" y="2492280"/>
            <a:ext cx="108108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7"/>
          <p:cNvSpPr/>
          <p:nvPr/>
        </p:nvSpPr>
        <p:spPr>
          <a:xfrm>
            <a:off x="5580000" y="357336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2 ca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2 ca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79280" y="47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ounded Rectangle 5"/>
          <p:cNvSpPr/>
          <p:nvPr/>
        </p:nvSpPr>
        <p:spPr>
          <a:xfrm>
            <a:off x="611280" y="209700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ounded Rectangle 6"/>
          <p:cNvSpPr/>
          <p:nvPr/>
        </p:nvSpPr>
        <p:spPr>
          <a:xfrm>
            <a:off x="3419640" y="907920"/>
            <a:ext cx="108108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ounded Rectangle 7"/>
          <p:cNvSpPr/>
          <p:nvPr/>
        </p:nvSpPr>
        <p:spPr>
          <a:xfrm>
            <a:off x="5400720" y="91764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5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a hamste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6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a hamste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611280" y="234936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ounded Rectangle 8"/>
          <p:cNvSpPr/>
          <p:nvPr/>
        </p:nvSpPr>
        <p:spPr>
          <a:xfrm>
            <a:off x="3419640" y="1285920"/>
            <a:ext cx="10810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ounded Rectangle 9"/>
          <p:cNvSpPr/>
          <p:nvPr/>
        </p:nvSpPr>
        <p:spPr>
          <a:xfrm>
            <a:off x="6883560" y="907920"/>
            <a:ext cx="143964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69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one guinea pi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have one guinea pi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ounded Rectangle 7"/>
          <p:cNvSpPr/>
          <p:nvPr/>
        </p:nvSpPr>
        <p:spPr>
          <a:xfrm>
            <a:off x="598320" y="234936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ounded Rectangle 8"/>
          <p:cNvSpPr/>
          <p:nvPr/>
        </p:nvSpPr>
        <p:spPr>
          <a:xfrm>
            <a:off x="3403440" y="4005360"/>
            <a:ext cx="107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ounded Rectangle 9"/>
          <p:cNvSpPr/>
          <p:nvPr/>
        </p:nvSpPr>
        <p:spPr>
          <a:xfrm>
            <a:off x="5508720" y="4398840"/>
            <a:ext cx="143964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tort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9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tortois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585720" y="3213000"/>
            <a:ext cx="144000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3362400" y="4010040"/>
            <a:ext cx="107928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5508720" y="3645000"/>
            <a:ext cx="1439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99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0" y="0"/>
            <a:ext cx="9144000" cy="5472000"/>
            <a:chOff x="0" y="0"/>
            <a:chExt cx="9144000" cy="5472000"/>
          </a:xfrm>
        </p:grpSpPr>
        <p:pic>
          <p:nvPicPr>
            <p:cNvPr id="105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1"/>
            <p:cNvSpPr/>
            <p:nvPr/>
          </p:nvSpPr>
          <p:spPr>
            <a:xfrm>
              <a:off x="390240" y="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TextBox 2"/>
          <p:cNvSpPr/>
          <p:nvPr/>
        </p:nvSpPr>
        <p:spPr>
          <a:xfrm>
            <a:off x="108000" y="56610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I don’t have a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57320" y="4508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611280" y="3141720"/>
            <a:ext cx="143964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3419640" y="1285920"/>
            <a:ext cx="108108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6591240" y="1700280"/>
            <a:ext cx="144000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6:42Z</dcterms:modified>
  <cp:revision>218</cp:revision>
  <dc:subject/>
  <dc:title>TITLE</dc:title>
</cp:coreProperties>
</file>