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CEEB-771E-42CD-B58E-FCDADE8D00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CA4-4643-4C16-8118-5079834FAF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C61-2562-492E-859D-C6709DAF19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FC5-EAE5-465F-B74F-2FD7C284EE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F293-4B8C-462B-9117-C23BCB8C38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14B3-C992-4F1C-A598-75FFB4128F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E09-7AB5-4C96-BC35-51748FA608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B287-9AFF-4A5A-9375-84A2D59DC0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B12-C6B9-4B7B-AFFB-FEB62992CB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FE5-714A-44A9-8D44-23C56CD87D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7953-E3C8-4859-8936-9F1ABA7EE7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1C3C-A3BD-43DF-900A-099BCE2884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EA9-1D3F-47D9-9C70-5813E38195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8F4-2ABC-4B10-9B1B-E4C423EF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AF6-B3DA-423E-8832-AF744CD9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B0C-AC68-42DE-A5DC-18459ADD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9B2-02E4-4394-92F4-EAACA2DE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8F3-D8BA-479E-8525-8A49BFB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1FA-D4AF-4A70-B663-430FB81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C22-C410-4A74-8AFC-0A899339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C8E-4F7C-44CF-9DD2-6E2F5C6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1A3-30CC-4293-93D1-B9767B5B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7F3-8AC9-4027-B14A-976A052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DF4-2CCF-4E4D-8AB2-8CCC37A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678-FED1-43C8-AE78-E263DB7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5B4C-80BE-4CEA-B564-A268A12BB2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5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dos tortug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tres gat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cinco pec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5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 perr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79280" y="501336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6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a cobay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66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o tengo un pez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72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a tortug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78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o tengo un ga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8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o tengo un rat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cuatro conej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35:23Z</dcterms:modified>
  <cp:revision>208</cp:revision>
  <dc:subject/>
  <dc:title>TITLE</dc:title>
</cp:coreProperties>
</file>