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B425-02F2-4779-BF08-EBEA944B68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BD3D-6386-4A1B-AE94-32C412F893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D9D-EEB2-48E7-B51F-6A620A75F3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A1E8-6952-437B-8122-3A87B2B174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E2FD-9D9A-4B29-9794-C07630871C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FFF3-BE1C-4383-92CE-7C0D657AA6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5ED6-6E86-450E-9AD6-94D8AFAC35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A125-C7C4-4F8F-B89D-711AA3971C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B338-E42E-452E-8048-08F64248865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3764-3ECC-40F7-809D-AF28911D23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9C96-5842-4779-9C81-28707012EC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5C6E-F6FA-40F0-9F64-4DBC3E5AFF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FC42-F6C7-46CC-932C-17B4AAC16E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ABE-F944-4C56-B12A-F44FAB68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F34-B5A9-4831-A7AD-50265E1D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F81-56E9-4B3E-A91E-BFFB8E78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71A-79BF-4285-B732-EBFCBE68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8E2-02C0-40AA-B916-0632FB8A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929-C063-467F-B010-CAB4F915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201-9EB4-4F9B-A5E5-9CB81399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5EA-FFE0-4C8C-87CD-7A8EEA56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849-E916-44EC-BB18-6622F21C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C12-3A6B-49FB-9A4E-1AC512C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E37-3096-4B64-9212-C1033F5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AD7-09FB-48C0-B923-78B287F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D4DE-182A-41A1-8C40-C2CCE03144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5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dos tortug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tres gat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cinco pec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54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un perr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79280" y="5013360"/>
            <a:ext cx="5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60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una cobay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66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o tengo un pez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72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una tortug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78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o tengo un ga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0" y="333360"/>
            <a:ext cx="9144000" cy="5472000"/>
            <a:chOff x="0" y="333360"/>
            <a:chExt cx="9144000" cy="5472000"/>
          </a:xfrm>
        </p:grpSpPr>
        <p:pic>
          <p:nvPicPr>
            <p:cNvPr id="84" name="Picture 5" descr=""/>
            <p:cNvPicPr/>
            <p:nvPr/>
          </p:nvPicPr>
          <p:blipFill>
            <a:blip r:embed="rId1"/>
            <a:srcRect l="0" t="11751" r="0" b="44127"/>
            <a:stretch/>
          </p:blipFill>
          <p:spPr>
            <a:xfrm>
              <a:off x="0" y="333360"/>
              <a:ext cx="914400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1"/>
            <p:cNvSpPr/>
            <p:nvPr/>
          </p:nvSpPr>
          <p:spPr>
            <a:xfrm>
              <a:off x="390240" y="333360"/>
              <a:ext cx="4051440" cy="48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" name="TextBox 2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No tengo un rat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6875640" y="5589720"/>
            <a:ext cx="2268360" cy="1268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0" t="55878" r="0" b="0"/>
          <a:stretch/>
        </p:blipFill>
        <p:spPr>
          <a:xfrm>
            <a:off x="0" y="476280"/>
            <a:ext cx="9201240" cy="5400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79280" y="59500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Tengo cuatro conej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79280" y="501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35:23Z</dcterms:modified>
  <cp:revision>208</cp:revision>
  <dc:subject/>
  <dc:title>TITLE</dc:title>
</cp:coreProperties>
</file>