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B5CF-383D-4486-A6D0-0E0DC8601D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395F-CB2E-4835-B1A6-4380F28365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1CB-F494-4AE0-B9C3-8FBB58BD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CD2-01AC-4025-94CE-4204E9E6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2B6-1AC2-43F4-A031-F2718194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253-949E-4D3F-BF40-9AE6422A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43A-D07F-4828-93AB-8A59767E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673-3CF7-4811-AD00-36CE20BB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6AF-6525-4B6D-AF00-E8F8A844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D67-A68E-4C7E-9A40-A238E429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DD9-91B2-437A-90EC-3B8546D4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F3E-824C-49FF-AE6F-2EC33C24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8DE-A91D-42D9-9F02-88582700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008-A863-407B-9027-D5B23EA9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25A3-D160-40D4-86CC-E84766C9BF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1"/>
          <p:cNvGrpSpPr/>
          <p:nvPr/>
        </p:nvGrpSpPr>
        <p:grpSpPr>
          <a:xfrm>
            <a:off x="487440" y="4797000"/>
            <a:ext cx="3114720" cy="1871640"/>
            <a:chOff x="487440" y="4797000"/>
            <a:chExt cx="3114720" cy="1871640"/>
          </a:xfrm>
        </p:grpSpPr>
        <p:sp>
          <p:nvSpPr>
            <p:cNvPr id="50" name="Right Arrow 9"/>
            <p:cNvSpPr/>
            <p:nvPr/>
          </p:nvSpPr>
          <p:spPr>
            <a:xfrm rot="10800000">
              <a:off x="523440" y="4797000"/>
              <a:ext cx="2816280" cy="1871640"/>
            </a:xfrm>
            <a:prstGeom prst="rightArrow">
              <a:avLst>
                <a:gd name="adj1" fmla="val 50000"/>
                <a:gd name="adj2" fmla="val 50004"/>
              </a:avLst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TextBox 6"/>
            <p:cNvSpPr/>
            <p:nvPr/>
          </p:nvSpPr>
          <p:spPr>
            <a:xfrm>
              <a:off x="487440" y="5217840"/>
              <a:ext cx="311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Comic Sans MS"/>
                </a:rPr>
                <a:t>tiene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" name="Group 3"/>
          <p:cNvGrpSpPr/>
          <p:nvPr/>
        </p:nvGrpSpPr>
        <p:grpSpPr>
          <a:xfrm>
            <a:off x="365040" y="2384280"/>
            <a:ext cx="3888000" cy="2087640"/>
            <a:chOff x="365040" y="2384280"/>
            <a:chExt cx="3888000" cy="2087640"/>
          </a:xfrm>
        </p:grpSpPr>
        <p:sp>
          <p:nvSpPr>
            <p:cNvPr id="53" name="Oval Callout 11"/>
            <p:cNvSpPr/>
            <p:nvPr/>
          </p:nvSpPr>
          <p:spPr>
            <a:xfrm>
              <a:off x="365040" y="2384280"/>
              <a:ext cx="3240360" cy="2087640"/>
            </a:xfrm>
            <a:prstGeom prst="wedgeEllipseCallout">
              <a:avLst>
                <a:gd name="adj1" fmla="val -47351"/>
                <a:gd name="adj2" fmla="val 58476"/>
              </a:avLst>
            </a:prstGeom>
            <a:solidFill>
              <a:srgbClr val="fffff7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TextBox 6"/>
            <p:cNvSpPr/>
            <p:nvPr/>
          </p:nvSpPr>
          <p:spPr>
            <a:xfrm>
              <a:off x="365040" y="2976480"/>
              <a:ext cx="388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¿ tienes ?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" name="Oval Callout 13"/>
          <p:cNvSpPr/>
          <p:nvPr/>
        </p:nvSpPr>
        <p:spPr>
          <a:xfrm>
            <a:off x="365040" y="11592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211640" y="62064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I ha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4265640" y="304488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do you hav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4265640" y="534024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(he / she) h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3213000" y="659772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18:25Z</dcterms:modified>
  <cp:revision>149</cp:revision>
  <dc:subject/>
  <dc:title>TITLE</dc:title>
</cp:coreProperties>
</file>