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2C8-E7E9-43E1-A40F-434B0BB1CB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D997-D8F5-49E4-9486-422EDEC16B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AFE-5637-4220-8F54-A74427F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15F-AEA1-41B9-8ABF-8E1E89B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A3D-AF5F-4DFC-BE3A-2C1128F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C39-7A2E-45A1-A228-5CE41AD2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BF0-FA4A-4E2F-A81E-EF52217B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D8B-2D21-4681-B43B-E58998B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C26-D361-40A6-8D99-378D6B8C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CD9-4844-4F32-8795-D91EB455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F8D-F80F-40C4-9355-38184C09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6DF-4452-4EEF-BC28-D2C8E53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234-4026-4F2C-9296-5C13E78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CDC-0807-4BF9-AC5A-45DD862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3A35-DF2A-4660-982D-F16BAECF5C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487440" y="4797000"/>
            <a:ext cx="3114720" cy="1871640"/>
            <a:chOff x="487440" y="4797000"/>
            <a:chExt cx="3114720" cy="1871640"/>
          </a:xfrm>
        </p:grpSpPr>
        <p:sp>
          <p:nvSpPr>
            <p:cNvPr id="50" name="Right Arrow 9"/>
            <p:cNvSpPr/>
            <p:nvPr/>
          </p:nvSpPr>
          <p:spPr>
            <a:xfrm rot="10800000">
              <a:off x="523440" y="4797000"/>
              <a:ext cx="2816280" cy="187164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TextBox 6"/>
            <p:cNvSpPr/>
            <p:nvPr/>
          </p:nvSpPr>
          <p:spPr>
            <a:xfrm>
              <a:off x="487440" y="5217840"/>
              <a:ext cx="311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tiene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" name="Group 3"/>
          <p:cNvGrpSpPr/>
          <p:nvPr/>
        </p:nvGrpSpPr>
        <p:grpSpPr>
          <a:xfrm>
            <a:off x="365040" y="2384280"/>
            <a:ext cx="3888000" cy="2087640"/>
            <a:chOff x="365040" y="2384280"/>
            <a:chExt cx="3888000" cy="2087640"/>
          </a:xfrm>
        </p:grpSpPr>
        <p:sp>
          <p:nvSpPr>
            <p:cNvPr id="53" name="Oval Callout 11"/>
            <p:cNvSpPr/>
            <p:nvPr/>
          </p:nvSpPr>
          <p:spPr>
            <a:xfrm>
              <a:off x="365040" y="2384280"/>
              <a:ext cx="3240360" cy="2087640"/>
            </a:xfrm>
            <a:prstGeom prst="wedgeEllipseCallout">
              <a:avLst>
                <a:gd name="adj1" fmla="val -47351"/>
                <a:gd name="adj2" fmla="val 58476"/>
              </a:avLst>
            </a:prstGeom>
            <a:solidFill>
              <a:srgbClr val="fffff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TextBox 6"/>
            <p:cNvSpPr/>
            <p:nvPr/>
          </p:nvSpPr>
          <p:spPr>
            <a:xfrm>
              <a:off x="365040" y="2976480"/>
              <a:ext cx="38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¿ tienes ?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" name="Oval Callout 13"/>
          <p:cNvSpPr/>
          <p:nvPr/>
        </p:nvSpPr>
        <p:spPr>
          <a:xfrm>
            <a:off x="365040" y="11592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1640" y="620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I 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4265640" y="30448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do you hav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65640" y="53402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(he / she) h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213000" y="659772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25Z</dcterms:modified>
  <cp:revision>149</cp:revision>
  <dc:subject/>
  <dc:title>TITLE</dc:title>
</cp:coreProperties>
</file>