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4066-9501-48AE-A791-F166AC1310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1D1C-B11C-49E4-B8F2-47A5B9A6ED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5BC-B180-4279-B56D-40F30A006C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E7E-DC9F-4616-9961-49E536BC47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0204-A80D-4D16-A00D-986C60EA96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557C-948C-4DFB-95C0-E6D4198282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B05-8101-4285-AB1B-53472E8124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AD9E-72CF-4537-98D4-2D79AACB37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78A-B198-4824-840E-26654FB956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608-DFB4-4F85-99F5-1D84AC4F44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4652-6B90-4FA6-9D17-ECB8B0F1BA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6162-B701-4385-AF6E-708DBAB2D3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0E3-84EA-4EB0-B04F-9C78500BF2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E4D-FA6B-429F-A418-71A5744102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445-5020-4534-B2D9-B4251062D1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DAE-2267-4C32-9373-01A282D79A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032-3352-47D4-A2AC-AEBA2DC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CFC-5DA2-41A2-B942-BA397F45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DEF-E0AC-4C01-9A71-6E188569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5D6-B7F5-4040-91D5-D4529AB3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3BC3-7406-4557-A45A-00A55EA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DD9-C774-4343-9CE9-2F5B436A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809-A176-4E01-85CE-43F5474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2C8-0C0D-4664-9821-A8FA5BE2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03D0-FABF-4D6D-AC98-645F50B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09C-9571-4AA9-A326-144A96B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B373-B529-479F-AF5D-77C6268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5F3-048C-497F-92CC-7913A6D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0962-83D5-4296-AD7A-7B388E9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CD7-CEA4-47E3-AD0E-19F2780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3CC-1C03-44E9-9AAF-BD838F2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0B0-7EF0-45DB-B3DF-84F1F28B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0F6-CEA0-45B7-B673-87B5C6E8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5B16-2CB4-4A3D-8EE1-A4F419F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94E5-6C68-48B8-A90C-5B5C666D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86BF-3ACA-4532-9167-8D9F35D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00A8-A760-4833-98F5-85D8F894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03BE-41CE-4C8E-A633-60A78B5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E61-1D98-4E15-9B99-609C65F8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72B7-2519-4E97-AAE9-1624F513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5A69-FCE5-411A-9D63-615822D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A883-07D8-401B-B263-AE3423B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EE1F-A028-4805-BAB9-1A03F56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CBE8-E60F-4766-87E2-43FA9F9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CECE-3D99-41B9-B894-7DF9301C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4EBB-4CAC-4E38-86C6-C4300B61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51B-1B32-491C-852C-F4EA516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6E5-98D7-4442-ACD4-85D6E4CA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53F-8F4B-40A4-8033-0CE84101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237-DE1E-4773-94B1-3393222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A95-537B-4854-B79A-07C0D2F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BE5-9C7B-42D6-9762-46B626F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545-C5F7-497E-B9A4-43E0C1E68B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EB7-3013-4651-A182-5797FFC3C0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456A-0D83-488D-BFC8-448502997ABA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9280" y="487692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695840" y="487692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5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5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6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67327 0.39745 E">
                                      <p:cBhvr>
                                        <p:cTn id="42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7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8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8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5035 0.50254 E">
                                      <p:cBhvr>
                                        <p:cTn id="48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9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0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0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0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468360" y="565200"/>
            <a:ext cx="26366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4491 L 0.30469 0.39745 E">
                                      <p:cBhvr>
                                        <p:cTn id="54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31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31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2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2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468360" y="565200"/>
            <a:ext cx="26366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4"/>
          <p:cNvSpPr/>
          <p:nvPr/>
        </p:nvSpPr>
        <p:spPr>
          <a:xfrm>
            <a:off x="3276720" y="3240000"/>
            <a:ext cx="2781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62761 0.24745 E">
                                      <p:cBhvr>
                                        <p:cTn id="60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33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34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4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4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4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3276720" y="3240000"/>
            <a:ext cx="2781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6664320" y="2598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50920" y="189000"/>
          <a:ext cx="8642160" cy="494496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312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.sg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.sg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s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.pl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5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3"/>
          <p:cNvSpPr/>
          <p:nvPr/>
        </p:nvSpPr>
        <p:spPr>
          <a:xfrm>
            <a:off x="324000" y="1557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336600" y="22575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343080" y="29653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3211560" y="148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3246480" y="220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3211560" y="29653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6100920" y="14907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343080" y="36734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6110280" y="22114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343080" y="44085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4938840" y="1870200"/>
            <a:ext cx="3979800" cy="288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2689200" cy="2986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179280" y="487692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calo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95840" y="487692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7280" y="476280"/>
          <a:ext cx="8569440" cy="194472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1640"/>
                <a:gridCol w="21430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59000" y="2421000"/>
          <a:ext cx="6426000" cy="388764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9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3"/>
          <p:cNvSpPr/>
          <p:nvPr/>
        </p:nvSpPr>
        <p:spPr>
          <a:xfrm>
            <a:off x="32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249228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60044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680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42416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59244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570060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1424160" y="5589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3368520" y="558972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5700600" y="5589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2" descr=""/>
          <p:cNvPicPr/>
          <p:nvPr/>
        </p:nvPicPr>
        <p:blipFill>
          <a:blip r:embed="rId1"/>
          <a:srcRect l="37509" t="0" r="20029" b="0"/>
          <a:stretch/>
        </p:blipFill>
        <p:spPr>
          <a:xfrm>
            <a:off x="1917720" y="443880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4967280" y="557280"/>
            <a:ext cx="1620720" cy="107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3"/>
          <a:stretch/>
        </p:blipFill>
        <p:spPr>
          <a:xfrm>
            <a:off x="619200" y="689040"/>
            <a:ext cx="1654200" cy="94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"/>
          <p:cNvPicPr/>
          <p:nvPr/>
        </p:nvPicPr>
        <p:blipFill>
          <a:blip r:embed="rId4"/>
          <a:stretch/>
        </p:blipFill>
        <p:spPr>
          <a:xfrm>
            <a:off x="2830680" y="654120"/>
            <a:ext cx="1571400" cy="1046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"/>
          <p:cNvPicPr/>
          <p:nvPr/>
        </p:nvPicPr>
        <p:blipFill>
          <a:blip r:embed="rId5"/>
          <a:stretch/>
        </p:blipFill>
        <p:spPr>
          <a:xfrm>
            <a:off x="3924360" y="4471920"/>
            <a:ext cx="1623960" cy="10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6"/>
          <a:stretch/>
        </p:blipFill>
        <p:spPr>
          <a:xfrm>
            <a:off x="5979960" y="2565360"/>
            <a:ext cx="1737000" cy="1157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7"/>
          <a:stretch/>
        </p:blipFill>
        <p:spPr>
          <a:xfrm>
            <a:off x="3800520" y="2589120"/>
            <a:ext cx="1747800" cy="116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8"/>
          <a:stretch/>
        </p:blipFill>
        <p:spPr>
          <a:xfrm>
            <a:off x="6083280" y="4471920"/>
            <a:ext cx="1531800" cy="101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9"/>
          <a:stretch/>
        </p:blipFill>
        <p:spPr>
          <a:xfrm>
            <a:off x="1630440" y="2593800"/>
            <a:ext cx="178092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10"/>
          <a:stretch/>
        </p:blipFill>
        <p:spPr>
          <a:xfrm>
            <a:off x="7042320" y="557280"/>
            <a:ext cx="17636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64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66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68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70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2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28175E-006 L 0.67726 0.64122 E">
                                      <p:cBhvr>
                                        <p:cTn id="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7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8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8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64051 E">
                                      <p:cBhvr>
                                        <p:cTn id="12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93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95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97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399 0.52338 E">
                                      <p:cBhvr>
                                        <p:cTn id="1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0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0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1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1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67327 0.51296 E">
                                      <p:cBhvr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2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2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2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2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00382 0.38703 E">
                                      <p:cBhvr>
                                        <p:cTn id="3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3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4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4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4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5816 0.65995 E">
                                      <p:cBhvr>
                                        <p:cTn id="3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9:33Z</dcterms:modified>
  <cp:revision>247</cp:revision>
  <dc:subject/>
  <dc:title>TITLE</dc:title>
</cp:coreProperties>
</file>