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3E96-5D8F-4F63-8B23-215A502FBC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9AB3-C651-4E51-A3F1-5BFE76C266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B790-FF08-451E-89B2-BE4506816C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3D81-46E8-48E1-A933-20121811CC3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9649-76D5-432C-9F4F-3CF674738C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4938-2CBC-4E8A-AE64-D7E811876C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44D7-ABA6-444B-9C24-07D65850628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7C3D-40AF-4ED6-83AE-DE9FEC0753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035B-92D4-478F-B75B-741189FE36C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61E5-24D8-47A6-ADBB-48FA9AB528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35CE-7800-4BEF-B663-F848C3FF317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E7BD-B8DB-4E38-A58D-D0FECB6BF88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F2D9-E40C-433A-A87D-422F795176B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C750-A282-494E-8A24-9DB71D371C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B6DC-7710-4403-A327-1F38BE47CE3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AB5F-CE46-4AF0-802D-18A833EA6C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1CA-50B0-4E33-9F6A-2B655037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13A-64E4-493D-BF3D-8F411800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D87-8814-4B94-92E9-682EA98C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D04-F237-4102-B97E-34BE0434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F73E-B41E-49AC-8270-B86666BF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6965-DE7B-4B9F-A617-74343CA4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61D0-B4B7-41ED-BF6D-7FEFDAC9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6E90-4A8E-4A92-AAD8-F64BD1C5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8FD5-3A53-4A2B-BE62-AE6E8EE5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6F3-57D7-43E0-8DD0-F1D1A2A4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094B-1FC0-4E4B-BC89-EFD9E732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A94-4F61-4EC7-9341-0A7D7277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A28E-3EDF-4415-8ACA-2563FD2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6A9B-AC9F-4E55-87E6-52BD2E8C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9560-B3DC-4727-BB97-A15E8B36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5940-8255-44A4-A6D0-54770479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3455-A191-4C5D-8BD8-EC398315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48D6-00C8-4ADD-A078-82F24202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80DA-4FF0-4A3E-902A-B2E45A56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09F9-7A8F-4B3C-A5F3-60BBA905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D438-C317-43BB-8CDF-A5D84B9B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AEA1-C267-41E0-9C2D-E1DCB0F9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D98-0E08-4849-BBE0-F19A17C2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271C-427E-4A82-AFE9-CB19174A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A4EF-674B-4CC5-BBFD-F0F9DE51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F701-3214-45EC-8CE8-B0CA7CD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E32D9-887A-486A-A04D-171F1240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9E9D-DCA9-4A98-B57A-1F3E5970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EC5BA-07DD-4DDC-8F44-7929764E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2484-A4FC-4E4F-969E-BFD65C0D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E5E-F178-4FED-98DE-62321924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72C-D661-46C1-A98C-A67B286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69F-D2F0-4D0D-BE99-A567F7B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2DB-318F-475D-8317-952E5217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822-44C9-495F-9264-1D76000B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657-CDC8-4BAC-B270-FA1C393A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B4A4-2A70-45E5-93D8-E668351122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47F8-0F7E-40CD-80BE-A1C144F386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883-F8C0-40C6-A0A7-CE41D2B11437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638680" y="2673360"/>
            <a:ext cx="2395800" cy="220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941400" y="2770200"/>
            <a:ext cx="2940120" cy="1851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79280" y="487692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Tengo hambr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695840" y="487692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Tengo se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5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5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6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6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6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67327 0.39745 E">
                                      <p:cBhvr>
                                        <p:cTn id="42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78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80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82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84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2"/>
          <p:cNvSpPr/>
          <p:nvPr/>
        </p:nvSpPr>
        <p:spPr>
          <a:xfrm>
            <a:off x="6694560" y="33066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35035 0.50254 E">
                                      <p:cBhvr>
                                        <p:cTn id="48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96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98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00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302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04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16"/>
          <p:cNvSpPr/>
          <p:nvPr/>
        </p:nvSpPr>
        <p:spPr>
          <a:xfrm>
            <a:off x="468360" y="565200"/>
            <a:ext cx="26366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rme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22"/>
          <p:cNvSpPr/>
          <p:nvPr/>
        </p:nvSpPr>
        <p:spPr>
          <a:xfrm>
            <a:off x="6694560" y="33066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23"/>
          <p:cNvSpPr/>
          <p:nvPr/>
        </p:nvSpPr>
        <p:spPr>
          <a:xfrm>
            <a:off x="3710160" y="395928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4491 L 0.30469 0.39745 E">
                                      <p:cBhvr>
                                        <p:cTn id="54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31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31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2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32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2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Box 16"/>
          <p:cNvSpPr/>
          <p:nvPr/>
        </p:nvSpPr>
        <p:spPr>
          <a:xfrm>
            <a:off x="468360" y="565200"/>
            <a:ext cx="26366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ub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Box 22"/>
          <p:cNvSpPr/>
          <p:nvPr/>
        </p:nvSpPr>
        <p:spPr>
          <a:xfrm>
            <a:off x="6694560" y="33066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Box 23"/>
          <p:cNvSpPr/>
          <p:nvPr/>
        </p:nvSpPr>
        <p:spPr>
          <a:xfrm>
            <a:off x="3710160" y="395928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Box 24"/>
          <p:cNvSpPr/>
          <p:nvPr/>
        </p:nvSpPr>
        <p:spPr>
          <a:xfrm>
            <a:off x="3276720" y="3240000"/>
            <a:ext cx="2781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rme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62761 0.24745 E">
                                      <p:cBhvr>
                                        <p:cTn id="60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339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0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341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43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345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47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3681360" y="4667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6694560" y="33066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3710160" y="395928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3276720" y="3240000"/>
            <a:ext cx="2781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rme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6664320" y="2598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ub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50920" y="189000"/>
          <a:ext cx="8642160" cy="494496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3129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l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.sg.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.sg.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s</a:t>
                      </a:r>
                      <a:br>
                        <a:rPr sz="4000"/>
                      </a:b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.pl.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5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6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6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6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26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3"/>
          <p:cNvSpPr/>
          <p:nvPr/>
        </p:nvSpPr>
        <p:spPr>
          <a:xfrm>
            <a:off x="324000" y="1557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336600" y="22575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343080" y="29653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3211560" y="148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3246480" y="220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nieb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3211560" y="29653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nie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Box 12"/>
          <p:cNvSpPr/>
          <p:nvPr/>
        </p:nvSpPr>
        <p:spPr>
          <a:xfrm>
            <a:off x="6100920" y="14907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nub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343080" y="36734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6110280" y="22114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torme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15"/>
          <p:cNvSpPr/>
          <p:nvPr/>
        </p:nvSpPr>
        <p:spPr>
          <a:xfrm>
            <a:off x="343080" y="44085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4938840" y="1870200"/>
            <a:ext cx="3979800" cy="288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2689200" cy="2986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179280" y="487692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Tengo calor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695840" y="487692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a"/>
                </a:solidFill>
                <a:latin typeface="Comic Sans MS"/>
              </a:rPr>
              <a:t>Tengo frío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87280" y="476280"/>
          <a:ext cx="8569440" cy="1944720"/>
        </p:xfrm>
        <a:graphic>
          <a:graphicData uri="http://schemas.openxmlformats.org/drawingml/2006/table">
            <a:tbl>
              <a:tblPr/>
              <a:tblGrid>
                <a:gridCol w="2143080"/>
                <a:gridCol w="2141640"/>
                <a:gridCol w="2141640"/>
                <a:gridCol w="214308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359000" y="2421000"/>
          <a:ext cx="6426000" cy="388764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194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143" name="TextBox 3"/>
          <p:cNvSpPr/>
          <p:nvPr/>
        </p:nvSpPr>
        <p:spPr>
          <a:xfrm>
            <a:off x="324000" y="17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249228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4600440" y="17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6804000" y="17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1424160" y="36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ieb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59244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ie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570060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ub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1424160" y="5589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3368520" y="558972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rment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5700600" y="5589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2" descr=""/>
          <p:cNvPicPr/>
          <p:nvPr/>
        </p:nvPicPr>
        <p:blipFill>
          <a:blip r:embed="rId1"/>
          <a:srcRect l="37509" t="0" r="20029" b="0"/>
          <a:stretch/>
        </p:blipFill>
        <p:spPr>
          <a:xfrm>
            <a:off x="1917720" y="4438800"/>
            <a:ext cx="1263600" cy="1150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4967280" y="557280"/>
            <a:ext cx="1620720" cy="107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"/>
          <p:cNvPicPr/>
          <p:nvPr/>
        </p:nvPicPr>
        <p:blipFill>
          <a:blip r:embed="rId3"/>
          <a:stretch/>
        </p:blipFill>
        <p:spPr>
          <a:xfrm>
            <a:off x="619200" y="689040"/>
            <a:ext cx="1654200" cy="94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"/>
          <p:cNvPicPr/>
          <p:nvPr/>
        </p:nvPicPr>
        <p:blipFill>
          <a:blip r:embed="rId4"/>
          <a:stretch/>
        </p:blipFill>
        <p:spPr>
          <a:xfrm>
            <a:off x="2830680" y="654120"/>
            <a:ext cx="1571400" cy="1046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"/>
          <p:cNvPicPr/>
          <p:nvPr/>
        </p:nvPicPr>
        <p:blipFill>
          <a:blip r:embed="rId5"/>
          <a:stretch/>
        </p:blipFill>
        <p:spPr>
          <a:xfrm>
            <a:off x="3924360" y="4471920"/>
            <a:ext cx="1623960" cy="10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6"/>
          <a:stretch/>
        </p:blipFill>
        <p:spPr>
          <a:xfrm>
            <a:off x="5979960" y="2565360"/>
            <a:ext cx="1737000" cy="1157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7"/>
          <a:stretch/>
        </p:blipFill>
        <p:spPr>
          <a:xfrm>
            <a:off x="3800520" y="2589120"/>
            <a:ext cx="1747800" cy="1165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8"/>
          <a:stretch/>
        </p:blipFill>
        <p:spPr>
          <a:xfrm>
            <a:off x="6083280" y="4471920"/>
            <a:ext cx="1531800" cy="1019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"/>
          <p:cNvPicPr/>
          <p:nvPr/>
        </p:nvPicPr>
        <p:blipFill>
          <a:blip r:embed="rId9"/>
          <a:stretch/>
        </p:blipFill>
        <p:spPr>
          <a:xfrm>
            <a:off x="1630440" y="2593800"/>
            <a:ext cx="178092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10"/>
          <a:stretch/>
        </p:blipFill>
        <p:spPr>
          <a:xfrm>
            <a:off x="7042320" y="557280"/>
            <a:ext cx="176364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64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5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66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68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70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2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28175E-006 L 0.67726 0.64122 E">
                                      <p:cBhvr>
                                        <p:cTn id="6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79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81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83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64051 E">
                                      <p:cBhvr>
                                        <p:cTn id="12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193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195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197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9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00399 0.52338 E">
                                      <p:cBhvr>
                                        <p:cTn id="18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06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08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10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12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4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67327 0.51296 E">
                                      <p:cBhvr>
                                        <p:cTn id="24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22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24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26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28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0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00382 0.38703 E">
                                      <p:cBhvr>
                                        <p:cTn id="3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3"/>
          <p:cNvGrpSpPr/>
          <p:nvPr/>
        </p:nvGrpSpPr>
        <p:grpSpPr>
          <a:xfrm>
            <a:off x="84240" y="3429000"/>
            <a:ext cx="2952720" cy="3456000"/>
            <a:chOff x="84240" y="3429000"/>
            <a:chExt cx="2952720" cy="3456000"/>
          </a:xfrm>
        </p:grpSpPr>
        <p:pic>
          <p:nvPicPr>
            <p:cNvPr id="239" name="Picture 2" descr=""/>
            <p:cNvPicPr/>
            <p:nvPr/>
          </p:nvPicPr>
          <p:blipFill>
            <a:blip r:embed="rId1"/>
            <a:srcRect l="5755" t="4258" r="13768" b="8878"/>
            <a:stretch/>
          </p:blipFill>
          <p:spPr>
            <a:xfrm>
              <a:off x="84240" y="3429000"/>
              <a:ext cx="2952720" cy="345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1"/>
            <p:cNvGrpSpPr/>
            <p:nvPr/>
          </p:nvGrpSpPr>
          <p:grpSpPr>
            <a:xfrm>
              <a:off x="686160" y="5431320"/>
              <a:ext cx="1747440" cy="720360"/>
              <a:chOff x="686160" y="5431320"/>
              <a:chExt cx="1747440" cy="720360"/>
            </a:xfrm>
          </p:grpSpPr>
          <p:pic>
            <p:nvPicPr>
              <p:cNvPr id="241" name="Picture 4" descr=""/>
              <p:cNvPicPr/>
              <p:nvPr/>
            </p:nvPicPr>
            <p:blipFill>
              <a:blip r:embed="rId2"/>
              <a:srcRect l="0" t="12354" r="0" b="13393"/>
              <a:stretch/>
            </p:blipFill>
            <p:spPr>
              <a:xfrm>
                <a:off x="686160" y="5431320"/>
                <a:ext cx="174744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Box 5"/>
              <p:cNvSpPr/>
              <p:nvPr/>
            </p:nvSpPr>
            <p:spPr>
              <a:xfrm>
                <a:off x="1306800" y="5431320"/>
                <a:ext cx="74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43" name="Picture 3" descr=""/>
          <p:cNvPicPr/>
          <p:nvPr/>
        </p:nvPicPr>
        <p:blipFill>
          <a:blip r:embed="rId3"/>
          <a:srcRect l="5706" t="3842" r="13817" b="8327"/>
          <a:stretch/>
        </p:blipFill>
        <p:spPr>
          <a:xfrm>
            <a:off x="3105000" y="3429000"/>
            <a:ext cx="2953080" cy="349416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2"/>
          <p:cNvGrpSpPr/>
          <p:nvPr/>
        </p:nvGrpSpPr>
        <p:grpSpPr>
          <a:xfrm>
            <a:off x="3708360" y="5438880"/>
            <a:ext cx="1747800" cy="718920"/>
            <a:chOff x="3708360" y="5438880"/>
            <a:chExt cx="1747800" cy="718920"/>
          </a:xfrm>
        </p:grpSpPr>
        <p:pic>
          <p:nvPicPr>
            <p:cNvPr id="245" name="Picture 8" descr=""/>
            <p:cNvPicPr/>
            <p:nvPr/>
          </p:nvPicPr>
          <p:blipFill>
            <a:blip r:embed="rId4"/>
            <a:srcRect l="0" t="12354" r="0" b="13393"/>
            <a:stretch/>
          </p:blipFill>
          <p:spPr>
            <a:xfrm>
              <a:off x="3708360" y="5438880"/>
              <a:ext cx="17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9"/>
            <p:cNvSpPr/>
            <p:nvPr/>
          </p:nvSpPr>
          <p:spPr>
            <a:xfrm>
              <a:off x="4494240" y="5491080"/>
              <a:ext cx="6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.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7" name="Picture 5" descr=""/>
          <p:cNvPicPr/>
          <p:nvPr/>
        </p:nvPicPr>
        <p:blipFill>
          <a:blip r:embed="rId5"/>
          <a:stretch/>
        </p:blipFill>
        <p:spPr>
          <a:xfrm>
            <a:off x="5883120" y="3284640"/>
            <a:ext cx="3729240" cy="3960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6"/>
          <a:srcRect l="0" t="12354" r="0" b="13393"/>
          <a:stretch/>
        </p:blipFill>
        <p:spPr>
          <a:xfrm>
            <a:off x="6659640" y="5479920"/>
            <a:ext cx="1747800" cy="720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7346880" y="5532480"/>
            <a:ext cx="6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468360" y="565200"/>
            <a:ext cx="18000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luv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6664320" y="47228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Box 17"/>
          <p:cNvSpPr/>
          <p:nvPr/>
        </p:nvSpPr>
        <p:spPr>
          <a:xfrm>
            <a:off x="660240" y="47005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í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Box 18"/>
          <p:cNvSpPr/>
          <p:nvPr/>
        </p:nvSpPr>
        <p:spPr>
          <a:xfrm>
            <a:off x="660240" y="399240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vie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Box 19"/>
          <p:cNvSpPr/>
          <p:nvPr/>
        </p:nvSpPr>
        <p:spPr>
          <a:xfrm>
            <a:off x="6664320" y="401472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Box 20"/>
          <p:cNvSpPr/>
          <p:nvPr/>
        </p:nvSpPr>
        <p:spPr>
          <a:xfrm>
            <a:off x="685800" y="3284640"/>
            <a:ext cx="1800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iel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35816 0.65995 E">
                                      <p:cBhvr>
                                        <p:cTn id="36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6-07T12:49:33Z</dcterms:modified>
  <cp:revision>247</cp:revision>
  <dc:subject/>
  <dc:title>TITLE</dc:title>
</cp:coreProperties>
</file>