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8CD5-DFD4-4083-AC89-9944F51B8CC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4734-8061-4E0E-B29C-2480E7A8A8B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C539-6DA0-4930-9490-8D9053C9CEB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795C-F1F5-4CA2-AFC5-97A398C4C90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ADC6-923F-4AB0-B5C2-10C255C7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4310-3E08-4E4D-98B6-5B2AA33B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9B6E-84D2-42B2-BF20-31CCE47D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41E8-AAFB-4A53-818D-7738BABD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CA4D-ED52-45F9-BF80-E35E6291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A005-B321-4B87-892C-2DC2478E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7F94-8C20-4A3E-B961-825D5532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BF94-6072-4CE9-9167-DDC99FDC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76E0-CC1B-4D82-BFA0-0B7FEF8C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7610-BFB5-41CC-B826-98498B1A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BD39-7A19-4234-B2E9-A7D7B9C1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9AEB-90DA-4477-B794-35EBC268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060D-4562-40CA-A3C4-6337D6D2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9672-47C3-4468-9B62-2F61FA85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3919-D34A-4266-91DE-D01CA60C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9E14-EAB8-4679-8D64-5F52A86D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529A-17F4-43C5-9644-4AD0790B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92F86-6E74-4C96-93FA-724355CB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8CCB2-CA15-4F14-8268-D586A0B7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0F530-B831-49B2-B578-969C6F9D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EC93B-53A8-48AF-B5E2-D5BBDBE0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18E0F-5042-40F5-85FA-66D28CBF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15E7-5C16-46A6-96F4-63CA9A70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0082B-65EA-48AA-9D56-F93C3215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8DF41-9153-4FCE-B742-C3A59E04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22763-1990-4582-8BB6-9D5F0609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B9502-52CD-4CB6-AA6E-C48E863E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A2EE0-FF31-4322-BF6A-A1445394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CAC06-A3A3-429A-90DA-0F182E42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D2E1F-DC48-471A-AA83-B8C7EF62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06EA-3F66-4423-95B6-B3368750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C77-A038-46F0-814E-A255DCC8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E01-0F45-4A4E-B190-3FF5F46A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18D4-FE13-447F-9CA2-CA8F7CDA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789C-AE23-40CF-887A-0C359E54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7CDF-2BCF-4DE0-9895-D2750BD9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F766-E770-4B60-B546-663399C8035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54EB-0FA3-4637-9FEB-6703D70FC26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6BF2-F248-479E-AF32-49744423C50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54200" y="278136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buClr>
                <a:srgbClr val="fffff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Then and Now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2308320" cy="2521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24000" y="3860640"/>
            <a:ext cx="2808000" cy="2111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635280" y="4005360"/>
            <a:ext cx="1800360" cy="1753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3419640" y="620640"/>
            <a:ext cx="2232000" cy="1952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6300720" y="333360"/>
            <a:ext cx="2344680" cy="244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6084720" y="3860640"/>
            <a:ext cx="2700360" cy="2028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9280" y="2924280"/>
            <a:ext cx="34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16360" y="2637000"/>
            <a:ext cx="34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852640"/>
            <a:ext cx="34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095880"/>
            <a:ext cx="34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B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5805360"/>
            <a:ext cx="34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24360" y="5877000"/>
            <a:ext cx="34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E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29242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afet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27082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s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00720" y="2852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orr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6156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ibliote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80000" y="580536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er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00720" y="59500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s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873080" cy="1943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276720" y="333360"/>
            <a:ext cx="1807920" cy="1943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276720" y="2421000"/>
            <a:ext cx="1817640" cy="1942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84360" y="2421000"/>
            <a:ext cx="1844640" cy="195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5867280" y="333360"/>
            <a:ext cx="1843200" cy="1943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189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00360" y="189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19640" y="2602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42100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0360" y="2421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35640" y="3068640"/>
            <a:ext cx="3382920" cy="143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. panad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35640" y="4076640"/>
            <a:ext cx="352908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. pastel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5013360"/>
            <a:ext cx="66963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. tienda de comesti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5950080"/>
            <a:ext cx="374508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. pescad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56000" y="5877000"/>
            <a:ext cx="374508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. carnic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5003640" y="2060640"/>
            <a:ext cx="648000" cy="100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4858920" y="3645000"/>
            <a:ext cx="647640" cy="100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1979280" y="4149720"/>
            <a:ext cx="647640" cy="100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95280" y="1844280"/>
            <a:ext cx="289080" cy="424836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7380360" y="1341360"/>
            <a:ext cx="504720" cy="4896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5-28T11:43:39Z</dcterms:modified>
  <cp:revision>306</cp:revision>
  <dc:subject/>
  <dc:title>TITLE</dc:title>
</cp:coreProperties>
</file>