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C075-37E3-4EB5-956C-55524EBB657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70C0-90B0-409C-8C6A-2909BE78013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BFAF-2462-494E-BEB5-9F29274F9A1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2265-B886-40F3-B6F6-83FE7B64EF0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64F-C904-4176-9134-F2F708FB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E83-4E4E-4CA6-B100-BC65AF81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1925-3234-48EF-917F-CC426816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8096-F009-43A4-ACDB-2066305C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69D1-0E13-4E32-8278-9B921D48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56B5-1E8A-49F5-8CDD-D10B5465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57C3-DFF2-469D-8B99-3FB0F9CC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A330-8215-4D66-88EC-53C6551D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F524-6E32-4870-9CA8-7324EE12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35AF-A900-44B5-9FDF-EB7C2A52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FC34-E00D-4C0A-BD7A-A11742F4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00EF-C83E-4392-96C3-D365AA90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AC6F-44F1-4D5D-AA7F-3CDA99CC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B008-CE0A-4874-84DC-4CDBF352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0FB2-E8D0-44E1-A736-2F4B85FF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19D1-B508-482C-91AD-F86BFF62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87AE-8A9B-4EBF-8A30-09C0791D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074D1-4419-4A34-AF40-1BE81EDC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E545F-3A83-4143-A644-BA94B047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3AE7E-D075-47BB-B7B3-1B6AE7FB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B320E-1E9C-4A54-8965-7A70638C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B6152-D8BE-4C59-86FE-A973A182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EA0-53A5-421C-B588-F6C4C0D8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9058C-7BC9-4D1D-8A8A-27804BA8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9BB4C-3705-4FAE-A424-5E1CB9BC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C0460-88E6-45D1-AE29-8F4F2DD7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D3142-A2D9-46F7-B38F-3323DFFE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BDB7D-A90F-4B54-B285-8135BDD1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09457-65BB-4EE5-8713-E2B92D9B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49F79-7BFE-448B-A27E-39EF861F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E50B-7EB9-4C5B-98E3-F009EEC1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9BC-F85C-41E1-B85D-E3DB3EC3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1D2-32E0-4668-BD7D-9BD9352B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7E7F-1DDB-479D-A482-324C6095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4F4-0B52-43EF-A2D9-FD5757C1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4959-EDBC-4BA4-BB4E-08D7B593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743D-2837-48F8-AE3D-C71C1519BBD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3C91-514F-43A5-BE0D-275B9D1567A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A0F7-D8B4-4994-A6DB-B14EEC201E8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54200" y="278136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buClr>
                <a:srgbClr val="fffff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Then and Now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2308320" cy="2521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4000" y="3860640"/>
            <a:ext cx="2808000" cy="2111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635280" y="4005360"/>
            <a:ext cx="1800360" cy="1753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419640" y="620640"/>
            <a:ext cx="2232000" cy="1952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6300720" y="333360"/>
            <a:ext cx="2344680" cy="244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6084720" y="3860640"/>
            <a:ext cx="2700360" cy="2028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9280" y="2924280"/>
            <a:ext cx="34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2637000"/>
            <a:ext cx="34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852640"/>
            <a:ext cx="34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095880"/>
            <a:ext cx="34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5805360"/>
            <a:ext cx="34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24360" y="5877000"/>
            <a:ext cx="34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29242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afet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27082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s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00720" y="2852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orr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6156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ibliote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80000" y="580536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er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00720" y="59500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s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873080" cy="1943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276720" y="333360"/>
            <a:ext cx="1807920" cy="1943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276720" y="2421000"/>
            <a:ext cx="1817640" cy="1942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84360" y="2421000"/>
            <a:ext cx="1844640" cy="195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5867280" y="333360"/>
            <a:ext cx="1843200" cy="1943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189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00360" y="189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19640" y="260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42100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0360" y="2421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35640" y="3068640"/>
            <a:ext cx="3382920" cy="143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. panad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35640" y="4076640"/>
            <a:ext cx="35290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. pastel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5013360"/>
            <a:ext cx="66963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. tienda de comesti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5950080"/>
            <a:ext cx="37450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. pescad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56000" y="5877000"/>
            <a:ext cx="37450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. carnic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003640" y="2060640"/>
            <a:ext cx="648000" cy="100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4858920" y="3645000"/>
            <a:ext cx="647640" cy="100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1979280" y="4149720"/>
            <a:ext cx="647640" cy="100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95280" y="1844280"/>
            <a:ext cx="289080" cy="424836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7380360" y="1341360"/>
            <a:ext cx="504720" cy="4896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5-28T11:43:39Z</dcterms:modified>
  <cp:revision>306</cp:revision>
  <dc:subject/>
  <dc:title>TITLE</dc:title>
</cp:coreProperties>
</file>