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590A-337B-4A65-86FA-3D4D747D12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C51F-DB3C-46BB-961C-DCB0CCB7DE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7591-8548-4058-861C-DC906A4219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339-3397-4ADF-B2A2-15984441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BD3-143C-4F30-8EC3-F2333DF8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CA3-7C5E-4A4A-878C-D8840949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F8A-33D2-4FF7-833E-4F9486F3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E88A-BA84-4F13-8E27-FA291B2B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7948-0280-4E86-A5D2-4C8104AB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B9E2-1D0C-4CE2-A80F-9F7DC409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CA4F-0286-492F-8728-93F58FDE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3D65-7894-48F5-8CE0-5F4366F2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FED5-453C-4BCF-AF93-738B5955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5F75-40AE-47D5-AED2-52FBF7A4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2C6-DD90-44EB-9EC6-B3139C73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B8EB-59C7-4466-8154-0FA3E63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8F5E-5297-4A4B-A8B1-05C891E4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4A19-ABF7-492B-BD30-7338E6B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1D54-55FB-4BF2-BFB3-AD5766C0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3FC6-0ACB-4126-8AD2-355942FA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9B58-2F45-45CA-A5D7-AA045082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D6943-14AB-49C3-8443-2DF11A17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F7CC-1CF6-4E72-A22F-890E71B1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0E7B-9728-4E91-BF1D-FF87A3DB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45ED-3666-4459-8165-84D38DB4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FC2-0A86-4811-B335-9E3A48B4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478A-0325-4812-A881-A4CFC659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4398-8CCE-4F10-9300-BD9761D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A997-4F3A-4770-8DA4-D04FCB3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98D5-9F7D-4026-B7B8-DA54A49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C8D3-7B78-4725-A77F-1793DB1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A633-E69C-406B-8263-46E5F409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AD0C-FD52-49D1-9099-AD4CAC29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5C5-824C-4854-9A77-2878E57D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ECD-C5AE-4772-8209-284B6270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92D-9ED5-4278-BE62-C87C6D57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547-2680-4855-BB71-1707518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D01-9FB1-40B2-9631-82A5174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6AF-6D22-4FC2-AC5F-5F7FD4F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C248-A168-4FE9-8139-923D23849D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845-970B-49BA-AE26-70CD3B87229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6B30-9F15-402D-A8F4-814181F2128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19640" y="3284640"/>
            <a:ext cx="1081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284640"/>
            <a:ext cx="1081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284640"/>
            <a:ext cx="1368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73360"/>
            <a:ext cx="15476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573360"/>
            <a:ext cx="2232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3573360"/>
            <a:ext cx="12956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3573360"/>
            <a:ext cx="1081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3933720"/>
            <a:ext cx="865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3933720"/>
            <a:ext cx="1224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292640"/>
            <a:ext cx="10810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5229360"/>
            <a:ext cx="180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516640"/>
            <a:ext cx="1908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5516640"/>
            <a:ext cx="20876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292428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2924280"/>
            <a:ext cx="122400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328464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357336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133200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3933720"/>
            <a:ext cx="64764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221000"/>
            <a:ext cx="68436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486900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4869000"/>
            <a:ext cx="10810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5229360"/>
            <a:ext cx="1151280" cy="3603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4:17Z</dcterms:modified>
  <cp:revision>306</cp:revision>
  <dc:subject/>
  <dc:title>TITLE</dc:title>
</cp:coreProperties>
</file>