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21C8-5BE7-4968-8F00-58B89AE00FD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3C56-BB6A-4B90-9804-D2899B149DF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9B7B-8076-4B57-9258-1EE81E1434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DE3F-771B-4A97-80D8-882B00DA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702C-123C-48AA-BBC0-543E05F6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D76C-3A67-41C4-9769-A23E6FC4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277D-A8FF-4734-8B27-981BFB2A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1C41-6FA8-40A3-A352-62C86794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D7B2-3CC9-422C-BAAD-53F30E72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0842-C174-4ED4-BF43-383D2710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B987-4A04-4F9D-8963-E3105E7E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7DDF-E154-4151-BBB0-49A224F4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982D-BCC2-4E26-A300-72E9B156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7020-B442-4DB6-B7F9-93117C42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02E7-5E30-45F9-8BC1-81E48976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54F6-E5C5-4B0D-A828-607471EE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CAB7-AC08-466E-AA2A-B892001F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6DE3-880B-4C2A-A996-3019234F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51F5-7912-4A27-BA14-315CB78F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C859-836E-4C77-B1F2-834EC3D0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E46DE-08BF-4A02-A56D-DC53996C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35B73-7013-49D1-9095-3509A215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AA831-FC10-4846-A987-603E3CB9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D6C47-B922-48B4-A6B1-E5801579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0B8B0-3994-4EA3-B282-BF50A2E8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7CC3-86EF-4035-8475-A1CD06A9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97273-B26E-4584-8182-B9941815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8BC53-1B5C-406D-92DD-72FF81D4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BD041-E6AE-4F5E-A467-731CFEAB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9E927-AA7C-4AA3-BD8C-644C7EF5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2DC00-2121-41C4-83D4-408C3A1C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9A667-A118-49F5-9FD8-A26CA6DE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7D8E8-47DF-4035-A294-459D9834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AD7-2356-4D6E-BFB0-D45D637C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E9EC-1F89-4827-8684-0F76BDED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3694-159B-47A8-8EF6-9BE77423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EF3-A9F3-4ACE-9A58-55CA9ABA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7CB-0252-4890-9338-AACDC246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12A3-7E4B-4E9C-BAEE-92B77A42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4DF4-3E0F-4B6F-B9B4-F86CBDFDDA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C111-88D7-4EDC-9BCA-E69A8908777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661B-287C-4DC5-8FB8-F0E6C628105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10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419640" y="3284640"/>
            <a:ext cx="10810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3284640"/>
            <a:ext cx="10810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284640"/>
            <a:ext cx="1368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73360"/>
            <a:ext cx="154764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3573360"/>
            <a:ext cx="2232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3573360"/>
            <a:ext cx="129564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12000" y="3573360"/>
            <a:ext cx="10810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3933720"/>
            <a:ext cx="8650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35640" y="3933720"/>
            <a:ext cx="122400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360" y="4292640"/>
            <a:ext cx="10810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5229360"/>
            <a:ext cx="1800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516640"/>
            <a:ext cx="190800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5516640"/>
            <a:ext cx="208764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1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292720" y="2924280"/>
            <a:ext cx="1081080" cy="3603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00720" y="2924280"/>
            <a:ext cx="1224000" cy="3603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24360" y="3284640"/>
            <a:ext cx="1081080" cy="3603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56360" y="3573360"/>
            <a:ext cx="1081080" cy="3603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933720"/>
            <a:ext cx="1332000" cy="3603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3933720"/>
            <a:ext cx="647640" cy="3603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221000"/>
            <a:ext cx="684360" cy="3603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79640" y="4869000"/>
            <a:ext cx="1081080" cy="3603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59280" y="4869000"/>
            <a:ext cx="1081080" cy="3603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68360" y="5229360"/>
            <a:ext cx="1151280" cy="3603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5-28T11:44:17Z</dcterms:modified>
  <cp:revision>306</cp:revision>
  <dc:subject/>
  <dc:title>TITLE</dc:title>
</cp:coreProperties>
</file>