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A90-781F-4ABD-B1C1-7B00F45A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7F8-22C7-4675-879A-3D3B8379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59A-42F5-41B8-9EE3-D4379CC1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D9F-ADCD-43D6-9C8D-95A83097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AC60-ED85-4783-A4E4-7003B294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EC41-492C-450E-9893-1F4D3C1A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698A-0122-440B-BDF2-B410DBFE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C05D-06AE-4F1D-BB22-E331AE55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B6A8-26D6-455B-BBCE-9FC2844E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C332-C5FE-46AB-8255-CD1425F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75A1-9119-44D5-93B1-FDFF5C38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7FB-7762-4B5B-8416-18C2C542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5485-8B8E-4F58-B703-6C2C17BE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4194-75DF-40B0-8A1E-60571F1E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1BD2-489A-4449-9B15-F245E5D6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7E4C-3E22-4FCC-8B6A-00FB6816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59A-9559-4986-A371-5B273095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D481-75C1-415E-B8A0-6BFD3EC1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790A-6126-484F-A0FE-C437BED8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84745-03ED-4A47-A36B-BE8ADA61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F1C5-61A9-4994-BB07-12F00732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C7BA6-18E9-4EB2-B803-B4742D3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0DB-2F5F-458B-8AB7-CFE4FE00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8C33-E92A-45FF-B766-930C846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0EA2-0CA1-4B84-A1F9-BAF37C1E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9522-1E51-4C9B-84F7-51346F2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1584-3345-424C-B70B-ABD768C0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82F9-9553-4786-AB23-C9718B5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13A6-73FC-4B39-9787-20FCF8F3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0448-2F72-400F-8B8C-1E61B9FB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75E-E29F-4CB6-B8C4-EF811E5A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167-2439-4E79-BA47-5BBC9387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D91-5B28-46E7-97FC-7E130405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BEE-5CF2-4D7B-BA88-B9503FF1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B19-4D72-4D2E-9379-181B892C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C27-8B69-4E2A-8CF6-06D1168E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6CF7-6777-4051-A613-2FF25B1F81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3C8D-19A3-44D7-AE65-0FF33E45416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6744-48B8-450C-814C-6CAF549B4A6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21851" t="19030" r="23229" b="15545"/>
          <a:stretch/>
        </p:blipFill>
        <p:spPr>
          <a:xfrm>
            <a:off x="971640" y="0"/>
            <a:ext cx="7200720" cy="6862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08000" y="620640"/>
            <a:ext cx="129564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eb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620640"/>
            <a:ext cx="194328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ciu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3716280"/>
            <a:ext cx="237672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cos co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3716280"/>
            <a:ext cx="280836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chas ti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197000"/>
            <a:ext cx="172728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292640"/>
            <a:ext cx="201600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fet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4292640"/>
            <a:ext cx="237672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tau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4869000"/>
            <a:ext cx="273708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1197000"/>
            <a:ext cx="194328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 est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4869000"/>
            <a:ext cx="244800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chas c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5445000"/>
            <a:ext cx="115272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1773360"/>
            <a:ext cx="136872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le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2349360"/>
            <a:ext cx="180036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p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2924280"/>
            <a:ext cx="172728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5445000"/>
            <a:ext cx="151128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773360"/>
            <a:ext cx="259236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pastel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2349360"/>
            <a:ext cx="266400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pescad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6021360"/>
            <a:ext cx="2087640" cy="5205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nad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1773360"/>
            <a:ext cx="122400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924280"/>
            <a:ext cx="2303640" cy="94716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a 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5:17Z</dcterms:modified>
  <cp:revision>315</cp:revision>
  <dc:subject/>
  <dc:title>TITLE</dc:title>
</cp:coreProperties>
</file>