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933-40CF-4133-8884-954C747D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06A-1530-4379-A137-C43E05EC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B2F-679C-454F-86D4-4C0C15FC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92B-906C-4E66-AD42-44E1F500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8E2-226A-4CC1-AFE3-80D3870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0F9-C06B-44AE-943B-9E5B913D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4BA-D88B-4268-A576-8EB7CA2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3CA-2DC5-474D-AA84-E275AE8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06D0-BD4A-48A6-A697-A0B890E9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38D-C877-4E37-BB66-22AE95C5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7D06-567C-46FA-9FE7-BE2C8C1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AA3-583D-4849-91D1-770BA1D3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197-DABE-40B8-B93E-A7811DD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CF74-7613-4ADC-9657-7ED5B22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4AAE-60EF-4B63-82C5-D31E920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1BA0-A713-49C6-85E5-09A1FC98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65C-3BC6-4398-8BC2-660BF61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0D16-9960-4DF6-96FD-D9FBCC15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F2ED-1973-4573-97FE-83AEB0B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E8C5-68C1-489E-BE8E-2EA8A0E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A0B6-EBA7-44FE-9D8E-AF16D4D5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52EE-E8CE-4420-B977-1DA67BD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18A-B96C-4151-9C20-07F96EB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5F15-0812-48ED-B688-CDED231D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4A6D-8A23-4E35-8F38-F2ADCFF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734D-E2D8-4F70-B721-F3BFBD1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7EFE-9E2C-4635-B9DC-BB9B71A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C47B-EA14-4007-B237-6A98EC0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495A-0C75-49E6-88E2-CA4218B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2772-B147-45A7-AE9B-2ED02680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458-C8F8-4F47-85E6-B1558F9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100-DF1D-41E2-AF86-7018901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DE8-95DA-4BBB-B97C-CE52C85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2E4-E552-4CCE-85F3-BC475E2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643-392A-4063-AB23-7EA8FA1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FF1-7804-4D15-9CBC-0D11A97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CD4-2F29-4180-A4F5-6079A556D8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909-0358-4F5E-8C52-558508AD1FE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12B-5E67-4E3C-92E5-26D17774C3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21851" t="19030" r="23229" b="15545"/>
          <a:stretch/>
        </p:blipFill>
        <p:spPr>
          <a:xfrm>
            <a:off x="971640" y="0"/>
            <a:ext cx="7200720" cy="6862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08000" y="620640"/>
            <a:ext cx="129564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e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620640"/>
            <a:ext cx="194328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ciu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716280"/>
            <a:ext cx="237672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cos co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716280"/>
            <a:ext cx="280836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chas ti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197000"/>
            <a:ext cx="1727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292640"/>
            <a:ext cx="201600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fet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4292640"/>
            <a:ext cx="237672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tau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4869000"/>
            <a:ext cx="273708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197000"/>
            <a:ext cx="1943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4869000"/>
            <a:ext cx="2448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chas 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5445000"/>
            <a:ext cx="115272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73360"/>
            <a:ext cx="136872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le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2349360"/>
            <a:ext cx="180036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p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2924280"/>
            <a:ext cx="1727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5445000"/>
            <a:ext cx="1511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773360"/>
            <a:ext cx="259236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pastel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349360"/>
            <a:ext cx="2664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pes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6021360"/>
            <a:ext cx="208764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nad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773360"/>
            <a:ext cx="1224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924280"/>
            <a:ext cx="230364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5:17Z</dcterms:modified>
  <cp:revision>315</cp:revision>
  <dc:subject/>
  <dc:title>TITLE</dc:title>
</cp:coreProperties>
</file>