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C46-573D-444E-AB9F-D75771A5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046-2AE9-4CA3-B4A9-CA5EDD07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638-6C22-4CE4-AC17-9ADF907A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BDF-62E5-405A-AC65-6B8132A0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33F0-31FE-4D0C-9718-33101AAE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9529-6544-430E-8A26-A8AB0902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1BE6-2B32-409F-B5CF-B3E30FC8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E0B3-42E9-411D-BCFA-6E4B16B5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A0B3-5E08-4434-B45E-424D8EC1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58BC-6DDB-43E8-8FA0-F9A68665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2149-5F61-4B9F-BB35-35597DEC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277-04FB-463D-8A95-C697BA91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FE65-3BCA-41C2-A9F1-262285FB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A337-843A-4FE0-930C-E63011E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E8FC-8D8F-469D-BB62-6B1D7C1C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6568-DBA8-418F-A50A-E4656CBE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DDFB-D77D-4863-A91A-BECE65D4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0345-72F3-47D3-9EC4-7BD98902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F092-258C-49CE-8856-9010A782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1922-A7E2-4B40-924B-A3D462C0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0E4C-0C06-4BCA-9C2F-4AD91D8C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BA25-8530-4FAB-AB9A-B17D73A7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8E3-114B-4F1E-B6C6-8126459F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2D53-5708-492F-B454-865EBA44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0448-9A35-432E-BB8D-8661EE7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99C8-ED47-4B7B-96DB-E95A958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F943-348F-4848-936B-09F88187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43C5E-9012-4767-9FCC-ED0DCBB2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5500-908A-43A1-A717-BCA3EB5B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5A9B-FCBA-4AEE-B03F-0DFCFCC2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E27-8CD4-4CDF-86DF-0899E885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33A-849E-492A-8052-C273D759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F71-8407-456F-9458-5203B641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028-14A0-4EAD-9AA8-733C97B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12E-22E1-473C-89FF-9ED2B886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0A1-882D-4190-BCC5-C63C8B68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C51E-1D94-4064-AE67-141BDA18FB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AF45-C82C-4BDC-A617-66E0DE0F0E1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A016-7F7D-4048-A03A-8706A9A06C0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modern p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few clean c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modern p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l parque moder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many old ho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muchas casas viej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industrial cen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l centro industr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n interesting s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a estación interesa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pretty chu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la iglesia bon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 busy cake s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la pastelería anim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new restaur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restaurantes nuev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 quiet muse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 museo tranqui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small stadi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l estadio pequ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many old ho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few clean c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pocos coches limp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industrial cen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n interesting s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pretty chu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 busy cake s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new restaur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 quiet muse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small p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6:24Z</dcterms:modified>
  <cp:revision>315</cp:revision>
  <dc:subject/>
  <dc:title>TITLE</dc:title>
</cp:coreProperties>
</file>