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36C5-9A97-4DF4-A85A-269C00AB5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D740-9645-49DB-A384-0AE839FC1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F18E-BA7D-46E3-BB5A-B024D0E02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6047-6316-4615-A808-882E3E683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4CE23-131D-487F-918E-D460B91D3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5A02F-AEE6-4889-B2DA-3F124C2CA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EE8B5-A13E-464E-AB93-A1999D609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7B322-809F-4FC4-9264-84E6AECC0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C37C1-2E50-45BF-AE3A-0B5CFA546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AB9CC-680D-46CC-AF84-80DE78BB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47044-FF56-4FBC-8FF0-46EABACE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5143-162F-45E5-BD0E-134AA4D60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42486-DEA6-4B2C-A0E2-3952245D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22344-7BD2-4FDB-AB3F-38427C1E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05479-BF72-4277-A301-6C901820E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F3DE2-52EB-4131-AF5B-2D33D037B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AF1FC-AAF6-4260-87B9-A31B8AC35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2BF73-9F06-49D3-BD39-06C17F481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2A72F-1EA4-425D-8D4D-6342A139D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CC039-343B-4A5D-96E0-9A3074682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3B8B2-08EA-47E5-AAED-BDA488773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68514-DBE2-4177-A503-044A19A75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3259-1C41-4012-822D-F6FB8C7CE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C6E45-5EC8-4B62-9B4E-3DE1188A2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3BC06-5517-4C67-B52E-C55AE05C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9FA2A-80E3-4F35-87B2-5B7CD0CB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4BAD7-FF41-4313-8D5E-AE77C52F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32722-B9DF-48E8-A740-CA1DDB7C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0EF61-1229-413A-A202-757B73EAA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B832C-6E66-4329-A04F-978FB3A27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71E6-0B45-458B-B183-8F4C22F13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50CE-7E2B-4764-A627-496B36FAA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0F19-09FD-4AEC-A52E-9FE4D106E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4EB4-C551-4742-99A4-5EF00DD2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FA0C-9FA7-47C3-9960-6344FE0A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2431-2796-48E2-85AB-2D674518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7FFD2-06CD-45FD-9C01-202C49D5C4E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35022-C8F0-4BE5-9738-7B6DAE4F516A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2B994-F065-404A-B82C-D195CFE1E650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8000" y="2421000"/>
            <a:ext cx="892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the modern par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740720" y="115920"/>
            <a:ext cx="1224000" cy="10994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8000" y="2421000"/>
            <a:ext cx="892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few clean ca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740720" y="115920"/>
            <a:ext cx="1224000" cy="10994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8000" y="2421000"/>
            <a:ext cx="892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the modern par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740720" y="115920"/>
            <a:ext cx="1224000" cy="10994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5733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el parque modern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8000" y="2421000"/>
            <a:ext cx="892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many old hous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740720" y="115920"/>
            <a:ext cx="1224000" cy="10994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5733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muchas casas viej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000" y="2421000"/>
            <a:ext cx="892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the industrial cent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740720" y="115920"/>
            <a:ext cx="1224000" cy="10994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35733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el centro industri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8000" y="2421000"/>
            <a:ext cx="892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an interesting st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740720" y="115920"/>
            <a:ext cx="1224000" cy="10994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5733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una estación interesan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8000" y="2421000"/>
            <a:ext cx="892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the pretty chu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740720" y="115920"/>
            <a:ext cx="1224000" cy="10994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35733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la iglesia bonit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8000" y="2421000"/>
            <a:ext cx="892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a busy cake sho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740720" y="115920"/>
            <a:ext cx="1224000" cy="10994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35733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la pastelería animad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08000" y="2421000"/>
            <a:ext cx="892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new restaura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740720" y="115920"/>
            <a:ext cx="1224000" cy="10994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35733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restaurantes nuev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8000" y="2421000"/>
            <a:ext cx="892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a quiet museu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740720" y="115920"/>
            <a:ext cx="1224000" cy="10994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35733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un museo tranquil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8000" y="2421000"/>
            <a:ext cx="892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the small stadiu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740720" y="115920"/>
            <a:ext cx="1224000" cy="10994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35733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el estadio pequeñ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8000" y="2421000"/>
            <a:ext cx="892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many old hous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740720" y="115920"/>
            <a:ext cx="1224000" cy="10994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8000" y="2421000"/>
            <a:ext cx="892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few clean ca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740720" y="115920"/>
            <a:ext cx="1224000" cy="10994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35733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pocos coches limpi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8000" y="2421000"/>
            <a:ext cx="892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the industrial cent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740720" y="115920"/>
            <a:ext cx="1224000" cy="10994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8000" y="2421000"/>
            <a:ext cx="892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an interesting st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740720" y="115920"/>
            <a:ext cx="1224000" cy="10994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8000" y="2421000"/>
            <a:ext cx="892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the pretty chu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740720" y="115920"/>
            <a:ext cx="1224000" cy="10994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8000" y="2421000"/>
            <a:ext cx="892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a busy cake sho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740720" y="115920"/>
            <a:ext cx="1224000" cy="10994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8000" y="2421000"/>
            <a:ext cx="892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new restaura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740720" y="115920"/>
            <a:ext cx="1224000" cy="10994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8000" y="2421000"/>
            <a:ext cx="892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a quiet museu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740720" y="115920"/>
            <a:ext cx="1224000" cy="10994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8000" y="2421000"/>
            <a:ext cx="892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the small par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740720" y="115920"/>
            <a:ext cx="1224000" cy="10994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3-05-28T11:46:24Z</dcterms:modified>
  <cp:revision>315</cp:revision>
  <dc:subject/>
  <dc:title>TITLE</dc:title>
</cp:coreProperties>
</file>