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ED1-41AD-4430-B33C-79D14AC1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65A-B826-4A8A-82CD-9016DF79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511-808D-4CA6-8A64-7A0CA7A8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A94-2CED-4E0F-A5BA-B421D162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15EF-A3C2-4EBF-8BA0-0E8F73ED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9CDB-154D-44B5-8D1A-76807446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BEE1-DBE4-47F6-B2D0-4F0451AB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CDF8-DB22-4CFF-B38E-CA225320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A072-F308-44BD-B472-68EE9AB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9510-C6FB-4BAB-8BBA-C50C5D2F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379A-3158-4F3F-885B-B1B47A50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D5A-42CA-42DD-BEF0-803BCC9A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4901-7C58-4AD4-B663-2C5C107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7779-4D65-444F-B646-43AB439B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3A91-0E29-4C45-9BD9-CCC39B59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A414-76F8-4DEA-B960-7AC07510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BF52-4D21-4592-A435-CFD52CED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5843-DD12-4445-A15F-E1D5A270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FB2E-2402-494F-8AD1-4DAC1D93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25FC-AEEF-44A2-BFF2-DE03ABD0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634D-C9E0-4159-8A5D-2AE0734A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EEFE-5BB5-420B-A582-11AF365D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B9E-9651-402C-A6CE-357AE271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29EB-E0E0-4544-B59C-B7C3FA54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5782-F838-4DEA-B0C9-0FE77D2C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9DB7-B165-4C6B-952F-B11C21F3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41EC5-F7C8-43BD-BDA4-B52DE79B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AFBA-2E0C-4A0D-ABFE-1A74A8E8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BC35-FC6C-4D1D-8521-678A3F17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2C96-C419-4D19-A2C6-776E1D98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06C-3D49-4F93-9681-29EE314F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804-4F35-47D9-A099-4A08CD7E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C97-A756-4B24-8EE1-7D55D156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3AA-1942-4209-BEF2-F5947D9F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E5E-761C-4909-882E-1DF9B80C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24F-0EEF-4357-A7B6-851CF7F3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7D99-69D4-471A-990B-663E2BEE54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067F-CF93-4DF6-A41E-6523ABF5C57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F4EB-CDD2-4AC5-A81B-B28E417A890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04640"/>
            <a:ext cx="9144000" cy="68238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En 1900 </a:t>
            </a:r>
            <a:r>
              <a:rPr b="1" lang="es-ES" sz="3400" spc="-1" strike="noStrike">
                <a:solidFill>
                  <a:srgbClr val="000000"/>
                </a:solidFill>
                <a:latin typeface="Comic Sans MS"/>
              </a:rPr>
              <a:t>Bilbao</a:t>
            </a: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 era bastante feo. Había mucha industria y el río que pasa por el centro, el Nervión, estaba muy contaminado. En el centro había una carnicería y una panadería, pero no había museo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Comic Sans MS"/>
              </a:rPr>
              <a:t>Hoy Bilbao es muy animado. Hay muchas tiendas modernas y supermercados grandes.  El río está limpio y hay un museo nuevo muy interesante. Hay cafeterías, restaurantes y cines. </a:t>
            </a: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Hay poca contaminació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0280"/>
            <a:ext cx="9144000" cy="6483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.Were there museums in Bilbao in 190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as the River Nervión cl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as Bilbao a pretty place in 190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s Bilbao a quiet place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s Bilbao polluted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river like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there places to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there places to go shopp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9000"/>
            <a:ext cx="9144000" cy="6946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omic Sans MS"/>
              </a:rPr>
              <a:t>Barcelona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 es una ciudad grande y muy animada. Está en el noreste de España. Hay muchos monumentos históricos, como el Museo Picasso, el mirador de Colón, la Sagrada Familia y el castillo de Monjuïc. Hay muchas plazas y calles preciosas, como Las Ramblas y la Plaza de Cataluña. Hay también lugares interesantes modernos, como el Estadio Olímpico y el Parque del M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</a:rPr>
              <a:t>En 1900 en Barcelona había pocos coches, pero mucha gente. Había también muchos jardines públicos y un ayuntamiento. Hoy Barcelona es muy moderna. Hay muchos cines y muchas tiendas gran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5-28T11:47:25Z</dcterms:modified>
  <cp:revision>315</cp:revision>
  <dc:subject/>
  <dc:title>TITLE</dc:title>
</cp:coreProperties>
</file>