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4CD-9CBA-4284-8686-54720AFA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0AF-34CB-49A5-9D05-F280A04F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6F7-717F-4925-A139-21412545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988-3971-4EF5-80D8-EE754847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6782-9218-4A87-9E79-63D356D4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04ED-7AB3-4B2A-8EB8-216C2D0C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942-6587-4865-8BD3-5126806B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9598-E564-45E0-9B67-1B092C3D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BEB2-D231-41B8-A92F-8F1582B1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62DE-B3C6-4D37-A7C5-936A3C6C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BA37-AB65-4F7D-BC9B-FFFA2944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E0B-AA53-4B8F-BE07-99DF11A6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778-AEE8-4F9B-AAB8-B2AFA149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2B81-0851-4341-8841-A0A65C3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8480-08D2-4DD9-8AD6-ED95FF67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1D7D-3671-4CF0-BCE3-3120D77C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843E-D972-4A28-B6B0-15DD00B9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B291-27B0-4A33-936A-086FB918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2F3A-16EF-4084-9AC6-29955A04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1369-5C95-42CB-8F53-28936411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6047-021D-447D-B767-57C3191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B6E9-DD90-432C-8539-D3431543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57C-F2B3-40D6-91E9-07C74658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0F8A-F8DB-4394-951D-B3CA7C3D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3F4E-4AEA-4CFC-8E53-1EF1E467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2FD1-A8FC-41B2-A4B5-41EBE84F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68C1-5DE0-4CE1-BB47-3BD6F4B2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032C-B31B-43EE-866B-1B686BF0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8806-6108-4971-87CD-E55E9983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AAB6-B024-45C1-9D29-18704E41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8C4-6B11-4102-8A31-70028957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2AB-1CA5-472E-BF54-935A6356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880-3CC8-4563-927C-2B4A2C93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822-80E1-42F0-9657-425B5B8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43E-97CA-415F-A0C2-EF2F312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05A-2F8D-443E-963D-9DDD408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CED8-EF82-4645-9034-84754C578D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69B3-24C4-4D8E-A66C-C251BD1A28B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8A67-9480-4472-A497-6D60F0734DB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0464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0280"/>
            <a:ext cx="9144000" cy="6483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.Were there museums in Bilbao in 19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as the River Nervión cl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as Bilbao a pretty place in 19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s Bilbao a quiet place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s Bilbao polluted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river like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there places to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there places to go shopp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00"/>
            <a:ext cx="9144000" cy="6946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es una ciudad grande y muy animada. Está en el noreste de España. Hay muchos monumentos históricos, como el Museo Picasso, el mirador de Colón, la Sagrada Familia y el castillo de Monjuïc. Hay muchas plazas y calles preciosas, como Las Ramblas y la Plaza de Cataluña. Hay también lugares interesantes modernos, como el Estadio Olímpico y el Parque del M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En 1900 en Barcelona había pocos coches, pero mucha gente. Había también muchos jardines públicos y un ayuntamiento. Hoy Barcelona es muy moderna. Hay muchos cines y muchas tiendas gran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7:25Z</dcterms:modified>
  <cp:revision>315</cp:revision>
  <dc:subject/>
  <dc:title>TITLE</dc:title>
</cp:coreProperties>
</file>