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E29-5C90-48F6-A88E-DADBE0C0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A9A-3050-4285-8D6F-1B417FD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5F1-ADFC-4768-AE2D-66D9E60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6A5-FF3A-48F0-873B-191CACC0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96B8-8B6E-4B49-BCAA-DA4E1028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9594-43B0-45EE-9701-8833973B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D2E-7603-4A1B-9BD3-FC72FCB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B154-EFF3-4CB4-A84E-0518701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C960-4CD2-4FE9-AB7B-A8E657AF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8A4-5D15-4CD1-B611-A8568420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9054-A4D7-4681-881F-7116F2D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E50-6113-4D29-8B7B-B7E19EA3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A9A-1E56-4956-8CE6-C7B5A31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88C-9E0B-4C8F-AE21-C026554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DB64-FFAE-4597-BA54-829ADD78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476-E6A7-4052-96B7-1A708CEA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CE9-7203-4D72-B092-7BAC29A1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B255-E0EF-43CA-BCD4-8C9C11DC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9487-072D-4119-895A-4DA8715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CEE4-2CF6-4332-BC4F-970AB19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11A7-52E4-41F8-A9DB-86A67C9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A404-9532-4BCC-ABE6-A9D1073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CC0-0964-49E8-977D-7E148916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3311-B4F2-4C80-96F1-EFD9C4B4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C5C5-820D-419B-A3C0-554AF7A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D0DF-A9AA-46DE-8C52-90E7E6C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8964-B1B3-4F63-A64D-B997193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06AC-53C7-4AC1-91BE-CCAE5AE7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0E6E-3EC2-4B69-BA18-DEAD8876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28D7-7F12-4ACC-A72E-30EE4C3A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873-DCAE-4306-84E0-D60EE1C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F8E-1FA2-4C90-90B1-41AED54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5E0-312E-4019-95F3-5E0159F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A8F-991B-4F2E-9600-7A233E4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7CD-F0EB-450E-88E3-F174C4E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B34-D211-4B96-8D7C-D90D11A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C6C8-333E-4C38-BA33-C0F0F175E1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54C-31C6-4FA6-877A-A1DF863495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2A2-18DA-4583-A8E8-DF68F8BBEA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words with a “th” s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25360"/>
            <a:ext cx="154764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1628640"/>
            <a:ext cx="154800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1628640"/>
            <a:ext cx="237636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-181080" y="5229360"/>
            <a:ext cx="154800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5229360"/>
            <a:ext cx="3457440" cy="50328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words with a “b” s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0"/>
            <a:ext cx="1800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0"/>
            <a:ext cx="2232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0"/>
            <a:ext cx="1800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1052640"/>
            <a:ext cx="1944720" cy="54900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1052640"/>
            <a:ext cx="1800000" cy="54900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1557360"/>
            <a:ext cx="1440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2060640"/>
            <a:ext cx="151308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1440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4221000"/>
            <a:ext cx="144000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words with a “rr” s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549360"/>
            <a:ext cx="936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221000"/>
            <a:ext cx="86364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4724280"/>
            <a:ext cx="3024360" cy="54936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8:27Z</dcterms:modified>
  <cp:revision>324</cp:revision>
  <dc:subject/>
  <dc:title>TITLE</dc:title>
</cp:coreProperties>
</file>