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DA69-907B-4087-B5C6-3CC8FFAB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F6C-3487-46E6-8C61-BD1699F2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AAA3-3FE8-4EDF-ADF3-E35EE4EA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224-76EA-4BB2-8446-84CC0AE1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0BFD-972C-4E3B-9DC7-154D2616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8BFF-C884-4E01-8713-1218473E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D11A-D960-4782-8165-06995F85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6914-8E44-4690-947F-1161DB27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D3F6-2410-432E-A67D-177265E4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FC77-145A-4DFA-AEC3-7DD87269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23C3-5AFC-4F12-A603-8524DE31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BF7-4F00-46C1-AAF3-A10AD2CB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E12F-C933-4D7A-9667-284B0272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649E-D23D-44EF-BF85-1BC94149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7308-6B09-4173-A104-E8390252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EDB7-ADC3-413C-92EC-774E1635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9F7D-7819-4214-A47F-0C3F1202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9BC74-FA8F-472A-A825-A4607E21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9F85A-2F62-4F1A-91E1-6AACA99B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C8B4D-7E6B-48B2-990D-B19B7117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2362E-12C9-408B-ABD6-57AE46E9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2BD92-9A06-42B7-8782-20DE8D61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C43-1088-417F-A7E3-FA4BE087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0DC7B-23CE-46A0-9341-08CE39ED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8F60A-9F47-4121-9365-0E71E62B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8CE76-5EF8-488F-87C4-3A72B654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A9E5A-877E-4DF2-A57B-1CA4E9CF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52E8C-E64B-4108-BDEE-B8BE5B57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C1809-A7B6-46C5-B6DC-C0DB0745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925BC-BF54-4ECD-9375-D6C7DB73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7FB-2EF6-4E31-88A6-93E8DF4D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5458-926C-40B5-A550-014676D1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7A58-A852-4BDB-9EEE-6137C0B0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B43-02FC-4EDD-9458-2C17C190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1C0-6F95-43B5-8582-0B31612C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5C06-D369-44E7-94B0-90314656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DC2C-A544-4C5E-B54C-4BB9EE36B8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6CE3-8653-4A83-8E70-7AA43EC0F0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2BC5-BC88-42F3-A712-C1A807AD764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0" y="0"/>
            <a:ext cx="9144000" cy="68238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En 1900 </a:t>
            </a:r>
            <a:r>
              <a:rPr b="1" lang="es-ES" sz="3400" spc="-1" strike="noStrike">
                <a:solidFill>
                  <a:srgbClr val="000000"/>
                </a:solidFill>
                <a:latin typeface="Comic Sans MS"/>
              </a:rPr>
              <a:t>Bilbao</a:t>
            </a: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 era bastante feo. Había mucha industria y el río que pasa por el centro, el Nervión, estaba muy contaminado. En el centro había una carnicería y una panadería, pero no había museos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Hoy Bilbao es muy animado. Hay muchas tiendas modernas y supermercados grandes.  El río está limpio y hay un museo nuevo muy interesante. Hay cafeterías, restaurantes y cines. </a:t>
            </a: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Hay poca contaminación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0" y="0"/>
            <a:ext cx="9144000" cy="68238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En 1900 </a:t>
            </a:r>
            <a:r>
              <a:rPr b="1" lang="es-ES" sz="3400" spc="-1" strike="noStrike">
                <a:solidFill>
                  <a:srgbClr val="000000"/>
                </a:solidFill>
                <a:latin typeface="Comic Sans MS"/>
              </a:rPr>
              <a:t>Bilbao</a:t>
            </a: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 era bastante feo. Había mucha industria y el río que pasa por el centro, el Nervión, estaba muy contaminado. En el centro había una carnicería y una panadería, pero no había museos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Hoy Bilbao es muy animado. Hay muchas tiendas modernas y supermercados grandes.  El río está limpio y hay un museo nuevo muy interesante. Hay cafeterías, restaurantes y cines. </a:t>
            </a: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Hay poca contaminación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ind words with a “th” sou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125360"/>
            <a:ext cx="1547640" cy="50328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1628640"/>
            <a:ext cx="1548000" cy="50328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1628640"/>
            <a:ext cx="2376360" cy="50328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-181080" y="5229360"/>
            <a:ext cx="1548000" cy="50328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5229360"/>
            <a:ext cx="3457440" cy="50328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0" y="0"/>
            <a:ext cx="9144000" cy="68238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En 1900 </a:t>
            </a:r>
            <a:r>
              <a:rPr b="1" lang="es-ES" sz="3400" spc="-1" strike="noStrike">
                <a:solidFill>
                  <a:srgbClr val="000000"/>
                </a:solidFill>
                <a:latin typeface="Comic Sans MS"/>
              </a:rPr>
              <a:t>Bilbao</a:t>
            </a: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 era bastante feo. Había mucha industria y el río que pasa por el centro, el Nervión, estaba muy contaminado. En el centro había una carnicería y una panadería, pero no había museos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Hoy Bilbao es muy animado. Hay muchas tiendas modernas y supermercados grandes.  El río está limpio y hay un museo nuevo muy interesante. Hay cafeterías, restaurantes y cines. </a:t>
            </a: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Hay poca contaminación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ind words with a “b” sou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0"/>
            <a:ext cx="1800360" cy="54936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0"/>
            <a:ext cx="2232000" cy="54936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6516720" y="0"/>
            <a:ext cx="1800360" cy="54936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1052640"/>
            <a:ext cx="1944720" cy="54900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3780000" y="1052640"/>
            <a:ext cx="1800000" cy="54900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1557360"/>
            <a:ext cx="1440000" cy="54936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2060640"/>
            <a:ext cx="1513080" cy="54936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3141720"/>
            <a:ext cx="1440000" cy="54936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6516720" y="4221000"/>
            <a:ext cx="1440000" cy="54936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0" y="0"/>
            <a:ext cx="9144000" cy="68238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En 1900 </a:t>
            </a:r>
            <a:r>
              <a:rPr b="1" lang="es-ES" sz="3400" spc="-1" strike="noStrike">
                <a:solidFill>
                  <a:srgbClr val="000000"/>
                </a:solidFill>
                <a:latin typeface="Comic Sans MS"/>
              </a:rPr>
              <a:t>Bilbao</a:t>
            </a: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 era bastante feo. Había mucha industria y el río que pasa por el centro, el Nervión, estaba muy contaminado. En el centro había una carnicería y una panadería, pero no había museos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Hoy Bilbao es muy animado. Hay muchas tiendas modernas y supermercados grandes.  El río está limpio y hay un museo nuevo muy interesante. Hay cafeterías, restaurantes y cines. </a:t>
            </a: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Hay poca contaminación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ind words with a “rr” sou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4067280" y="549360"/>
            <a:ext cx="936360" cy="54936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4221000"/>
            <a:ext cx="863640" cy="54936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4724280"/>
            <a:ext cx="3024360" cy="54936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5-28T11:48:27Z</dcterms:modified>
  <cp:revision>324</cp:revision>
  <dc:subject/>
  <dc:title>TITLE</dc:title>
</cp:coreProperties>
</file>