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03F-A8F3-41AA-A9D1-43BCB05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779-9B8B-4132-8E0C-DF2DF1F9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03E-0119-46A0-8417-7BCBE546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311-C50E-43FB-A732-D74A084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454D-9BB6-4CED-950F-865BE91B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98F-3FD6-415B-A3F3-B932B7D3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EB0C-8FF1-40FD-8953-22D7369D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EBB-4203-42A5-818F-54B965D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856-E429-41A7-A561-BBC48383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C04-F958-42F7-A2D7-5C32913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5B91-2924-4212-B03A-DC2859F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351-5BAC-478A-BC59-9C4161A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C18-EBBB-4448-9E2D-09E50553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963-6D26-4F22-8DEC-6482CA6F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BF2E-A4F9-4E2E-BBDC-C107679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7FCB-ED1D-4DF4-B484-F10F4398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5DD4-C478-41A8-9958-742A15E7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E895-9B06-4E72-8803-1FBAF74B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1F40-9AB5-4B5E-BD84-AE78283E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77E0-058B-468C-88A6-DEA76782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1EB9-0D5E-4167-83C6-8E17B4E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89D9-E414-4287-ABE1-58EF74D6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92B-CCB1-4048-A089-2816475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29BB-7AFD-47A7-A32D-7D2D9024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53D3-4A6F-42C8-9AA3-C1C2758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991A-2741-4817-9B45-74F1F91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DE32-5485-4097-9288-E63D244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134D-4956-4DF0-A9DF-3B0D827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03A5-60CB-4D91-B282-7DD9E462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2D4A-D641-4359-B997-1D8AAC6C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E5E-0355-4924-AC05-A4756E31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A5C-20EB-4D0A-A17C-E4CE5BA5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B71-8A72-4B58-A022-5ACD760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FFD-FDA9-4501-9510-CCD29F4C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161-192F-4B58-BBDA-438A5EB3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F1A-FA80-442B-B962-C56637D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9F6C-672B-4B7E-93F7-D5BD6C3584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3378-0DE3-4160-8323-2016CEBF7A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A9B6-A810-405D-9560-F0244C329FC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189000"/>
            <a:ext cx="9144000" cy="6946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es una ciudad grande y muy animada. Está en el noreste de España. Hay muchos monumentos históricos, como el Museo Picasso, el mirador de Colón, la Sagrada Familia y el castillo de Monjuïc. Hay muchas plazas y calles preciosas, como Las Ramblas y la Plaza de Cataluña. Hay también lugares interesantes modernos, como el Estadio Olímpico y el Parque del Mar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En 1900 en Barcelona había pocos coches, pero mucha gente. Había también muchos jardines públicos y un ayuntamiento. Hoy Barcelona es muy moderna. Hay muchos cines y muchas tiendas grande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20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203640" cy="202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3203640" cy="20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132000" y="0"/>
            <a:ext cx="3168720" cy="201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132000" y="2060640"/>
            <a:ext cx="3168720" cy="202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5975280" y="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6012000" y="1989000"/>
            <a:ext cx="31320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9:49Z</dcterms:modified>
  <cp:revision>324</cp:revision>
  <dc:subject/>
  <dc:title>TITLE</dc:title>
</cp:coreProperties>
</file>