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E42-F531-44DF-9A81-EB6963DB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6CF4-9F68-4220-995A-3B0E5D2B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B02-8CBC-4F9C-9045-0A7FF463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80FC-225C-497C-985D-8B21607A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5FC9-0440-4AD8-88C5-F0368FFC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FC61-643D-4A11-9719-C2EAC010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B099-A1B7-486E-97FF-D0EB828A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A0EF-674D-498E-ACCE-E50F231D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1638-8221-4087-B1B8-5B1D70B0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39A8-85BA-46C6-9552-CA9A84E2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7661-1C48-4EC0-A786-3FE387EA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5E19-842E-43DC-911D-74267F95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77F7-613C-4632-BDEC-02F3D45D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CB63-11F6-4BAD-8820-B2975D5F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A237-0350-4F69-BC69-F9829306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8D9C-BF86-4DC0-A2A0-7F1B0A4F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3038-919A-4D81-9298-3ED6D7ED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9E564-74A1-414C-ABA8-C44CF309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3ABEA-2FB1-42A2-9E5B-DCE70CD5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DAFC7-28DA-4937-81D7-D6A2DF44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89401-2E12-48C3-996D-65CDC8BF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468E0-5234-4740-8B03-24FE12B5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46D-911D-4A8B-B8B4-CDDE9478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6F0DB-B746-4359-9F52-E658C8BF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B8BFC-0203-4AAB-A376-375B7D8F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47311-8496-4181-8F39-640D5CC3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4C655-CD92-4143-B262-35B63CAB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CD723-1262-4A30-8C1D-A7A0BC56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5DECB-6121-42A6-8CD8-7FC124F9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214F9-5966-4455-A491-47C489E9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658-B0C5-4987-B355-69127C90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734-B0D2-43E3-BD7B-27AC343D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C7F2-1F7C-47E3-9B94-45327E91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B20-E15D-44EB-BB30-2F33BDB6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54B7-4876-42B6-B1D0-D9BBAB87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FE96-E1A4-429B-B06E-C71D0D1B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4B85-95E9-4117-A37C-4315678BDB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5B76-7E67-4F12-9102-F50E32CFF7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F7F2-057A-4545-A62A-C9B12F45CD3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0" y="189000"/>
            <a:ext cx="9144000" cy="6946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omic Sans MS"/>
              </a:rPr>
              <a:t>Barcelona</a:t>
            </a: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 es una ciudad grande y muy animada. Está en el noreste de España. Hay muchos monumentos históricos, como el Museo Picasso, el mirador de Colón, la Sagrada Familia y el castillo de Monjuïc. Hay muchas plazas y calles preciosas, como Las Ramblas y la Plaza de Cataluña. Hay también lugares interesantes modernos, como el Estadio Olímpico y el Parque del Mar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En 1900 en Barcelona había pocos coches, pero mucha gente. Había también muchos jardines públicos y un ayuntamiento. Hoy Barcelona es muy moderna. Hay muchos cines y muchas tiendas grande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3640" cy="2038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2060640"/>
            <a:ext cx="3203640" cy="2025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4076640"/>
            <a:ext cx="3203640" cy="2043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132000" y="0"/>
            <a:ext cx="3168720" cy="2013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3132000" y="2060640"/>
            <a:ext cx="3168720" cy="2023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3132000" y="4076640"/>
            <a:ext cx="3168720" cy="2000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5975280" y="0"/>
            <a:ext cx="3168720" cy="2000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6012000" y="1989000"/>
            <a:ext cx="313200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5-28T11:49:49Z</dcterms:modified>
  <cp:revision>324</cp:revision>
  <dc:subject/>
  <dc:title>TITLE</dc:title>
</cp:coreProperties>
</file>