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CC5-693D-4643-9DD8-EAF9E6B0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2BA-48A8-4E60-9429-BF565EB1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C78-B162-4601-8656-DD641D04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8D8-0D59-4146-9D77-96E67A8B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22B1-C71E-4749-8382-77DEF2DC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BEBB-0B39-4CCB-AC0D-2FA51C27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6D5C-D005-41B4-A54A-DCE7BD73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46BF-71BF-4D63-AE59-33B6F4A7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6509-3869-43D4-83A6-602F1BCC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358E-B01D-4930-8EBF-BF14DA7D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9AD7-F10C-456E-BC24-92CD9D2A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18A-5D0F-41EF-A4EF-A02872C3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0773-1DFB-4DC0-B287-E6C0E931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7EDE-D939-4F53-8367-C187F071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25C9-5237-4F75-8438-F2E63F29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D1A8-9295-4A00-8A27-AD7FD518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8E1D-F46A-446A-8152-24F4D008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85CD4-86AA-41B4-911A-7E219A7F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897A-EB87-4CCF-8B3D-43BE26F6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4D9A-FCEC-48B4-9200-AEBECE75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AA3E-0344-48EA-AC36-BDEBEA62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8302-9860-4E08-825D-8491B1AC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892-F9FA-4AAA-A0F6-5B77CD5E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F781-6286-4D8A-9BA6-4CD435BD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5D50A-8D03-4628-BC99-84CD149F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5D5F7-B2D0-43A5-B497-B6DCCB94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5037-3BAE-47D3-AE73-2E213242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33034-CCC6-495C-A71E-8EE2FAF8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C56DE-990B-4448-B298-AC0A739F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D5FAE-CBC7-4E4B-A338-531072EC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A8D-C27C-458E-B8A5-C5FEA9D5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3BE-2CF5-419C-AD61-0E1CA55E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932-4523-4100-B32E-C6AB159E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B95-48E6-49AF-83BA-63765092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DB8-7A74-46F0-9EE5-E131A535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B9E-6B17-4516-9274-C5802784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2293-128A-4300-8ECE-F63B0ABD42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57A1-1190-46E3-AE24-4EB6E50B75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B529-4FD3-4A2C-AAFC-A44A835EAAC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2627280" cy="7495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r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í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tá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tab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ambié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2556000" y="0"/>
            <a:ext cx="2627280" cy="2775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y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tant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ch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2997360"/>
            <a:ext cx="11527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1052640"/>
            <a:ext cx="1511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w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4941720"/>
            <a:ext cx="280836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here 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1989000"/>
            <a:ext cx="280836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here w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189000"/>
            <a:ext cx="29527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is loc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5950080"/>
            <a:ext cx="33130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was loc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5877000"/>
            <a:ext cx="115236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7451640" y="1052640"/>
            <a:ext cx="136836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ls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933720"/>
            <a:ext cx="115236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b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005360"/>
            <a:ext cx="136836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3068640"/>
            <a:ext cx="151128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qu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2997360"/>
            <a:ext cx="244944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many / a 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4941720"/>
            <a:ext cx="244944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(a) f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684360" y="404640"/>
            <a:ext cx="2519280" cy="316872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900000" y="1196640"/>
            <a:ext cx="4896000" cy="36036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971640" y="1844280"/>
            <a:ext cx="5184720" cy="331308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331640" y="2565360"/>
            <a:ext cx="5040360" cy="7308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258560" y="836640"/>
            <a:ext cx="6049800" cy="230508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763640" y="3789360"/>
            <a:ext cx="1440000" cy="244800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95280" y="4869000"/>
            <a:ext cx="7345440" cy="15127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124000" y="1628640"/>
            <a:ext cx="5832720" cy="38880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332000" y="4149720"/>
            <a:ext cx="2016000" cy="20160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564000" y="476280"/>
            <a:ext cx="1944720" cy="388944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932000" y="1125360"/>
            <a:ext cx="863640" cy="24480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708000" y="1699920"/>
            <a:ext cx="3311640" cy="216036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708000" y="2420640"/>
            <a:ext cx="1368360" cy="287964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5-28T11:51:08Z</dcterms:modified>
  <cp:revision>324</cp:revision>
  <dc:subject/>
  <dc:title>TITLE</dc:title>
</cp:coreProperties>
</file>