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C4E-6E2B-4331-BCDB-9821BD1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E17-D2DF-4BBD-BF5E-FC50242C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C46-FFE1-42BF-9410-D12465BF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261-F1DC-4689-BFD9-928349C9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7722-F4A3-4E4D-AFC8-27F4974D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A673-DA08-467A-BD96-698797A3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5BCC-4952-482F-87F1-351563A2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8869-3DB3-4B01-848C-2491C7FD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883-A840-4AF3-B78D-ABB57411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4631-CEA8-4E55-A648-0F80B8DD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0C2-B73E-42F2-B014-5A6B2316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77C-AE51-42F7-A00E-33718A12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28E-CC58-425D-8632-CED79B3A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0AEF-D23B-4390-9E62-EF33819F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4C58-2ABE-409B-B838-124523B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436F-859F-49D0-9D41-CB725552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1A53-D923-4329-9C3C-4AC673CF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2178-DAD7-4BCA-B47B-297445C7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40F2-0B0F-4015-B687-333FEEE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4E6B-59E5-4375-B5C5-D6B052C3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9D73-2DC9-4044-A5EC-952B7DC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0B4E-F9FF-42F4-9C1B-89B3A1B5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D02-F541-4594-B90F-19194D9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8C01-F9C6-4515-BE2E-529A9598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D1E75-8FD8-4CFA-953D-5BE9FA1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2A59-5DB6-42ED-9FA0-45BA850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B1BD-7F52-4417-9B86-B79A5C1F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48C6-D76A-49A7-9FC3-AC83F3CA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A781-E459-4B88-A2DF-A2C83565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A02C-E0F2-4288-B51E-A50A2F2A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E6A-B1F7-4EC0-A181-342E6E51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08B-D828-4CEF-9E71-01E0C882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ADA-38DC-4DE3-AB41-85625F7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367-FBCD-455B-A587-4B13BA7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0FE-1C24-4FE6-8355-F8117E7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BE4-AAAB-4EEF-BC72-A0E3DD3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3CB8-1252-472F-B13A-3413E32714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32E-7DD5-4367-8608-A168EDC557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FCB-4F50-4CEF-9441-2B4D37CE77E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2627280" cy="7495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r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í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á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ambié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0"/>
            <a:ext cx="2627280" cy="2775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y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stant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ch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997360"/>
            <a:ext cx="11527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052640"/>
            <a:ext cx="1511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w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4941720"/>
            <a:ext cx="280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her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1989000"/>
            <a:ext cx="280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here w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89000"/>
            <a:ext cx="29527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is loc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5950080"/>
            <a:ext cx="33130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was loc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5877000"/>
            <a:ext cx="11523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1052640"/>
            <a:ext cx="136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l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933720"/>
            <a:ext cx="1152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005360"/>
            <a:ext cx="136836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068640"/>
            <a:ext cx="151128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qu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997360"/>
            <a:ext cx="244944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any / a 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4941720"/>
            <a:ext cx="244944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(a) f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84360" y="404640"/>
            <a:ext cx="2519280" cy="316872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900000" y="1196640"/>
            <a:ext cx="4896000" cy="36036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971640" y="1844280"/>
            <a:ext cx="5184720" cy="331308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331640" y="2565360"/>
            <a:ext cx="5040360" cy="7308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258560" y="836640"/>
            <a:ext cx="6049800" cy="230508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763640" y="3789360"/>
            <a:ext cx="1440000" cy="2448000"/>
          </a:xfrm>
          <a:prstGeom prst="line">
            <a:avLst/>
          </a:prstGeom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95280" y="4869000"/>
            <a:ext cx="7345440" cy="15127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124000" y="1628640"/>
            <a:ext cx="5832720" cy="3888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32000" y="4149720"/>
            <a:ext cx="2016000" cy="201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4000" y="476280"/>
            <a:ext cx="1944720" cy="388944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932000" y="1125360"/>
            <a:ext cx="863640" cy="24480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708000" y="1699920"/>
            <a:ext cx="3311640" cy="216036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708000" y="2420640"/>
            <a:ext cx="1368360" cy="287964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51:08Z</dcterms:modified>
  <cp:revision>324</cp:revision>
  <dc:subject/>
  <dc:title>TITLE</dc:title>
</cp:coreProperties>
</file>