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946-E420-4064-A729-CDD4AE51A1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EC1-961F-4E74-9FE2-BAF1FA375E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53A5-8042-4B9D-8E23-F97EECE93D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052-4EDF-4C67-AE24-B9EAE23C21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D5E0-18DE-4239-A1E3-F0D90898A8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288-2087-4F6F-B94D-B4DCFBC385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4395-65A9-4DB7-AA4A-3C6B2A8732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F71-CD17-42BE-9B77-0AF0B6D38D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F21-1A7D-4773-AACF-597C14EE5D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237-22C5-4276-BDD7-525AC170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41-42B5-4CBB-B2B3-9F1D344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58B-487F-4413-B7CC-43C3F184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3A5-E790-4183-A988-26941E11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660-4D59-4529-B360-792D08A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051-9AFE-4B63-8736-382F9153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167-0CF7-447F-AA5F-BDFADFF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2F4-F63C-412B-8FDD-4DB9981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942-8983-4DBD-ADF9-97FA440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02E-43B9-4FE8-A827-BF82A65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6BE-FBB2-4E8A-805B-AB844A2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D13-27D6-4955-A6A7-3566B3C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AC3-5E85-43C6-8A72-5DC5406CAA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2195640" y="274680"/>
            <a:ext cx="4897440" cy="6265800"/>
            <a:chOff x="2195640" y="274680"/>
            <a:chExt cx="4897440" cy="6265800"/>
          </a:xfrm>
        </p:grpSpPr>
        <p:pic>
          <p:nvPicPr>
            <p:cNvPr id="50" name="Picture 2" descr="pencilcase"/>
            <p:cNvPicPr/>
            <p:nvPr/>
          </p:nvPicPr>
          <p:blipFill>
            <a:blip r:embed="rId1"/>
            <a:srcRect l="0" t="15893" r="0" b="22328"/>
            <a:stretch/>
          </p:blipFill>
          <p:spPr>
            <a:xfrm>
              <a:off x="2195640" y="3829320"/>
              <a:ext cx="4897440" cy="27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pencilsharpener"/>
            <p:cNvPicPr/>
            <p:nvPr/>
          </p:nvPicPr>
          <p:blipFill>
            <a:blip r:embed="rId2"/>
            <a:srcRect l="1185" t="11937" r="5277" b="8819"/>
            <a:stretch/>
          </p:blipFill>
          <p:spPr>
            <a:xfrm>
              <a:off x="2597760" y="317880"/>
              <a:ext cx="119484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rubber"/>
            <p:cNvPicPr/>
            <p:nvPr/>
          </p:nvPicPr>
          <p:blipFill>
            <a:blip r:embed="rId3"/>
            <a:srcRect l="0" t="15857" r="0" b="14029"/>
            <a:stretch/>
          </p:blipFill>
          <p:spPr>
            <a:xfrm>
              <a:off x="4416120" y="274680"/>
              <a:ext cx="133992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ruler"/>
            <p:cNvPicPr/>
            <p:nvPr/>
          </p:nvPicPr>
          <p:blipFill>
            <a:blip r:embed="rId4"/>
            <a:srcRect l="0" t="32768" r="0" b="39875"/>
            <a:stretch/>
          </p:blipFill>
          <p:spPr>
            <a:xfrm rot="14448000">
              <a:off x="2334240" y="3037320"/>
              <a:ext cx="3109680" cy="9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pencil"/>
            <p:cNvPicPr/>
            <p:nvPr/>
          </p:nvPicPr>
          <p:blipFill>
            <a:blip r:embed="rId5"/>
            <a:srcRect l="0" t="40085" r="0" b="45248"/>
            <a:stretch/>
          </p:blipFill>
          <p:spPr>
            <a:xfrm rot="5905800">
              <a:off x="3806280" y="3135960"/>
              <a:ext cx="311544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7" descr="pen"/>
            <p:cNvPicPr/>
            <p:nvPr/>
          </p:nvPicPr>
          <p:blipFill>
            <a:blip r:embed="rId6"/>
            <a:srcRect l="0" t="41146" r="0" b="40545"/>
            <a:stretch/>
          </p:blipFill>
          <p:spPr>
            <a:xfrm rot="5400000">
              <a:off x="3080880" y="2778480"/>
              <a:ext cx="357624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"/>
          <p:cNvSpPr/>
          <p:nvPr/>
        </p:nvSpPr>
        <p:spPr>
          <a:xfrm>
            <a:off x="3708360" y="6489720"/>
            <a:ext cx="54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all images © Light Bulb Languages 202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624000">
            <a:off x="4356000" y="2819520"/>
            <a:ext cx="4508640" cy="57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0" t="40277" r="0" b="45257"/>
          <a:stretch/>
        </p:blipFill>
        <p:spPr>
          <a:xfrm rot="866400">
            <a:off x="239760" y="2759040"/>
            <a:ext cx="4338720" cy="6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rcRect l="0" t="17601" r="0" b="22790"/>
          <a:stretch/>
        </p:blipFill>
        <p:spPr>
          <a:xfrm>
            <a:off x="177840" y="3933720"/>
            <a:ext cx="441000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rcRect l="0" t="14422" r="0" b="9405"/>
          <a:stretch/>
        </p:blipFill>
        <p:spPr>
          <a:xfrm>
            <a:off x="3814920" y="465120"/>
            <a:ext cx="155088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5"/>
          <a:srcRect l="0" t="18985" r="0" b="16218"/>
          <a:stretch/>
        </p:blipFill>
        <p:spPr>
          <a:xfrm>
            <a:off x="1042920" y="404640"/>
            <a:ext cx="1882800" cy="122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6"/>
          <a:srcRect l="0" t="33969" r="0" b="43304"/>
          <a:stretch/>
        </p:blipFill>
        <p:spPr>
          <a:xfrm>
            <a:off x="4859280" y="5214960"/>
            <a:ext cx="412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0" t="33969" r="0" b="43304"/>
          <a:stretch/>
        </p:blipFill>
        <p:spPr>
          <a:xfrm rot="21154200">
            <a:off x="729720" y="3098880"/>
            <a:ext cx="7256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rcRect l="0" t="43644" r="0" b="43631"/>
          <a:stretch/>
        </p:blipFill>
        <p:spPr>
          <a:xfrm rot="624000">
            <a:off x="329760" y="2965320"/>
            <a:ext cx="8520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14427" r="0" b="9406"/>
          <a:stretch/>
        </p:blipFill>
        <p:spPr>
          <a:xfrm>
            <a:off x="2771640" y="1844640"/>
            <a:ext cx="4065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01" r="0" b="22790"/>
          <a:stretch/>
        </p:blipFill>
        <p:spPr>
          <a:xfrm>
            <a:off x="1042920" y="1989000"/>
            <a:ext cx="6913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0" t="40277" r="0" b="45257"/>
          <a:stretch/>
        </p:blipFill>
        <p:spPr>
          <a:xfrm rot="866400">
            <a:off x="709560" y="3298320"/>
            <a:ext cx="77612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262626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0" t="18973" r="0" b="16217"/>
          <a:stretch/>
        </p:blipFill>
        <p:spPr>
          <a:xfrm>
            <a:off x="1908000" y="2421000"/>
            <a:ext cx="4776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05:00Z</dcterms:modified>
  <cp:revision>123</cp:revision>
  <dc:subject/>
  <dc:title>TITLE</dc:title>
</cp:coreProperties>
</file>