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65EB-A74C-4BDD-A8F6-32D6EC9F75C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4CEB-53F1-403C-AE0D-45A97C5250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4124-C335-4AA9-94EB-B0FAE95D103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F84B-AC3C-4041-8357-5CC1FFA4F5D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0CBE-9B92-45DD-A1B2-C7B5746707D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364E-7F2B-45E3-9E9E-64C83BC5BCA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0498-17B9-4266-9C73-88387779BA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0721-894C-46CC-AF03-FC55900DB4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CCA8-29DA-4C05-A2EF-73A1B8E7889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CC9-799B-4982-A1E0-63243D8A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899-2084-480B-A127-62504CFC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66D-AFD3-450E-B95F-F858B700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8F9-4808-452C-93E4-9E0C81F0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CA2-5575-44D3-B15A-6D2FDB6C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8666-3439-4F43-9FC4-6CC94815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5A3-3430-492D-8211-9F0336B2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D7F3-22C3-436D-AA0B-40D31D9B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081-F4EC-425B-858C-5B970B46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564C-BC90-4070-A839-DF2CFA4D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BB9-CD34-4EC9-9316-A612CA74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309-474A-4687-9EB2-2A5844DE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4722-8E3A-41B9-8122-88D9E75EE9D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Group 2"/>
          <p:cNvGrpSpPr/>
          <p:nvPr/>
        </p:nvGrpSpPr>
        <p:grpSpPr>
          <a:xfrm>
            <a:off x="2195640" y="274680"/>
            <a:ext cx="4897440" cy="6265800"/>
            <a:chOff x="2195640" y="274680"/>
            <a:chExt cx="4897440" cy="6265800"/>
          </a:xfrm>
        </p:grpSpPr>
        <p:pic>
          <p:nvPicPr>
            <p:cNvPr id="50" name="Picture 2" descr="pencilcase"/>
            <p:cNvPicPr/>
            <p:nvPr/>
          </p:nvPicPr>
          <p:blipFill>
            <a:blip r:embed="rId1"/>
            <a:srcRect l="0" t="15893" r="0" b="22328"/>
            <a:stretch/>
          </p:blipFill>
          <p:spPr>
            <a:xfrm>
              <a:off x="2195640" y="3829320"/>
              <a:ext cx="4897440" cy="27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3" descr="pencilsharpener"/>
            <p:cNvPicPr/>
            <p:nvPr/>
          </p:nvPicPr>
          <p:blipFill>
            <a:blip r:embed="rId2"/>
            <a:srcRect l="1185" t="11937" r="5277" b="8819"/>
            <a:stretch/>
          </p:blipFill>
          <p:spPr>
            <a:xfrm>
              <a:off x="2597760" y="317880"/>
              <a:ext cx="1194840" cy="90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4" descr="rubber"/>
            <p:cNvPicPr/>
            <p:nvPr/>
          </p:nvPicPr>
          <p:blipFill>
            <a:blip r:embed="rId3"/>
            <a:srcRect l="0" t="15857" r="0" b="14029"/>
            <a:stretch/>
          </p:blipFill>
          <p:spPr>
            <a:xfrm>
              <a:off x="4416120" y="274680"/>
              <a:ext cx="133992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5" descr="ruler"/>
            <p:cNvPicPr/>
            <p:nvPr/>
          </p:nvPicPr>
          <p:blipFill>
            <a:blip r:embed="rId4"/>
            <a:srcRect l="0" t="32768" r="0" b="39875"/>
            <a:stretch/>
          </p:blipFill>
          <p:spPr>
            <a:xfrm rot="14448000">
              <a:off x="2334240" y="3037320"/>
              <a:ext cx="3109680" cy="9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6" descr="pencil"/>
            <p:cNvPicPr/>
            <p:nvPr/>
          </p:nvPicPr>
          <p:blipFill>
            <a:blip r:embed="rId5"/>
            <a:srcRect l="0" t="40085" r="0" b="45248"/>
            <a:stretch/>
          </p:blipFill>
          <p:spPr>
            <a:xfrm rot="5905800">
              <a:off x="3806280" y="3135960"/>
              <a:ext cx="3115440" cy="45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7" descr="pen"/>
            <p:cNvPicPr/>
            <p:nvPr/>
          </p:nvPicPr>
          <p:blipFill>
            <a:blip r:embed="rId6"/>
            <a:srcRect l="0" t="41146" r="0" b="40545"/>
            <a:stretch/>
          </p:blipFill>
          <p:spPr>
            <a:xfrm rot="5400000">
              <a:off x="3080880" y="2778480"/>
              <a:ext cx="3576240" cy="73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Box 1"/>
          <p:cNvSpPr/>
          <p:nvPr/>
        </p:nvSpPr>
        <p:spPr>
          <a:xfrm>
            <a:off x="3708360" y="6489720"/>
            <a:ext cx="543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all images © Light Bulb Languages 2021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rcRect l="0" t="43644" r="0" b="43631"/>
          <a:stretch/>
        </p:blipFill>
        <p:spPr>
          <a:xfrm rot="624000">
            <a:off x="4356000" y="2819520"/>
            <a:ext cx="4508640" cy="57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rcRect l="0" t="40277" r="0" b="45257"/>
          <a:stretch/>
        </p:blipFill>
        <p:spPr>
          <a:xfrm rot="866400">
            <a:off x="239760" y="2759040"/>
            <a:ext cx="4338720" cy="627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rcRect l="0" t="17601" r="0" b="22790"/>
          <a:stretch/>
        </p:blipFill>
        <p:spPr>
          <a:xfrm>
            <a:off x="177840" y="3933720"/>
            <a:ext cx="4410000" cy="26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4"/>
          <a:srcRect l="0" t="14422" r="0" b="9405"/>
          <a:stretch/>
        </p:blipFill>
        <p:spPr>
          <a:xfrm>
            <a:off x="3814920" y="465120"/>
            <a:ext cx="1550880" cy="1181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5"/>
          <a:srcRect l="0" t="18985" r="0" b="16218"/>
          <a:stretch/>
        </p:blipFill>
        <p:spPr>
          <a:xfrm>
            <a:off x="1042920" y="404640"/>
            <a:ext cx="1882800" cy="1221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6"/>
          <a:srcRect l="0" t="33969" r="0" b="43304"/>
          <a:stretch/>
        </p:blipFill>
        <p:spPr>
          <a:xfrm>
            <a:off x="4859280" y="5214960"/>
            <a:ext cx="4122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rcRect l="0" t="33969" r="0" b="43304"/>
          <a:stretch/>
        </p:blipFill>
        <p:spPr>
          <a:xfrm rot="21154200">
            <a:off x="729720" y="3098880"/>
            <a:ext cx="72565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rcRect l="0" t="43644" r="0" b="43631"/>
          <a:stretch/>
        </p:blipFill>
        <p:spPr>
          <a:xfrm rot="624000">
            <a:off x="329760" y="2965320"/>
            <a:ext cx="8520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0" t="14427" r="0" b="9406"/>
          <a:stretch/>
        </p:blipFill>
        <p:spPr>
          <a:xfrm>
            <a:off x="2771640" y="1844640"/>
            <a:ext cx="4065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rcRect l="0" t="17601" r="0" b="22790"/>
          <a:stretch/>
        </p:blipFill>
        <p:spPr>
          <a:xfrm>
            <a:off x="1042920" y="1989000"/>
            <a:ext cx="69138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rcRect l="0" t="40277" r="0" b="45257"/>
          <a:stretch/>
        </p:blipFill>
        <p:spPr>
          <a:xfrm rot="866400">
            <a:off x="709560" y="3298320"/>
            <a:ext cx="77612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rcRect l="0" t="18973" r="0" b="16217"/>
          <a:stretch/>
        </p:blipFill>
        <p:spPr>
          <a:xfrm>
            <a:off x="1908000" y="2421000"/>
            <a:ext cx="4776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05:00Z</dcterms:modified>
  <cp:revision>123</cp:revision>
  <dc:subject/>
  <dc:title>TITLE</dc:title>
</cp:coreProperties>
</file>